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2A05-BD9B-4CA3-9D96-0916C1432D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24CAD8F-518C-48C3-A8BE-43E43EB2EF5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D533-223B-4DFD-96C8-FE651BF7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6E87-62FC-4D90-803C-4A347131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CD9B-D9DA-45A6-9F10-BA2AC8FA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C634-E6FB-4978-8588-8BEAD5AB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1FD7-FD23-4736-9A12-5BE6B1A1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8EB4-BAE9-4F65-9E0E-1D362B2A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90B3-ACA9-4358-8AFA-9CB98452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AEE7-9873-425D-AFA6-86B10A40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5284-5584-47B2-8C84-D00AE68F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2F85-3F35-493F-851D-8739DEFF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E548-E99D-427F-BF97-BDDA9BC5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A6EB-276B-415F-8D39-D9182D74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7B4B-6EEB-4864-8CE5-6A01DD03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F94B-8702-4794-9224-973EB7D7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276C-47CB-4188-A3B3-83179ADF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A662-BBB8-4F8C-8138-DA88EDED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85AD-7227-4803-A53C-E400F47D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6DB3-4A6F-4531-A970-849F2C09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4057-DC81-43B6-A0A0-5EF275E5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6378-11BB-4049-97B9-21BE3571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3D2B-3264-4768-BB5A-35C3F76D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A61F-35D1-4F13-81DD-042CE615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02A3-F1CC-4790-ADCE-6FE784B4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ED61-D9D0-44E5-980E-8E7DD8B7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C831-426C-46BB-9B08-FF28E6E299D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07A0-EA05-447F-A2AF-130F3C3D468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1246320"/>
            <a:chOff x="0" y="0"/>
            <a:chExt cx="9144000" cy="1246320"/>
          </a:xfrm>
        </p:grpSpPr>
        <p:pic>
          <p:nvPicPr>
            <p:cNvPr id="6" name="Picture 8" descr="GEF-20-PPT-BG-blank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" descr="GEF-RU-LOGO.gif"/>
            <p:cNvPicPr/>
            <p:nvPr/>
          </p:nvPicPr>
          <p:blipFill>
            <a:blip r:embed="rId3"/>
            <a:stretch/>
          </p:blipFill>
          <p:spPr>
            <a:xfrm>
              <a:off x="625320" y="77040"/>
              <a:ext cx="4080600" cy="370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18F5-9965-4845-8794-608AA1749ED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DCEF-ECF0-4514-B63B-AFAA2C6680D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GEF_20Years_Wave_ru2.png"/>
          <p:cNvPicPr/>
          <p:nvPr/>
        </p:nvPicPr>
        <p:blipFill>
          <a:blip r:embed="rId2"/>
          <a:stretch/>
        </p:blipFill>
        <p:spPr>
          <a:xfrm>
            <a:off x="0" y="527364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thegef.org/gef/pubs/tech-transfer-case-studies-2010" TargetMode="External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caoki@thegef.org" TargetMode="External"/><Relationship Id="rId2" Type="http://schemas.openxmlformats.org/officeDocument/2006/relationships/hyperlink" Target="mailto:bbiagini@thegef.org" TargetMode="External"/><Relationship Id="rId3" Type="http://schemas.openxmlformats.org/officeDocument/2006/relationships/hyperlink" Target="mailto:isow@thegef.org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thegef.org/gef/node/3856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100" spc="-1" strike="noStrike">
                <a:solidFill>
                  <a:srgbClr val="00642d"/>
                </a:solidFill>
                <a:latin typeface="Calibri"/>
              </a:rPr>
              <a:t>ГЭФ и передача технологий</a:t>
            </a: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: </a:t>
            </a:r>
            <a:br>
              <a:rPr sz="4100"/>
            </a:br>
            <a:r>
              <a:rPr b="1" lang="ru-RU" sz="4100" spc="-1" strike="noStrike">
                <a:solidFill>
                  <a:srgbClr val="00642d"/>
                </a:solidFill>
                <a:latin typeface="Calibri"/>
              </a:rPr>
              <a:t>Краткий обзор</a:t>
            </a:r>
            <a:endParaRPr b="0" lang="en-US" sz="41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Subtitle 4"/>
          <p:cNvSpPr/>
          <p:nvPr/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Семинар для членов ГЭФ в расширенном соста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11–13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 октября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 2011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Ташкент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Узбекис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44"/>
          <p:cNvGrpSpPr/>
          <p:nvPr/>
        </p:nvGrpSpPr>
        <p:grpSpPr>
          <a:xfrm>
            <a:off x="1752480" y="1219320"/>
            <a:ext cx="6267600" cy="3809880"/>
            <a:chOff x="1752480" y="1219320"/>
            <a:chExt cx="6267600" cy="3809880"/>
          </a:xfrm>
        </p:grpSpPr>
        <p:pic>
          <p:nvPicPr>
            <p:cNvPr id="151" name="Picture 3" descr="C:\Users\wb368377\AppData\Local\Microsoft\Windows\Temporary Internet Files\Content.IE5\3I5325V1\MC910216337[1].png"/>
            <p:cNvPicPr/>
            <p:nvPr/>
          </p:nvPicPr>
          <p:blipFill>
            <a:blip r:embed="rId2"/>
            <a:stretch/>
          </p:blipFill>
          <p:spPr>
            <a:xfrm>
              <a:off x="1752480" y="1219320"/>
              <a:ext cx="626760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Oval 6"/>
            <p:cNvSpPr/>
            <p:nvPr/>
          </p:nvSpPr>
          <p:spPr>
            <a:xfrm>
              <a:off x="3173400" y="3564000"/>
              <a:ext cx="6660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7"/>
            <p:cNvSpPr/>
            <p:nvPr/>
          </p:nvSpPr>
          <p:spPr>
            <a:xfrm>
              <a:off x="2773080" y="3934080"/>
              <a:ext cx="680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9"/>
            <p:cNvSpPr/>
            <p:nvPr/>
          </p:nvSpPr>
          <p:spPr>
            <a:xfrm>
              <a:off x="2970000" y="2905200"/>
              <a:ext cx="680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0"/>
            <p:cNvSpPr/>
            <p:nvPr/>
          </p:nvSpPr>
          <p:spPr>
            <a:xfrm>
              <a:off x="2496960" y="2684520"/>
              <a:ext cx="6660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1"/>
            <p:cNvSpPr/>
            <p:nvPr/>
          </p:nvSpPr>
          <p:spPr>
            <a:xfrm>
              <a:off x="1752480" y="3857760"/>
              <a:ext cx="680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4"/>
            <p:cNvSpPr/>
            <p:nvPr/>
          </p:nvSpPr>
          <p:spPr>
            <a:xfrm>
              <a:off x="4097160" y="3270240"/>
              <a:ext cx="6660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5"/>
            <p:cNvSpPr/>
            <p:nvPr/>
          </p:nvSpPr>
          <p:spPr>
            <a:xfrm>
              <a:off x="3967200" y="3152880"/>
              <a:ext cx="680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"/>
            <p:cNvSpPr/>
            <p:nvPr/>
          </p:nvSpPr>
          <p:spPr>
            <a:xfrm>
              <a:off x="4932360" y="2830680"/>
              <a:ext cx="66600" cy="74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7"/>
            <p:cNvSpPr/>
            <p:nvPr/>
          </p:nvSpPr>
          <p:spPr>
            <a:xfrm>
              <a:off x="4797360" y="2684520"/>
              <a:ext cx="6660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8"/>
            <p:cNvSpPr/>
            <p:nvPr/>
          </p:nvSpPr>
          <p:spPr>
            <a:xfrm>
              <a:off x="5878440" y="1952640"/>
              <a:ext cx="680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9"/>
            <p:cNvSpPr/>
            <p:nvPr/>
          </p:nvSpPr>
          <p:spPr>
            <a:xfrm>
              <a:off x="6556320" y="2538360"/>
              <a:ext cx="6660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0"/>
            <p:cNvSpPr/>
            <p:nvPr/>
          </p:nvSpPr>
          <p:spPr>
            <a:xfrm>
              <a:off x="5819760" y="3165480"/>
              <a:ext cx="680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1"/>
            <p:cNvSpPr/>
            <p:nvPr/>
          </p:nvSpPr>
          <p:spPr>
            <a:xfrm>
              <a:off x="6081840" y="3270240"/>
              <a:ext cx="6804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2"/>
            <p:cNvSpPr/>
            <p:nvPr/>
          </p:nvSpPr>
          <p:spPr>
            <a:xfrm>
              <a:off x="6015240" y="3343320"/>
              <a:ext cx="66600" cy="745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5-Point Star 26"/>
            <p:cNvSpPr/>
            <p:nvPr/>
          </p:nvSpPr>
          <p:spPr>
            <a:xfrm>
              <a:off x="2901600" y="4003920"/>
              <a:ext cx="68040" cy="72720"/>
            </a:xfrm>
            <a:custGeom>
              <a:avLst/>
              <a:gdLst>
                <a:gd name="textAreaLeft" fmla="*/ 20880 w 68040"/>
                <a:gd name="textAreaRight" fmla="*/ 47160 w 6804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6893" h="75946">
                  <a:moveTo>
                    <a:pt x="0" y="29009"/>
                  </a:moveTo>
                  <a:lnTo>
                    <a:pt x="29371" y="29009"/>
                  </a:lnTo>
                  <a:lnTo>
                    <a:pt x="38447" y="0"/>
                  </a:lnTo>
                  <a:lnTo>
                    <a:pt x="47522" y="29009"/>
                  </a:lnTo>
                  <a:lnTo>
                    <a:pt x="76893" y="29009"/>
                  </a:lnTo>
                  <a:lnTo>
                    <a:pt x="53132" y="46937"/>
                  </a:lnTo>
                  <a:lnTo>
                    <a:pt x="62208" y="75946"/>
                  </a:lnTo>
                  <a:lnTo>
                    <a:pt x="38447" y="58017"/>
                  </a:lnTo>
                  <a:lnTo>
                    <a:pt x="14685" y="75946"/>
                  </a:lnTo>
                  <a:lnTo>
                    <a:pt x="23761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5-Point Star 27"/>
            <p:cNvSpPr/>
            <p:nvPr/>
          </p:nvSpPr>
          <p:spPr>
            <a:xfrm>
              <a:off x="2808000" y="3481560"/>
              <a:ext cx="68040" cy="72720"/>
            </a:xfrm>
            <a:custGeom>
              <a:avLst/>
              <a:gdLst>
                <a:gd name="textAreaLeft" fmla="*/ 20880 w 68040"/>
                <a:gd name="textAreaRight" fmla="*/ 47160 w 6804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6892" h="75946">
                  <a:moveTo>
                    <a:pt x="0" y="29009"/>
                  </a:moveTo>
                  <a:lnTo>
                    <a:pt x="29370" y="29009"/>
                  </a:lnTo>
                  <a:lnTo>
                    <a:pt x="38446" y="0"/>
                  </a:lnTo>
                  <a:lnTo>
                    <a:pt x="47522" y="29009"/>
                  </a:lnTo>
                  <a:lnTo>
                    <a:pt x="76892" y="29009"/>
                  </a:lnTo>
                  <a:lnTo>
                    <a:pt x="53131" y="46937"/>
                  </a:lnTo>
                  <a:lnTo>
                    <a:pt x="62207" y="75946"/>
                  </a:lnTo>
                  <a:lnTo>
                    <a:pt x="38446" y="58017"/>
                  </a:lnTo>
                  <a:lnTo>
                    <a:pt x="14685" y="75946"/>
                  </a:lnTo>
                  <a:lnTo>
                    <a:pt x="23761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5-Point Star 28"/>
            <p:cNvSpPr/>
            <p:nvPr/>
          </p:nvSpPr>
          <p:spPr>
            <a:xfrm>
              <a:off x="2700000" y="2905200"/>
              <a:ext cx="66600" cy="72720"/>
            </a:xfrm>
            <a:custGeom>
              <a:avLst/>
              <a:gdLst>
                <a:gd name="textAreaLeft" fmla="*/ 20520 w 66600"/>
                <a:gd name="textAreaRight" fmla="*/ 46080 w 6660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5104" h="75946">
                  <a:moveTo>
                    <a:pt x="0" y="29009"/>
                  </a:moveTo>
                  <a:lnTo>
                    <a:pt x="28687" y="29009"/>
                  </a:lnTo>
                  <a:lnTo>
                    <a:pt x="37552" y="0"/>
                  </a:lnTo>
                  <a:lnTo>
                    <a:pt x="46417" y="29009"/>
                  </a:lnTo>
                  <a:lnTo>
                    <a:pt x="75104" y="29009"/>
                  </a:lnTo>
                  <a:lnTo>
                    <a:pt x="51895" y="46937"/>
                  </a:lnTo>
                  <a:lnTo>
                    <a:pt x="60760" y="75946"/>
                  </a:lnTo>
                  <a:lnTo>
                    <a:pt x="37552" y="58017"/>
                  </a:lnTo>
                  <a:lnTo>
                    <a:pt x="14344" y="75946"/>
                  </a:lnTo>
                  <a:lnTo>
                    <a:pt x="23209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5-Point Star 29"/>
            <p:cNvSpPr/>
            <p:nvPr/>
          </p:nvSpPr>
          <p:spPr>
            <a:xfrm>
              <a:off x="2766960" y="3051360"/>
              <a:ext cx="68040" cy="72720"/>
            </a:xfrm>
            <a:custGeom>
              <a:avLst/>
              <a:gdLst>
                <a:gd name="textAreaLeft" fmla="*/ 20880 w 68040"/>
                <a:gd name="textAreaRight" fmla="*/ 47160 w 6804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6892" h="75946">
                  <a:moveTo>
                    <a:pt x="0" y="29009"/>
                  </a:moveTo>
                  <a:lnTo>
                    <a:pt x="29370" y="29009"/>
                  </a:lnTo>
                  <a:lnTo>
                    <a:pt x="38446" y="0"/>
                  </a:lnTo>
                  <a:lnTo>
                    <a:pt x="47522" y="29009"/>
                  </a:lnTo>
                  <a:lnTo>
                    <a:pt x="76892" y="29009"/>
                  </a:lnTo>
                  <a:lnTo>
                    <a:pt x="53131" y="46937"/>
                  </a:lnTo>
                  <a:lnTo>
                    <a:pt x="62207" y="75946"/>
                  </a:lnTo>
                  <a:lnTo>
                    <a:pt x="38446" y="58017"/>
                  </a:lnTo>
                  <a:lnTo>
                    <a:pt x="14685" y="75946"/>
                  </a:lnTo>
                  <a:lnTo>
                    <a:pt x="23761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5-Point Star 31"/>
            <p:cNvSpPr/>
            <p:nvPr/>
          </p:nvSpPr>
          <p:spPr>
            <a:xfrm>
              <a:off x="4797360" y="3490920"/>
              <a:ext cx="66600" cy="72720"/>
            </a:xfrm>
            <a:custGeom>
              <a:avLst/>
              <a:gdLst>
                <a:gd name="textAreaLeft" fmla="*/ 20520 w 66600"/>
                <a:gd name="textAreaRight" fmla="*/ 46080 w 6660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5104" h="75946">
                  <a:moveTo>
                    <a:pt x="0" y="29009"/>
                  </a:moveTo>
                  <a:lnTo>
                    <a:pt x="28687" y="29009"/>
                  </a:lnTo>
                  <a:lnTo>
                    <a:pt x="37552" y="0"/>
                  </a:lnTo>
                  <a:lnTo>
                    <a:pt x="46417" y="29009"/>
                  </a:lnTo>
                  <a:lnTo>
                    <a:pt x="75104" y="29009"/>
                  </a:lnTo>
                  <a:lnTo>
                    <a:pt x="51895" y="46937"/>
                  </a:lnTo>
                  <a:lnTo>
                    <a:pt x="60760" y="75946"/>
                  </a:lnTo>
                  <a:lnTo>
                    <a:pt x="37552" y="58017"/>
                  </a:lnTo>
                  <a:lnTo>
                    <a:pt x="14344" y="75946"/>
                  </a:lnTo>
                  <a:lnTo>
                    <a:pt x="23209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5-Point Star 32"/>
            <p:cNvSpPr/>
            <p:nvPr/>
          </p:nvSpPr>
          <p:spPr>
            <a:xfrm>
              <a:off x="4119480" y="2757600"/>
              <a:ext cx="68040" cy="72720"/>
            </a:xfrm>
            <a:custGeom>
              <a:avLst/>
              <a:gdLst>
                <a:gd name="textAreaLeft" fmla="*/ 20880 w 68040"/>
                <a:gd name="textAreaRight" fmla="*/ 47160 w 6804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6892" h="75946">
                  <a:moveTo>
                    <a:pt x="0" y="29009"/>
                  </a:moveTo>
                  <a:lnTo>
                    <a:pt x="29370" y="29009"/>
                  </a:lnTo>
                  <a:lnTo>
                    <a:pt x="38446" y="0"/>
                  </a:lnTo>
                  <a:lnTo>
                    <a:pt x="47522" y="29009"/>
                  </a:lnTo>
                  <a:lnTo>
                    <a:pt x="76892" y="29009"/>
                  </a:lnTo>
                  <a:lnTo>
                    <a:pt x="53131" y="46937"/>
                  </a:lnTo>
                  <a:lnTo>
                    <a:pt x="62207" y="75946"/>
                  </a:lnTo>
                  <a:lnTo>
                    <a:pt x="38446" y="58017"/>
                  </a:lnTo>
                  <a:lnTo>
                    <a:pt x="14685" y="75946"/>
                  </a:lnTo>
                  <a:lnTo>
                    <a:pt x="23761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5-Point Star 33"/>
            <p:cNvSpPr/>
            <p:nvPr/>
          </p:nvSpPr>
          <p:spPr>
            <a:xfrm>
              <a:off x="4119480" y="3124080"/>
              <a:ext cx="68040" cy="72720"/>
            </a:xfrm>
            <a:custGeom>
              <a:avLst/>
              <a:gdLst>
                <a:gd name="textAreaLeft" fmla="*/ 20880 w 68040"/>
                <a:gd name="textAreaRight" fmla="*/ 47160 w 6804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6892" h="75946">
                  <a:moveTo>
                    <a:pt x="0" y="29009"/>
                  </a:moveTo>
                  <a:lnTo>
                    <a:pt x="29370" y="29009"/>
                  </a:lnTo>
                  <a:lnTo>
                    <a:pt x="38446" y="0"/>
                  </a:lnTo>
                  <a:lnTo>
                    <a:pt x="47522" y="29009"/>
                  </a:lnTo>
                  <a:lnTo>
                    <a:pt x="76892" y="29009"/>
                  </a:lnTo>
                  <a:lnTo>
                    <a:pt x="53131" y="46937"/>
                  </a:lnTo>
                  <a:lnTo>
                    <a:pt x="62207" y="75946"/>
                  </a:lnTo>
                  <a:lnTo>
                    <a:pt x="38446" y="58017"/>
                  </a:lnTo>
                  <a:lnTo>
                    <a:pt x="14685" y="75946"/>
                  </a:lnTo>
                  <a:lnTo>
                    <a:pt x="23761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5-Point Star 34"/>
            <p:cNvSpPr/>
            <p:nvPr/>
          </p:nvSpPr>
          <p:spPr>
            <a:xfrm>
              <a:off x="3917880" y="3124080"/>
              <a:ext cx="66600" cy="72720"/>
            </a:xfrm>
            <a:custGeom>
              <a:avLst/>
              <a:gdLst>
                <a:gd name="textAreaLeft" fmla="*/ 20520 w 66600"/>
                <a:gd name="textAreaRight" fmla="*/ 46080 w 6660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5104" h="75946">
                  <a:moveTo>
                    <a:pt x="0" y="29009"/>
                  </a:moveTo>
                  <a:lnTo>
                    <a:pt x="28687" y="29009"/>
                  </a:lnTo>
                  <a:lnTo>
                    <a:pt x="37552" y="0"/>
                  </a:lnTo>
                  <a:lnTo>
                    <a:pt x="46417" y="29009"/>
                  </a:lnTo>
                  <a:lnTo>
                    <a:pt x="75104" y="29009"/>
                  </a:lnTo>
                  <a:lnTo>
                    <a:pt x="51895" y="46937"/>
                  </a:lnTo>
                  <a:lnTo>
                    <a:pt x="60760" y="75946"/>
                  </a:lnTo>
                  <a:lnTo>
                    <a:pt x="37552" y="58017"/>
                  </a:lnTo>
                  <a:lnTo>
                    <a:pt x="14344" y="75946"/>
                  </a:lnTo>
                  <a:lnTo>
                    <a:pt x="23209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5-Point Star 35"/>
            <p:cNvSpPr/>
            <p:nvPr/>
          </p:nvSpPr>
          <p:spPr>
            <a:xfrm>
              <a:off x="4052880" y="3270240"/>
              <a:ext cx="66600" cy="72720"/>
            </a:xfrm>
            <a:custGeom>
              <a:avLst/>
              <a:gdLst>
                <a:gd name="textAreaLeft" fmla="*/ 20520 w 66600"/>
                <a:gd name="textAreaRight" fmla="*/ 46080 w 6660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5104" h="75946">
                  <a:moveTo>
                    <a:pt x="0" y="29009"/>
                  </a:moveTo>
                  <a:lnTo>
                    <a:pt x="28687" y="29009"/>
                  </a:lnTo>
                  <a:lnTo>
                    <a:pt x="37552" y="0"/>
                  </a:lnTo>
                  <a:lnTo>
                    <a:pt x="46417" y="29009"/>
                  </a:lnTo>
                  <a:lnTo>
                    <a:pt x="75104" y="29009"/>
                  </a:lnTo>
                  <a:lnTo>
                    <a:pt x="51895" y="46937"/>
                  </a:lnTo>
                  <a:lnTo>
                    <a:pt x="60760" y="75946"/>
                  </a:lnTo>
                  <a:lnTo>
                    <a:pt x="37552" y="58017"/>
                  </a:lnTo>
                  <a:lnTo>
                    <a:pt x="14344" y="75946"/>
                  </a:lnTo>
                  <a:lnTo>
                    <a:pt x="23209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5-Point Star 36"/>
            <p:cNvSpPr/>
            <p:nvPr/>
          </p:nvSpPr>
          <p:spPr>
            <a:xfrm>
              <a:off x="4998960" y="2611440"/>
              <a:ext cx="68040" cy="72720"/>
            </a:xfrm>
            <a:custGeom>
              <a:avLst/>
              <a:gdLst>
                <a:gd name="textAreaLeft" fmla="*/ 20880 w 68040"/>
                <a:gd name="textAreaRight" fmla="*/ 47160 w 6804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6892" h="75946">
                  <a:moveTo>
                    <a:pt x="0" y="29009"/>
                  </a:moveTo>
                  <a:lnTo>
                    <a:pt x="29370" y="29009"/>
                  </a:lnTo>
                  <a:lnTo>
                    <a:pt x="38446" y="0"/>
                  </a:lnTo>
                  <a:lnTo>
                    <a:pt x="47522" y="29009"/>
                  </a:lnTo>
                  <a:lnTo>
                    <a:pt x="76892" y="29009"/>
                  </a:lnTo>
                  <a:lnTo>
                    <a:pt x="53131" y="46937"/>
                  </a:lnTo>
                  <a:lnTo>
                    <a:pt x="62207" y="75946"/>
                  </a:lnTo>
                  <a:lnTo>
                    <a:pt x="38446" y="58017"/>
                  </a:lnTo>
                  <a:lnTo>
                    <a:pt x="14685" y="75946"/>
                  </a:lnTo>
                  <a:lnTo>
                    <a:pt x="23761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5-Point Star 37"/>
            <p:cNvSpPr/>
            <p:nvPr/>
          </p:nvSpPr>
          <p:spPr>
            <a:xfrm>
              <a:off x="6081840" y="3857760"/>
              <a:ext cx="68040" cy="72720"/>
            </a:xfrm>
            <a:custGeom>
              <a:avLst/>
              <a:gdLst>
                <a:gd name="textAreaLeft" fmla="*/ 20880 w 68040"/>
                <a:gd name="textAreaRight" fmla="*/ 47160 w 6804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6892" h="75946">
                  <a:moveTo>
                    <a:pt x="0" y="29009"/>
                  </a:moveTo>
                  <a:lnTo>
                    <a:pt x="29370" y="29009"/>
                  </a:lnTo>
                  <a:lnTo>
                    <a:pt x="38446" y="0"/>
                  </a:lnTo>
                  <a:lnTo>
                    <a:pt x="47522" y="29009"/>
                  </a:lnTo>
                  <a:lnTo>
                    <a:pt x="76892" y="29009"/>
                  </a:lnTo>
                  <a:lnTo>
                    <a:pt x="53131" y="46937"/>
                  </a:lnTo>
                  <a:lnTo>
                    <a:pt x="62207" y="75946"/>
                  </a:lnTo>
                  <a:lnTo>
                    <a:pt x="38446" y="58017"/>
                  </a:lnTo>
                  <a:lnTo>
                    <a:pt x="14685" y="75946"/>
                  </a:lnTo>
                  <a:lnTo>
                    <a:pt x="23761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5-Point Star 38"/>
            <p:cNvSpPr/>
            <p:nvPr/>
          </p:nvSpPr>
          <p:spPr>
            <a:xfrm>
              <a:off x="5946840" y="3270240"/>
              <a:ext cx="68040" cy="72720"/>
            </a:xfrm>
            <a:custGeom>
              <a:avLst/>
              <a:gdLst>
                <a:gd name="textAreaLeft" fmla="*/ 20880 w 68040"/>
                <a:gd name="textAreaRight" fmla="*/ 47160 w 6804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6893" h="75946">
                  <a:moveTo>
                    <a:pt x="0" y="29009"/>
                  </a:moveTo>
                  <a:lnTo>
                    <a:pt x="29371" y="29009"/>
                  </a:lnTo>
                  <a:lnTo>
                    <a:pt x="38447" y="0"/>
                  </a:lnTo>
                  <a:lnTo>
                    <a:pt x="47522" y="29009"/>
                  </a:lnTo>
                  <a:lnTo>
                    <a:pt x="76893" y="29009"/>
                  </a:lnTo>
                  <a:lnTo>
                    <a:pt x="53132" y="46937"/>
                  </a:lnTo>
                  <a:lnTo>
                    <a:pt x="62208" y="75946"/>
                  </a:lnTo>
                  <a:lnTo>
                    <a:pt x="38447" y="58017"/>
                  </a:lnTo>
                  <a:lnTo>
                    <a:pt x="14685" y="75946"/>
                  </a:lnTo>
                  <a:lnTo>
                    <a:pt x="23761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5-Point Star 39"/>
            <p:cNvSpPr/>
            <p:nvPr/>
          </p:nvSpPr>
          <p:spPr>
            <a:xfrm>
              <a:off x="6149880" y="3197160"/>
              <a:ext cx="66600" cy="72720"/>
            </a:xfrm>
            <a:custGeom>
              <a:avLst/>
              <a:gdLst>
                <a:gd name="textAreaLeft" fmla="*/ 20520 w 66600"/>
                <a:gd name="textAreaRight" fmla="*/ 46080 w 6660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5104" h="75946">
                  <a:moveTo>
                    <a:pt x="0" y="29009"/>
                  </a:moveTo>
                  <a:lnTo>
                    <a:pt x="28687" y="29009"/>
                  </a:lnTo>
                  <a:lnTo>
                    <a:pt x="37552" y="0"/>
                  </a:lnTo>
                  <a:lnTo>
                    <a:pt x="46417" y="29009"/>
                  </a:lnTo>
                  <a:lnTo>
                    <a:pt x="75104" y="29009"/>
                  </a:lnTo>
                  <a:lnTo>
                    <a:pt x="51895" y="46937"/>
                  </a:lnTo>
                  <a:lnTo>
                    <a:pt x="60760" y="75946"/>
                  </a:lnTo>
                  <a:lnTo>
                    <a:pt x="37552" y="58017"/>
                  </a:lnTo>
                  <a:lnTo>
                    <a:pt x="14344" y="75946"/>
                  </a:lnTo>
                  <a:lnTo>
                    <a:pt x="23209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5-Point Star 40"/>
            <p:cNvSpPr/>
            <p:nvPr/>
          </p:nvSpPr>
          <p:spPr>
            <a:xfrm>
              <a:off x="6081840" y="3197160"/>
              <a:ext cx="68040" cy="72720"/>
            </a:xfrm>
            <a:custGeom>
              <a:avLst/>
              <a:gdLst>
                <a:gd name="textAreaLeft" fmla="*/ 20880 w 68040"/>
                <a:gd name="textAreaRight" fmla="*/ 47160 w 6804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6892" h="75946">
                  <a:moveTo>
                    <a:pt x="0" y="29009"/>
                  </a:moveTo>
                  <a:lnTo>
                    <a:pt x="29370" y="29009"/>
                  </a:lnTo>
                  <a:lnTo>
                    <a:pt x="38446" y="0"/>
                  </a:lnTo>
                  <a:lnTo>
                    <a:pt x="47522" y="29009"/>
                  </a:lnTo>
                  <a:lnTo>
                    <a:pt x="76892" y="29009"/>
                  </a:lnTo>
                  <a:lnTo>
                    <a:pt x="53131" y="46937"/>
                  </a:lnTo>
                  <a:lnTo>
                    <a:pt x="62207" y="75946"/>
                  </a:lnTo>
                  <a:lnTo>
                    <a:pt x="38446" y="58017"/>
                  </a:lnTo>
                  <a:lnTo>
                    <a:pt x="14685" y="75946"/>
                  </a:lnTo>
                  <a:lnTo>
                    <a:pt x="23761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5-Point Star 42"/>
            <p:cNvSpPr/>
            <p:nvPr/>
          </p:nvSpPr>
          <p:spPr>
            <a:xfrm>
              <a:off x="6015240" y="2978280"/>
              <a:ext cx="66600" cy="72720"/>
            </a:xfrm>
            <a:custGeom>
              <a:avLst/>
              <a:gdLst>
                <a:gd name="textAreaLeft" fmla="*/ 20520 w 66600"/>
                <a:gd name="textAreaRight" fmla="*/ 46080 w 66600"/>
                <a:gd name="textAreaTop" fmla="*/ 27720 h 72720"/>
                <a:gd name="textAreaBottom" fmla="*/ 55800 h 72720"/>
              </a:gdLst>
              <a:ahLst/>
              <a:rect l="textAreaLeft" t="textAreaTop" r="textAreaRight" b="textAreaBottom"/>
              <a:pathLst>
                <a:path w="75104" h="75946">
                  <a:moveTo>
                    <a:pt x="0" y="29009"/>
                  </a:moveTo>
                  <a:lnTo>
                    <a:pt x="28687" y="29009"/>
                  </a:lnTo>
                  <a:lnTo>
                    <a:pt x="37552" y="0"/>
                  </a:lnTo>
                  <a:lnTo>
                    <a:pt x="46417" y="29009"/>
                  </a:lnTo>
                  <a:lnTo>
                    <a:pt x="75104" y="29009"/>
                  </a:lnTo>
                  <a:lnTo>
                    <a:pt x="51895" y="46937"/>
                  </a:lnTo>
                  <a:lnTo>
                    <a:pt x="60760" y="75946"/>
                  </a:lnTo>
                  <a:lnTo>
                    <a:pt x="37552" y="58017"/>
                  </a:lnTo>
                  <a:lnTo>
                    <a:pt x="14344" y="75946"/>
                  </a:lnTo>
                  <a:lnTo>
                    <a:pt x="23209" y="46937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8000"/>
                </a:solidFill>
                <a:latin typeface="Calibri"/>
              </a:rPr>
              <a:t>2. </a:t>
            </a:r>
            <a:r>
              <a:rPr b="0" lang="ru-RU" sz="2300" spc="-1" strike="noStrike">
                <a:solidFill>
                  <a:srgbClr val="008000"/>
                </a:solidFill>
                <a:latin typeface="Calibri"/>
              </a:rPr>
              <a:t>Направления деятельности ГЭФ: реализация Познаньской программы в странах мир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5-Point Star 46"/>
          <p:cNvSpPr/>
          <p:nvPr/>
        </p:nvSpPr>
        <p:spPr>
          <a:xfrm>
            <a:off x="2209680" y="5105520"/>
            <a:ext cx="76320" cy="75960"/>
          </a:xfrm>
          <a:custGeom>
            <a:avLst/>
            <a:gdLst>
              <a:gd name="textAreaLeft" fmla="*/ 23400 w 76320"/>
              <a:gd name="textAreaRight" fmla="*/ 52920 w 76320"/>
              <a:gd name="textAreaTop" fmla="*/ 28800 h 75960"/>
              <a:gd name="textAreaBottom" fmla="*/ 57960 h 7596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47"/>
          <p:cNvSpPr/>
          <p:nvPr/>
        </p:nvSpPr>
        <p:spPr>
          <a:xfrm>
            <a:off x="2209680" y="4952880"/>
            <a:ext cx="7632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8"/>
          <p:cNvSpPr/>
          <p:nvPr/>
        </p:nvSpPr>
        <p:spPr>
          <a:xfrm>
            <a:off x="2209680" y="480060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илотные прое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ект ОПТ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раны, отобранные в первом раун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15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стран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9"/>
          <p:cNvSpPr/>
          <p:nvPr/>
        </p:nvSpPr>
        <p:spPr>
          <a:xfrm>
            <a:off x="0" y="658800"/>
            <a:ext cx="1752480" cy="85536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урция и Острова Кука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становки для выработки водородной энергии для малых островных государств (ЮНИДО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1"/>
          <p:cNvSpPr/>
          <p:nvPr/>
        </p:nvSpPr>
        <p:spPr>
          <a:xfrm>
            <a:off x="0" y="2457360"/>
            <a:ext cx="1752480" cy="6116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ексик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естные технологии  ветровой энергетик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Б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2"/>
          <p:cNvSpPr/>
          <p:nvPr/>
        </p:nvSpPr>
        <p:spPr>
          <a:xfrm>
            <a:off x="0" y="3124080"/>
            <a:ext cx="1752480" cy="5508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Чил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естные технологии  солнечной энергетик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АБ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3"/>
          <p:cNvSpPr/>
          <p:nvPr/>
        </p:nvSpPr>
        <p:spPr>
          <a:xfrm>
            <a:off x="0" y="4572000"/>
            <a:ext cx="1752480" cy="12139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зил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авливание и хранени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ахарной промышленност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О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4"/>
          <p:cNvSpPr/>
          <p:nvPr/>
        </p:nvSpPr>
        <p:spPr>
          <a:xfrm>
            <a:off x="0" y="3733920"/>
            <a:ext cx="1752480" cy="5508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т-д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вуа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мпостирование твердых отходов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фБ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5"/>
          <p:cNvSpPr/>
          <p:nvPr/>
        </p:nvSpPr>
        <p:spPr>
          <a:xfrm>
            <a:off x="7086600" y="5065560"/>
            <a:ext cx="2057400" cy="70308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енега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изводство теплоизоляционных материалов  из рогоза (ЮНИДО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6"/>
          <p:cNvSpPr/>
          <p:nvPr/>
        </p:nvSpPr>
        <p:spPr>
          <a:xfrm>
            <a:off x="7086600" y="569880"/>
            <a:ext cx="205740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Российская Федерация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оэтапная ликвидация ГХФУ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энергосберегающие установки по кондиционированию воздуха и системы охлаждения  без использования ГФУ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ЮНИДО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7"/>
          <p:cNvSpPr/>
          <p:nvPr/>
        </p:nvSpPr>
        <p:spPr>
          <a:xfrm>
            <a:off x="7086600" y="2324160"/>
            <a:ext cx="2057400" cy="5508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аиланд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редача технологий по линии Юг-Юг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изводство  этанола из маниоки (ЮНИДО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8"/>
          <p:cNvSpPr/>
          <p:nvPr/>
        </p:nvSpPr>
        <p:spPr>
          <a:xfrm>
            <a:off x="7086600" y="3024360"/>
            <a:ext cx="2057400" cy="85536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мбодж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ыработка энергии из отходов сельскохозяйственного  производства (биомассы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ЮНИДО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9"/>
          <p:cNvSpPr/>
          <p:nvPr/>
        </p:nvSpPr>
        <p:spPr>
          <a:xfrm>
            <a:off x="7086600" y="3941640"/>
            <a:ext cx="2057400" cy="3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Шри-Ланк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реработка бамбука (ПРООН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0"/>
          <p:cNvSpPr/>
          <p:nvPr/>
        </p:nvSpPr>
        <p:spPr>
          <a:xfrm>
            <a:off x="7086600" y="4495680"/>
            <a:ext cx="2057400" cy="3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ордания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рригационные технологи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ФРСХ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1"/>
          <p:cNvSpPr/>
          <p:nvPr/>
        </p:nvSpPr>
        <p:spPr>
          <a:xfrm>
            <a:off x="7086600" y="1569960"/>
            <a:ext cx="2057400" cy="70308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итай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емонстрация чистых с точки зрения окружающей среды грузовиков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семирный бан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62"/>
          <p:cNvSpPr/>
          <p:nvPr/>
        </p:nvSpPr>
        <p:spPr>
          <a:xfrm>
            <a:off x="0" y="1905120"/>
            <a:ext cx="1752480" cy="3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Ямайка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алая волновая энергетика (ПРОО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64"/>
          <p:cNvSpPr/>
          <p:nvPr/>
        </p:nvSpPr>
        <p:spPr>
          <a:xfrm>
            <a:off x="1752480" y="1089000"/>
            <a:ext cx="3078360" cy="15955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66"/>
          <p:cNvSpPr/>
          <p:nvPr/>
        </p:nvSpPr>
        <p:spPr>
          <a:xfrm>
            <a:off x="1752480" y="2104920"/>
            <a:ext cx="1285920" cy="83664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69"/>
          <p:cNvSpPr/>
          <p:nvPr/>
        </p:nvSpPr>
        <p:spPr>
          <a:xfrm flipV="1">
            <a:off x="1752480" y="2720880"/>
            <a:ext cx="744480" cy="4464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raight Connector 78"/>
          <p:cNvSpPr/>
          <p:nvPr/>
        </p:nvSpPr>
        <p:spPr>
          <a:xfrm>
            <a:off x="1752480" y="3402000"/>
            <a:ext cx="1030320" cy="59364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81"/>
          <p:cNvSpPr/>
          <p:nvPr/>
        </p:nvSpPr>
        <p:spPr>
          <a:xfrm flipV="1">
            <a:off x="1752480" y="3331800"/>
            <a:ext cx="2401920" cy="6778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84"/>
          <p:cNvSpPr/>
          <p:nvPr/>
        </p:nvSpPr>
        <p:spPr>
          <a:xfrm flipV="1">
            <a:off x="1752480" y="3625560"/>
            <a:ext cx="1478160" cy="15462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87"/>
          <p:cNvSpPr/>
          <p:nvPr/>
        </p:nvSpPr>
        <p:spPr>
          <a:xfrm flipH="1">
            <a:off x="5913000" y="1031760"/>
            <a:ext cx="1173240" cy="9939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90"/>
          <p:cNvSpPr/>
          <p:nvPr/>
        </p:nvSpPr>
        <p:spPr>
          <a:xfrm flipH="1">
            <a:off x="6622920" y="1924200"/>
            <a:ext cx="463680" cy="6508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93"/>
          <p:cNvSpPr/>
          <p:nvPr/>
        </p:nvSpPr>
        <p:spPr>
          <a:xfrm flipH="1">
            <a:off x="6072120" y="2601360"/>
            <a:ext cx="1014480" cy="8046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96"/>
          <p:cNvSpPr/>
          <p:nvPr/>
        </p:nvSpPr>
        <p:spPr>
          <a:xfrm flipH="1" flipV="1">
            <a:off x="6116760" y="3342960"/>
            <a:ext cx="969840" cy="1126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9"/>
          <p:cNvSpPr/>
          <p:nvPr/>
        </p:nvSpPr>
        <p:spPr>
          <a:xfrm flipH="1" flipV="1">
            <a:off x="5829480" y="3227400"/>
            <a:ext cx="1257120" cy="9144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02"/>
          <p:cNvSpPr/>
          <p:nvPr/>
        </p:nvSpPr>
        <p:spPr>
          <a:xfrm flipH="1" flipV="1">
            <a:off x="4941720" y="2841120"/>
            <a:ext cx="2144880" cy="18543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05"/>
          <p:cNvSpPr/>
          <p:nvPr/>
        </p:nvSpPr>
        <p:spPr>
          <a:xfrm flipH="1" flipV="1">
            <a:off x="4025880" y="3214440"/>
            <a:ext cx="3060720" cy="2205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10"/>
          <p:cNvSpPr/>
          <p:nvPr/>
        </p:nvSpPr>
        <p:spPr>
          <a:xfrm>
            <a:off x="1752480" y="1089000"/>
            <a:ext cx="58680" cy="28306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21"/>
          <p:cNvSpPr/>
          <p:nvPr/>
        </p:nvSpPr>
        <p:spPr>
          <a:xfrm>
            <a:off x="5029200" y="2362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Гру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22"/>
          <p:cNvSpPr/>
          <p:nvPr/>
        </p:nvSpPr>
        <p:spPr>
          <a:xfrm>
            <a:off x="1828800" y="28195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Гватем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Коста-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Пе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24"/>
          <p:cNvSpPr/>
          <p:nvPr/>
        </p:nvSpPr>
        <p:spPr>
          <a:xfrm>
            <a:off x="2895480" y="4264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Аргент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25"/>
          <p:cNvSpPr/>
          <p:nvPr/>
        </p:nvSpPr>
        <p:spPr>
          <a:xfrm>
            <a:off x="3505320" y="27385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Марок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Сенег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26"/>
          <p:cNvSpPr/>
          <p:nvPr/>
        </p:nvSpPr>
        <p:spPr>
          <a:xfrm>
            <a:off x="3581280" y="304812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Ма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Кот-д</a:t>
            </a:r>
            <a:r>
              <a:rPr b="0" lang="ja-JP" sz="1200" spc="-1" strike="noStrike">
                <a:solidFill>
                  <a:srgbClr val="404040"/>
                </a:solidFill>
                <a:latin typeface="Calibri"/>
              </a:rPr>
              <a:t>’</a:t>
            </a: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Иву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27"/>
          <p:cNvSpPr/>
          <p:nvPr/>
        </p:nvSpPr>
        <p:spPr>
          <a:xfrm>
            <a:off x="4572000" y="3268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К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8"/>
          <p:cNvSpPr/>
          <p:nvPr/>
        </p:nvSpPr>
        <p:spPr>
          <a:xfrm>
            <a:off x="5638680" y="2743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Бангладе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29"/>
          <p:cNvSpPr/>
          <p:nvPr/>
        </p:nvSpPr>
        <p:spPr>
          <a:xfrm>
            <a:off x="5867280" y="3838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Индоне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30"/>
          <p:cNvSpPr/>
          <p:nvPr/>
        </p:nvSpPr>
        <p:spPr>
          <a:xfrm>
            <a:off x="5211720" y="3097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Шри-Ла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Таила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7"/>
          <p:cNvSpPr/>
          <p:nvPr/>
        </p:nvSpPr>
        <p:spPr>
          <a:xfrm>
            <a:off x="1828800" y="3581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Острова Ку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79"/>
          <p:cNvSpPr/>
          <p:nvPr/>
        </p:nvSpPr>
        <p:spPr>
          <a:xfrm>
            <a:off x="2362320" y="249084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Мекс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Ямай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80"/>
          <p:cNvSpPr/>
          <p:nvPr/>
        </p:nvSpPr>
        <p:spPr>
          <a:xfrm>
            <a:off x="5181480" y="19810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Российская Феде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82"/>
          <p:cNvSpPr/>
          <p:nvPr/>
        </p:nvSpPr>
        <p:spPr>
          <a:xfrm>
            <a:off x="6172200" y="2286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Кит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83"/>
          <p:cNvSpPr/>
          <p:nvPr/>
        </p:nvSpPr>
        <p:spPr>
          <a:xfrm>
            <a:off x="2971800" y="3352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Бразилия</a:t>
            </a: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85"/>
          <p:cNvSpPr/>
          <p:nvPr/>
        </p:nvSpPr>
        <p:spPr>
          <a:xfrm>
            <a:off x="243828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Ч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8"/>
          <p:cNvSpPr/>
          <p:nvPr/>
        </p:nvSpPr>
        <p:spPr>
          <a:xfrm>
            <a:off x="4572000" y="2819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Иор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89"/>
          <p:cNvSpPr/>
          <p:nvPr/>
        </p:nvSpPr>
        <p:spPr>
          <a:xfrm>
            <a:off x="4419720" y="246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Тур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94"/>
          <p:cNvSpPr/>
          <p:nvPr/>
        </p:nvSpPr>
        <p:spPr>
          <a:xfrm>
            <a:off x="6172200" y="3119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Камбод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Calibri"/>
              </a:rPr>
              <a:t>Вьетн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одзаголовок 2"/>
          <p:cNvSpPr/>
          <p:nvPr/>
        </p:nvSpPr>
        <p:spPr>
          <a:xfrm>
            <a:off x="439560" y="6367320"/>
            <a:ext cx="706680" cy="1238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одзаголовок 2"/>
          <p:cNvSpPr/>
          <p:nvPr/>
        </p:nvSpPr>
        <p:spPr>
          <a:xfrm>
            <a:off x="1339920" y="6097680"/>
            <a:ext cx="2900160" cy="162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одзаголовок 2"/>
          <p:cNvSpPr/>
          <p:nvPr/>
        </p:nvSpPr>
        <p:spPr>
          <a:xfrm>
            <a:off x="1257480" y="629604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</a:t>
            </a: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Направления деятельности ГЭФ: </a:t>
            </a: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 Долгосрочная программа передачи технолог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12"/>
              </a:spcBef>
              <a:buClr>
                <a:srgbClr val="0000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Поддержка центров и сетей, занимающихся разработкой технологий в области изменения климата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  <a:ea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а глобальном, региональном и национальном уровня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озможны оказание технической помощи, обучение, обмен информацией, управление знаниями с учетом обсуждения вопросов в рамках РКООНИК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12"/>
              </a:spcBef>
              <a:buClr>
                <a:srgbClr val="0000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Реализация пилотных проектов в области разработки и внедрения технологий в целях содействия инновациям и инвестициям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родемонстрировать в действии инновационные технолог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612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пособствовать внедрению и распространению технологий в целях привлечения инвестиц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12"/>
              </a:spcBef>
              <a:buClr>
                <a:srgbClr val="0000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Создание государственно-частных партнерств в целях передачи технологи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одействовать участию частного сектора для поддержки  использования инновационных финансовых инструментов или бизнес-моделей для внедрения  технологи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12"/>
              </a:spcBef>
              <a:buClr>
                <a:srgbClr val="0000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Содействие  проведению оценок потребностей в технологиях  (ОПТ)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  <a:ea typeface="Arial"/>
              </a:rPr>
              <a:t>: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Помогать странам с низким и средним уровнями дохода проводить ОПТ и/или корректировать их результаты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12"/>
              </a:spcBef>
              <a:buClr>
                <a:srgbClr val="0000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ГЭФ как учреждение-катализатор, способствующее передаче технолог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</a:t>
            </a: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Направления деятельности ГЭФ: основные особенности долгосрочной 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520" y="114300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11080" indent="-34272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Программа согласуется с механизмом финансирования технологий, согласованным в Канкуне на 16-й конференции сторон (КС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16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), и поддерживает этот механ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Программа утверждена Советом ГЭ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5 элементов программы могут финансироваться с помощью следующих механизмов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ТАР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элементы 1, 2 и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Глобальные и региональные резервы (элементы 1 и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 ГЧП (государственно-частного партнерства)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элемент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ополнительные добровольные взносы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элемент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2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6689880" y="1676520"/>
            <a:ext cx="2149200" cy="28191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6019920" y="4800600"/>
            <a:ext cx="312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кация о передаче ЧО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ЭФ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10) 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thegef.org/gef/pubs/tech-transfer-case-studies-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3. </a:t>
            </a: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Как узнать о потребностях страны в области передачи технологи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295280"/>
            <a:ext cx="632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  <a:ea typeface="Arial"/>
              </a:rPr>
              <a:t>Основные вопросы, связанные с проблемой изменения климата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  <a:ea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водилась ли в последнее время в вашей стране оценка потребностей в технологиях (ОПТ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ены ли потребности в технологиях в рамках осуществляющихся в вашей стране Национальной программы распространения информации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Р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Национальной программы адаптации к изменению климата (НПДА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усматривают ли проводимая в вашей стране политика и реализуемая стратегия определение конкретных потребностей в технологиях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яются ли потребности в технологиях в ходе проведения в вашей стране стандартной оценки потребностей в рамках реализации Рамочной программы ООН по оказанию помощи в целях развития (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CA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DAF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д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то вам следует начать  с ознакомления с соответствующим документом для приоритезации действий по подготовке проект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нет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собенно применительно к ОПТ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),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т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чать можно с оценки целесообразности проведения ОПТ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ли с более конкретной оценки потребностей в технологиях в рамках вашей следующей НР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7238880" y="3778200"/>
            <a:ext cx="1657440" cy="21477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7086600" y="914400"/>
            <a:ext cx="1743120" cy="228924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7"/>
          <p:cNvSpPr/>
          <p:nvPr/>
        </p:nvSpPr>
        <p:spPr>
          <a:xfrm>
            <a:off x="6693840" y="3276720"/>
            <a:ext cx="245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09) downloadable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thegef.org/gef/node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4. </a:t>
            </a: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Дальнейшие шаги в процессе адаптации к изменению клима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69520" y="1228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07360" indent="-2073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  <a:ea typeface="Arial"/>
              </a:rPr>
              <a:t>Проведение оценки потребностей в технологиях  (ОПТ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олее крупные стра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 провести единую для всей страны ОПТ с использованием средств, выделенных в рамках СТА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Менее крупные стра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подать заявку на включение в многострановой проект, финансируемый из глобальных и региональных резервов, участники которого отбираются на конкурсной основе (связаться с ГЭФ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  <a:ea typeface="Arial"/>
              </a:rPr>
              <a:t>Реализация проекта по передаче технолог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мягчение последствий изменения климата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редставить предложение по проекту в одной из шести областей деятельности, финансируемых в рамках СТА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даптация к изменению климата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редставить предложение по проекту в СФБИК/ФНР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  <a:ea typeface="Arial"/>
              </a:rPr>
              <a:t>Создание и/или участие в работе центра и сети передачи технологий в области адаптации к изменению клима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 национальном уровне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редставить предложение в рамках СТА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 глобальном и региональном уровня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сообщить ГЭФ о вашей заинтересованности, поскольку  реализация регионального пилотного проекта может  начаться  в 2011 году в соответствии с решениями конференции в Канку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buSzPct val="102812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7360" indent="-20736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37720" y="6858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60000"/>
              </a:lnSpc>
              <a:spcBef>
                <a:spcPts val="40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008000"/>
                </a:solidFill>
                <a:latin typeface="Calibri"/>
              </a:rPr>
              <a:t>Спасибо за внимани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196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За более подробной информацией  следует обращаться по следующим адресам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Передача технологий и смягчение последствий изменения климата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Чизуру Аоки (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hizuru Aoki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Старший специалист по вопросам передачи технологи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Электронная почта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aoki@thegef.or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Адаптация к изменению климата,  СФБИК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ФНРС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Бонизелла Бьяджини (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onizella Biagini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ачальник Отдела стратегии и операций в области адаптации  к изменению климат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Электронная почта: 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bbiagini@thegef.or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Химические вещества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Ибрахима Соу  (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brahima Sow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Координатор по проблематике химических веществ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Электронная почта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isow@thegef.or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еб-сайт ГЭФ, посвященный вопросам передачи технологий ( в стадии разработки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</a:rPr>
              <a:t>http://www.thegef.org/gef/T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Содержание настоящей презент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14040" y="144756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18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  <a:ea typeface="Arial"/>
              </a:rPr>
              <a:t>Что такое передача технологий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18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  <a:ea typeface="Arial"/>
              </a:rPr>
              <a:t>Каким образом ГЭФ содействует передаче технологий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18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  <a:ea typeface="Arial"/>
              </a:rPr>
              <a:t>Как узнать о потребностях страны в области передачи технологий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18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  <a:ea typeface="Arial"/>
              </a:rPr>
              <a:t>Дальнейшие шаг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1312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0" descr=""/>
          <p:cNvPicPr/>
          <p:nvPr/>
        </p:nvPicPr>
        <p:blipFill>
          <a:blip r:embed="rId1"/>
          <a:stretch/>
        </p:blipFill>
        <p:spPr>
          <a:xfrm>
            <a:off x="6705720" y="2286000"/>
            <a:ext cx="22096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</a:t>
            </a: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  Что такое передача технологи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2280" y="837720"/>
            <a:ext cx="5943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  <a:ea typeface="Arial"/>
              </a:rPr>
              <a:t>Технология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: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  <a:ea typeface="Arial"/>
              </a:rPr>
              <a:t>в центре глобальных проблем окружающей сре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дна из причин ухудшения состояния окружающей среды и один из источников выбросов вредных вещест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редство смягчения отрицательных последствий, сокращения объемов выбросов вредных веществ, управления природными ресурсами и наблюдения за состоянием окружающей сре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дна из основ экономического развития, создания стоимости и повышения занят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  <a:ea typeface="Arial"/>
              </a:rPr>
              <a:t>Разработка, демонстрация, внедрение и распространение чистых с точки зрения окружающей среды технологий (ЧОСТ) являются видами деятельности, имеющими решающее значение для эффективного решения  глобальных задач в области охраны окружающей среды ("Повестка дня на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XXI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  <a:ea typeface="Arial"/>
              </a:rPr>
              <a:t> век")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buClr>
                <a:srgbClr val="0000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6248520" y="838080"/>
            <a:ext cx="2361960" cy="1576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2361960" cy="1774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"/>
          <p:cNvSpPr/>
          <p:nvPr/>
        </p:nvSpPr>
        <p:spPr>
          <a:xfrm>
            <a:off x="7702200" y="419112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3"/>
          <a:stretch/>
        </p:blipFill>
        <p:spPr>
          <a:xfrm>
            <a:off x="6248520" y="4433760"/>
            <a:ext cx="23619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</a:t>
            </a: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Что такое передача технологий? (продолж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120" y="914400"/>
            <a:ext cx="8269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32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Различные многосторонние соглашения по окружающей среде (МСОС) включают положения, касающиеся технологий, обеспечения их доступности и передач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ounded Rectangle 6"/>
          <p:cNvSpPr/>
          <p:nvPr/>
        </p:nvSpPr>
        <p:spPr>
          <a:xfrm>
            <a:off x="762120" y="1828800"/>
            <a:ext cx="8229600" cy="838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Рамочная конвенция ООН об изменении климата (РКООНИК)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: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в декабре 2010 года было согласовано использование механизма передачи климатических технологий для поддержки мер по разработке и распространению технологий для смягчения последствий изменения климата и адаптации к н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7"/>
          <p:cNvSpPr/>
          <p:nvPr/>
        </p:nvSpPr>
        <p:spPr>
          <a:xfrm>
            <a:off x="852480" y="4876920"/>
            <a:ext cx="81532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Конвенция о биологическом разнообразии (КБР):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признает, что доступ к технологиям и обмен технологиями между участниками Конвенции имеют решающее значение для достижения целей КБ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8"/>
          <p:cNvSpPr/>
          <p:nvPr/>
        </p:nvSpPr>
        <p:spPr>
          <a:xfrm>
            <a:off x="852480" y="3817800"/>
            <a:ext cx="8153280" cy="941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Монреальский протокол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  <a:ea typeface="ＭＳ Ｐゴシック"/>
              </a:rPr>
              <a:t>: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принято реш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о чистых с точки зрения окружающей среды методах уничтожения  банков озоноразрушающих веществ (ОРВ)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Многостороннему фонду предложено продолжить усилия по реализации экономически эффективных проектов по уничтожению банков ОРВ с использованием надлежащи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9"/>
          <p:cNvSpPr/>
          <p:nvPr/>
        </p:nvSpPr>
        <p:spPr>
          <a:xfrm>
            <a:off x="838080" y="2743200"/>
            <a:ext cx="8153640" cy="99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Стокгольмская конвенция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Calibri"/>
              </a:rPr>
              <a:t>: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усматривает содействие в использовании наилучших имеющихся технологий и наилучшей практики (НИТ/НПООС) охраны окружающей среды в целях сокращения объемов выбросов  стойких органических загрязнителей (СОЗ), являющихся непроизвольным побочным продуктом производства (сжигание мусора, производство алюминия, открытое сжигание отходов и т. 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</a:t>
            </a: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Что такое передача технологий? (продолж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560" y="12193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52960" indent="-27576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960" indent="-27576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Существует множество определений и толкований  понятия передачи технолог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960" indent="-27576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52960" indent="-27576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Применительно к изменению климата ГЭФ использует определение передачи технологий, принятое Межправительственной группой экспертов по проблемам изменения климата (МГЭИК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….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широкий набор  средств,  включая передачу "ноу-хау", опыта и оборудования на цели смягчения последствий изменения климата и адаптации к ним  среди различных заинтересованных сторон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…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  <a:ea typeface="Arial"/>
              </a:rPr>
              <a:t>Речь идет не только о технических средствах, но также о потенциале, "ноу-хау", политике и институтах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2960" indent="-27576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2960" indent="-27576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52960" indent="-27576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52960" indent="-27576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</a:t>
            </a:r>
            <a:r>
              <a:rPr b="0" lang="ru-RU" sz="2800" spc="-1" strike="noStrike">
                <a:solidFill>
                  <a:srgbClr val="008000"/>
                </a:solidFill>
                <a:latin typeface="Calibri"/>
              </a:rPr>
              <a:t>Каким образом ГЭФ способствует передаче технологи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066320"/>
            <a:ext cx="8458200" cy="800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6360" indent="-287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ГЭФ финансирует  деятельность, связанную с демонстрацией, внедрением и распространением чистых с точки зрения окружающей среды технологий (ЧОСТ), а также проведение стимулирующих мероприят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76360" indent="-287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каждой из тематических областей решаются задачи передачи технологий в контексте стратегии ГЭФ-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4960" indent="-2318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рограммы разрабатываются на основе руководящих принципов Конвенции и в соответствии с приоритетными задачами стран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4960" indent="-231840">
              <a:spcAft>
                <a:spcPts val="601"/>
              </a:spcAft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Формулирование общей  стратегии ГЭФ в отношении технологий находится на стадии обсуждения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4960" indent="-231840">
              <a:lnSpc>
                <a:spcPct val="120000"/>
              </a:lnSpc>
              <a:spcBef>
                <a:spcPts val="1199"/>
              </a:spcBef>
              <a:buClr>
                <a:srgbClr val="0000ff"/>
              </a:buClr>
              <a:buFont typeface="Wingdings" charset="2"/>
              <a:buChar char="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Передача технологий является одной из приоритетных задач ГЭФ в рамках тематической области адаптации к изменению клима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6360" indent="-287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онференция сторон (КС) РКООНИК  наделила ГЭФ полномочиями по передаче технолог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76360" indent="-287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ГЭФ является единственным многосторонним учреждением, финансирующим процесс передачи технологий под руководством К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76360" indent="-287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ГЭФ является крупнейшим публичным механизмом финансирования передачи технолог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76360" indent="-287280"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6360" indent="-287280"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4960" indent="-231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6360" indent="-28728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6360" indent="-2872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6360" indent="-2872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6360" indent="-2872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Calibri"/>
              </a:rPr>
              <a:t>2. </a:t>
            </a:r>
            <a:r>
              <a:rPr b="0" lang="ru-RU" sz="2500" spc="-1" strike="noStrike">
                <a:solidFill>
                  <a:srgbClr val="008000"/>
                </a:solidFill>
                <a:latin typeface="Calibri"/>
              </a:rPr>
              <a:t>Направления деятельности ГЭФ: проблемы изменения климата и передачи технолог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240" y="11430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34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Calibri"/>
                <a:ea typeface="Arial"/>
              </a:rPr>
              <a:t>ГЭФ инвестировал примерно 3 млрд. долл. США в деятельность, связанную со смягчением  последствий изменения климата и адаптации к ним, мобилизовав на эти цели более 15 млрд. долл. СШ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4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Calibri"/>
                <a:ea typeface="Arial"/>
              </a:rPr>
              <a:t>Финансирование в рамках ГЭФ-5 (на </a:t>
            </a:r>
            <a:r>
              <a:rPr b="0" lang="en-US" sz="1400" spc="-1" strike="noStrike">
                <a:solidFill>
                  <a:srgbClr val="0070c0"/>
                </a:solidFill>
                <a:latin typeface="Calibri"/>
                <a:ea typeface="Arial"/>
              </a:rPr>
              <a:t>2010</a:t>
            </a:r>
            <a:r>
              <a:rPr b="0" lang="ru-RU" sz="1400" spc="-1" strike="noStrike">
                <a:solidFill>
                  <a:srgbClr val="0070c0"/>
                </a:solidFill>
                <a:latin typeface="Calibri"/>
                <a:ea typeface="Arial"/>
              </a:rPr>
              <a:t>–20</a:t>
            </a:r>
            <a:r>
              <a:rPr b="0" lang="en-US" sz="1400" spc="-1" strike="noStrike">
                <a:solidFill>
                  <a:srgbClr val="0070c0"/>
                </a:solidFill>
                <a:latin typeface="Calibri"/>
                <a:ea typeface="Arial"/>
              </a:rPr>
              <a:t>14</a:t>
            </a:r>
            <a:r>
              <a:rPr b="0" lang="ru-RU" sz="1400" spc="-1" strike="noStrike">
                <a:solidFill>
                  <a:srgbClr val="0070c0"/>
                </a:solidFill>
                <a:latin typeface="Calibri"/>
                <a:ea typeface="Arial"/>
              </a:rPr>
              <a:t> годы) на цели смягчения последствий изменения климата составляет примерно </a:t>
            </a:r>
            <a:r>
              <a:rPr b="0" lang="en-US" sz="1400" spc="-1" strike="noStrike">
                <a:solidFill>
                  <a:srgbClr val="0070c0"/>
                </a:solidFill>
                <a:latin typeface="Calibri"/>
                <a:ea typeface="Arial"/>
              </a:rPr>
              <a:t>1</a:t>
            </a:r>
            <a:r>
              <a:rPr b="0" lang="ru-RU" sz="1400" spc="-1" strike="noStrike">
                <a:solidFill>
                  <a:srgbClr val="0070c0"/>
                </a:solidFill>
                <a:latin typeface="Calibri"/>
                <a:ea typeface="Arial"/>
              </a:rPr>
              <a:t>,</a:t>
            </a:r>
            <a:r>
              <a:rPr b="0" lang="en-US" sz="1400" spc="-1" strike="noStrike">
                <a:solidFill>
                  <a:srgbClr val="0070c0"/>
                </a:solidFill>
                <a:latin typeface="Calibri"/>
                <a:ea typeface="Arial"/>
              </a:rPr>
              <a:t>4 </a:t>
            </a:r>
            <a:r>
              <a:rPr b="0" lang="ru-RU" sz="1400" spc="-1" strike="noStrike">
                <a:solidFill>
                  <a:srgbClr val="0070c0"/>
                </a:solidFill>
                <a:latin typeface="Calibri"/>
                <a:ea typeface="Arial"/>
              </a:rPr>
              <a:t>млрд. долл. СШ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4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Calibri"/>
                <a:ea typeface="Arial"/>
              </a:rPr>
              <a:t>Специальный фонд для борьбы с изменением климата /Фонд для наименее развитых стран (СФБИК/ФНРС): финансирование на цели адаптации к изменению климата и оказания содействия НРС в совокупности составляет примерно 530 млн. долл. СШ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3445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9" descr=""/>
          <p:cNvPicPr/>
          <p:nvPr/>
        </p:nvPicPr>
        <p:blipFill>
          <a:blip r:embed="rId1"/>
          <a:srcRect l="0" t="0" r="0" b="15786"/>
          <a:stretch/>
        </p:blipFill>
        <p:spPr>
          <a:xfrm>
            <a:off x="7143840" y="152388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2"/>
          <a:stretch/>
        </p:blipFill>
        <p:spPr>
          <a:xfrm>
            <a:off x="7148520" y="3962520"/>
            <a:ext cx="1905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alibri"/>
              </a:rPr>
              <a:t>2</a:t>
            </a:r>
            <a:r>
              <a:rPr b="0" lang="ru-RU" sz="1400" spc="-1" strike="noStrike">
                <a:solidFill>
                  <a:srgbClr val="008000"/>
                </a:solidFill>
                <a:latin typeface="Calibri"/>
              </a:rPr>
              <a:t>. Направления деятельности ГЭФ: Стратегия смягчения последствий изменения климата и передача технологий в рамках ГЭФ-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テキスト ボックス 3"/>
          <p:cNvSpPr/>
          <p:nvPr/>
        </p:nvSpPr>
        <p:spPr>
          <a:xfrm>
            <a:off x="228600" y="609480"/>
            <a:ext cx="89917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6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целей Стратегии смягчения последствий изменения климата в рамках ГЭФ-5 охватывают различные аспекты передачи технологий – от НИОКР до распространения технологий + стимулирующие меро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Сектора: повышение энергоэффективности, освоение возобновляемых видов энергии, транспорт, городское хозяйство, ИЗПЛ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4"/>
          <p:cNvGrpSpPr/>
          <p:nvPr/>
        </p:nvGrpSpPr>
        <p:grpSpPr>
          <a:xfrm>
            <a:off x="762120" y="1981080"/>
            <a:ext cx="7696080" cy="4114800"/>
            <a:chOff x="762120" y="1981080"/>
            <a:chExt cx="7696080" cy="4114800"/>
          </a:xfrm>
        </p:grpSpPr>
        <p:sp>
          <p:nvSpPr>
            <p:cNvPr id="121" name="Rectangle 33"/>
            <p:cNvSpPr/>
            <p:nvPr/>
          </p:nvSpPr>
          <p:spPr>
            <a:xfrm>
              <a:off x="5867640" y="1981080"/>
              <a:ext cx="2590560" cy="4114800"/>
            </a:xfrm>
            <a:prstGeom prst="rect">
              <a:avLst/>
            </a:prstGeom>
            <a:solidFill>
              <a:srgbClr val="1737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19"/>
            <p:cNvGrpSpPr/>
            <p:nvPr/>
          </p:nvGrpSpPr>
          <p:grpSpPr>
            <a:xfrm>
              <a:off x="4267080" y="1981080"/>
              <a:ext cx="2514600" cy="4114800"/>
              <a:chOff x="4267080" y="1981080"/>
              <a:chExt cx="2514600" cy="4114800"/>
            </a:xfrm>
          </p:grpSpPr>
          <p:sp>
            <p:nvSpPr>
              <p:cNvPr id="123" name="Chevron 44"/>
              <p:cNvSpPr/>
              <p:nvPr/>
            </p:nvSpPr>
            <p:spPr>
              <a:xfrm>
                <a:off x="5715000" y="1981080"/>
                <a:ext cx="1066680" cy="4114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4114800"/>
                  <a:gd name="textAreaBottom" fmla="*/ 4115160 h 411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f80cd"/>
                  </a:gs>
                  <a:gs pos="100000">
                    <a:srgbClr val="9bc1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4"/>
              <p:cNvSpPr/>
              <p:nvPr/>
            </p:nvSpPr>
            <p:spPr>
              <a:xfrm>
                <a:off x="4267080" y="1981080"/>
                <a:ext cx="1981440" cy="4114800"/>
              </a:xfrm>
              <a:prstGeom prst="rect">
                <a:avLst/>
              </a:prstGeom>
              <a:gradFill rotWithShape="0">
                <a:gsLst>
                  <a:gs pos="0">
                    <a:srgbClr val="3f80cd"/>
                  </a:gs>
                  <a:gs pos="100000">
                    <a:srgbClr val="9bc1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16"/>
            <p:cNvGrpSpPr/>
            <p:nvPr/>
          </p:nvGrpSpPr>
          <p:grpSpPr>
            <a:xfrm>
              <a:off x="2286000" y="1981080"/>
              <a:ext cx="2514600" cy="4114800"/>
              <a:chOff x="2286000" y="1981080"/>
              <a:chExt cx="2514600" cy="4114800"/>
            </a:xfrm>
          </p:grpSpPr>
          <p:sp>
            <p:nvSpPr>
              <p:cNvPr id="126" name="Chevron 42"/>
              <p:cNvSpPr/>
              <p:nvPr/>
            </p:nvSpPr>
            <p:spPr>
              <a:xfrm>
                <a:off x="3733920" y="1981080"/>
                <a:ext cx="1066680" cy="4114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4114800"/>
                  <a:gd name="textAreaBottom" fmla="*/ 4115160 h 411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558e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43"/>
              <p:cNvSpPr/>
              <p:nvPr/>
            </p:nvSpPr>
            <p:spPr>
              <a:xfrm>
                <a:off x="2286000" y="1981080"/>
                <a:ext cx="1981440" cy="4114800"/>
              </a:xfrm>
              <a:prstGeom prst="rect">
                <a:avLst/>
              </a:prstGeom>
              <a:solidFill>
                <a:srgbClr val="558e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2047"/>
            <p:cNvGrpSpPr/>
            <p:nvPr/>
          </p:nvGrpSpPr>
          <p:grpSpPr>
            <a:xfrm>
              <a:off x="1447920" y="1981080"/>
              <a:ext cx="1752480" cy="4114800"/>
              <a:chOff x="1447920" y="1981080"/>
              <a:chExt cx="1752480" cy="4114800"/>
            </a:xfrm>
          </p:grpSpPr>
          <p:sp>
            <p:nvSpPr>
              <p:cNvPr id="129" name="Chevron 40"/>
              <p:cNvSpPr/>
              <p:nvPr/>
            </p:nvSpPr>
            <p:spPr>
              <a:xfrm>
                <a:off x="2133720" y="1981080"/>
                <a:ext cx="1066680" cy="411480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4114800"/>
                  <a:gd name="textAreaBottom" fmla="*/ 4115160 h 411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8eb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41"/>
              <p:cNvSpPr/>
              <p:nvPr/>
            </p:nvSpPr>
            <p:spPr>
              <a:xfrm>
                <a:off x="1447920" y="1981080"/>
                <a:ext cx="1219320" cy="4114800"/>
              </a:xfrm>
              <a:prstGeom prst="rect">
                <a:avLst/>
              </a:prstGeom>
              <a:solidFill>
                <a:srgbClr val="8eb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22"/>
            <p:cNvGrpSpPr/>
            <p:nvPr/>
          </p:nvGrpSpPr>
          <p:grpSpPr>
            <a:xfrm>
              <a:off x="762120" y="1981080"/>
              <a:ext cx="1371600" cy="4114800"/>
              <a:chOff x="762120" y="1981080"/>
              <a:chExt cx="1371600" cy="4114800"/>
            </a:xfrm>
          </p:grpSpPr>
          <p:sp>
            <p:nvSpPr>
              <p:cNvPr id="132" name="Chevron 38"/>
              <p:cNvSpPr/>
              <p:nvPr/>
            </p:nvSpPr>
            <p:spPr>
              <a:xfrm>
                <a:off x="1066680" y="1981080"/>
                <a:ext cx="1067040" cy="4114800"/>
              </a:xfrm>
              <a:custGeom>
                <a:avLst/>
                <a:gdLst>
                  <a:gd name="textAreaLeft" fmla="*/ 0 w 1067040"/>
                  <a:gd name="textAreaRight" fmla="*/ 1067400 w 1067040"/>
                  <a:gd name="textAreaTop" fmla="*/ 0 h 4114800"/>
                  <a:gd name="textAreaBottom" fmla="*/ 4115160 h 411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c6d9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39"/>
              <p:cNvSpPr/>
              <p:nvPr/>
            </p:nvSpPr>
            <p:spPr>
              <a:xfrm>
                <a:off x="762120" y="1981080"/>
                <a:ext cx="838080" cy="4114800"/>
              </a:xfrm>
              <a:prstGeom prst="rect">
                <a:avLst/>
              </a:prstGeom>
              <a:solidFill>
                <a:srgbClr val="c6d9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Box 46"/>
          <p:cNvSpPr/>
          <p:nvPr/>
        </p:nvSpPr>
        <p:spPr>
          <a:xfrm>
            <a:off x="4952880" y="1990800"/>
            <a:ext cx="3429000" cy="9309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ЦЕЛЬ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Содействие преобразованию рынка в целях повышения эффективности использования энергии в промышленности и в зданиях и сооружения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7"/>
          <p:cNvSpPr/>
          <p:nvPr/>
        </p:nvSpPr>
        <p:spPr>
          <a:xfrm>
            <a:off x="4952880" y="2981160"/>
            <a:ext cx="3429000" cy="5961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ЦЕЛЬ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Стимулирование притока инвестиций в развитие технологий возобновляемой энерг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8"/>
          <p:cNvSpPr/>
          <p:nvPr/>
        </p:nvSpPr>
        <p:spPr>
          <a:xfrm>
            <a:off x="4952880" y="3619440"/>
            <a:ext cx="3429000" cy="7635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ЦЕЛЬ 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Содействие развитию эффективных низкоуглродных систем транспорта и городского хозяй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9"/>
          <p:cNvSpPr/>
          <p:nvPr/>
        </p:nvSpPr>
        <p:spPr>
          <a:xfrm>
            <a:off x="4952880" y="4419720"/>
            <a:ext cx="3429000" cy="11599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</a:rPr>
              <a:t>ЦЕЛЬ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одействие сохранению и расширению накопления углерода за счет изменения землепользования и лесного хозйства (ИЗЛХ) + увязка с межсекторальным устойчивым лесопользованием/сокращением объемов выбросов в результате обезлесения и деградации лесов (СВОД+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0"/>
          <p:cNvSpPr/>
          <p:nvPr/>
        </p:nvSpPr>
        <p:spPr>
          <a:xfrm>
            <a:off x="762120" y="6019920"/>
            <a:ext cx="7696080" cy="2764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ЦЕЛЬ 6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держка стимулирующих меро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4"/>
          <p:cNvSpPr/>
          <p:nvPr/>
        </p:nvSpPr>
        <p:spPr>
          <a:xfrm>
            <a:off x="6553080" y="563868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РАСПРОСТРАН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5"/>
          <p:cNvSpPr/>
          <p:nvPr/>
        </p:nvSpPr>
        <p:spPr>
          <a:xfrm>
            <a:off x="4724280" y="563868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ВНЕД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6"/>
          <p:cNvSpPr/>
          <p:nvPr/>
        </p:nvSpPr>
        <p:spPr>
          <a:xfrm>
            <a:off x="2743200" y="5638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ДЕМОНСТР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7"/>
          <p:cNvSpPr/>
          <p:nvPr/>
        </p:nvSpPr>
        <p:spPr>
          <a:xfrm>
            <a:off x="1752480" y="5334120"/>
            <a:ext cx="838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ПРИКЛАД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НИОК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5"/>
          <p:cNvSpPr/>
          <p:nvPr/>
        </p:nvSpPr>
        <p:spPr>
          <a:xfrm>
            <a:off x="714240" y="533412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ФУНДАМЕНТ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НИОК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6"/>
          <p:cNvSpPr/>
          <p:nvPr/>
        </p:nvSpPr>
        <p:spPr>
          <a:xfrm>
            <a:off x="2590920" y="3657600"/>
            <a:ext cx="2286000" cy="10065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ЦЕЛЬ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действие демонстрации, внедр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передаче инновацио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изкоуглеродных 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8000"/>
                </a:solidFill>
                <a:latin typeface="Calibri"/>
              </a:rPr>
              <a:t>2. </a:t>
            </a:r>
            <a:r>
              <a:rPr b="0" lang="ru-RU" sz="2300" spc="-1" strike="noStrike">
                <a:solidFill>
                  <a:srgbClr val="008000"/>
                </a:solidFill>
                <a:latin typeface="Calibri"/>
              </a:rPr>
              <a:t>Направления деятельности ГЭФ: </a:t>
            </a:r>
            <a:br>
              <a:rPr sz="2300"/>
            </a:br>
            <a:r>
              <a:rPr b="0" lang="ru-RU" sz="2300" spc="-1" strike="noStrike">
                <a:solidFill>
                  <a:srgbClr val="008000"/>
                </a:solidFill>
                <a:latin typeface="Calibri"/>
              </a:rPr>
              <a:t>Познаньская стратегическая программа по передаче технологи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28240" y="11430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Объем финансир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35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млн. долл. США из средств Траст-фонда ГЭФ в рамках ГЭФ-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15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млн.  долл. США из средств  Специального фонда по борьбе с изменением климата (СФБИК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Финансирование пилотных проектов в области передачи технолог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2009 году для финансирования было отобрано 14 проект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настоящее время  эти проекты находятся в стадии реализ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Финансирование оценок потребностей в технологии (ОПТ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роект был утвержден в 2009 год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2010 году был завершен первый раунд отбора стран: отобрано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15 стран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Завершается второй раунд отбора стр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 настоящее время осуществляются оценки в страна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Долгосрочная программа передачи технолог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лан, состоящий из 5 элементов, представлен КС РКООНИК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м. слайды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11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1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6272280" y="1600200"/>
            <a:ext cx="2643120" cy="3479760"/>
          </a:xfrm>
          <a:prstGeom prst="rect">
            <a:avLst/>
          </a:prstGeom>
          <a:ln w="0">
            <a:noFill/>
          </a:ln>
        </p:spPr>
      </p:pic>
      <p:sp>
        <p:nvSpPr>
          <p:cNvPr id="148" name="TextBox 6"/>
          <p:cNvSpPr/>
          <p:nvPr/>
        </p:nvSpPr>
        <p:spPr>
          <a:xfrm>
            <a:off x="6248520" y="51814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кация о Познаньской программ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10)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thegef.org/gef/node/38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blication on Poznan Programhttp://www.thegef.org/gef/node/38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wb350798</cp:lastModifiedBy>
  <cp:lastPrinted>2011-10-06T11:26:37Z</cp:lastPrinted>
  <dcterms:modified xsi:type="dcterms:W3CDTF">2011-11-01T21:01:21Z</dcterms:modified>
  <cp:revision>903</cp:revision>
  <dc:subject/>
  <dc:title>Slide 1</dc:title>
</cp:coreProperties>
</file>