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8F14-E97B-4958-88DB-B4DB3F1CF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5452B6-D6A5-4979-AAAE-242C27B0BC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A18-3319-4BDA-95D6-8CD683FA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486-B856-465A-AC10-840D59DA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D4A-42E3-4491-BAD4-69285143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934-8871-4F7D-84AF-B69A8B99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58FD-21CF-4802-BBCF-401ED1BB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287-EAA2-4ACC-8CAA-376F6C0A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262B-6B6F-4590-84E4-C90820F2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F3A-BD92-4E5F-B1CF-832DD4EA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35F5-7AD1-4EB9-996F-A155E95A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59D8-FB14-440B-8734-34B07BF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5FF-F2AC-455F-A201-C0286745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48E-4E6F-44DC-8FFC-02B4CF98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E44D-99F2-4DB5-8621-0C0E834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0A68-FF09-42CF-8C3B-CD7D3C3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016-64B3-4E73-B5B1-82B2919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D372-A0FF-4A92-B512-A70F9746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E2A-5E01-4F3C-B840-B6E75FD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A57-2089-4DC0-8674-ACB73364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6DD-399D-40DB-8E89-19FE25C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84E-320D-496C-8F56-FFA4B21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C6D-3F47-4FCF-91D2-53195BC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AF0-D217-4131-8F5F-61FA24D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D15-DFF2-40BD-B8D6-B464436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D26-769B-406B-A777-563FBBE4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2B3-3673-4DED-81DB-948D66A0896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82F6-B64F-4733-B995-900E70DBB1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6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GEF-RU-LOGO.gif"/>
            <p:cNvPicPr/>
            <p:nvPr/>
          </p:nvPicPr>
          <p:blipFill>
            <a:blip r:embed="rId3"/>
            <a:stretch/>
          </p:blipFill>
          <p:spPr>
            <a:xfrm>
              <a:off x="625320" y="77040"/>
              <a:ext cx="4080600" cy="370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DEF-0FEB-471B-BBC5-894AAF8C684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A75-6C78-4D0E-ADF8-EC88ACB4AD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thegef.org/gef/pubs/tech-transfer-case-studies-2010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thegef.org/gef/node/3856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00642d"/>
                </a:solidFill>
                <a:latin typeface="Calibri"/>
              </a:rPr>
              <a:t>ГЭФ и передача технологий</a:t>
            </a: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: </a:t>
            </a:r>
            <a:br>
              <a:rPr sz="4100"/>
            </a:br>
            <a:r>
              <a:rPr b="1" lang="ru-RU" sz="4100" spc="-1" strike="noStrike">
                <a:solidFill>
                  <a:srgbClr val="00642d"/>
                </a:solidFill>
                <a:latin typeface="Calibri"/>
              </a:rPr>
              <a:t>Краткий обзор</a:t>
            </a:r>
            <a:endParaRPr b="0" lang="en-US" sz="4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151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6"/>
            <p:cNvSpPr/>
            <p:nvPr/>
          </p:nvSpPr>
          <p:spPr>
            <a:xfrm>
              <a:off x="3173400" y="356400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>
              <a:off x="2773080" y="39340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2970000" y="290520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2496960" y="268452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1752480" y="385776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4097160" y="327024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3967200" y="31528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4932360" y="2830680"/>
              <a:ext cx="66600" cy="74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4797360" y="268452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5878440" y="195264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9"/>
            <p:cNvSpPr/>
            <p:nvPr/>
          </p:nvSpPr>
          <p:spPr>
            <a:xfrm>
              <a:off x="6556320" y="253836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0"/>
            <p:cNvSpPr/>
            <p:nvPr/>
          </p:nvSpPr>
          <p:spPr>
            <a:xfrm>
              <a:off x="5819760" y="31654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1"/>
            <p:cNvSpPr/>
            <p:nvPr/>
          </p:nvSpPr>
          <p:spPr>
            <a:xfrm>
              <a:off x="6081840" y="327024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2"/>
            <p:cNvSpPr/>
            <p:nvPr/>
          </p:nvSpPr>
          <p:spPr>
            <a:xfrm>
              <a:off x="6015240" y="3343320"/>
              <a:ext cx="66600" cy="74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26"/>
            <p:cNvSpPr/>
            <p:nvPr/>
          </p:nvSpPr>
          <p:spPr>
            <a:xfrm>
              <a:off x="2901600" y="400392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3" h="75946">
                  <a:moveTo>
                    <a:pt x="0" y="29009"/>
                  </a:moveTo>
                  <a:lnTo>
                    <a:pt x="29371" y="29009"/>
                  </a:lnTo>
                  <a:lnTo>
                    <a:pt x="38447" y="0"/>
                  </a:lnTo>
                  <a:lnTo>
                    <a:pt x="47522" y="29009"/>
                  </a:lnTo>
                  <a:lnTo>
                    <a:pt x="76893" y="29009"/>
                  </a:lnTo>
                  <a:lnTo>
                    <a:pt x="53132" y="46937"/>
                  </a:lnTo>
                  <a:lnTo>
                    <a:pt x="62208" y="75946"/>
                  </a:lnTo>
                  <a:lnTo>
                    <a:pt x="38447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7"/>
            <p:cNvSpPr/>
            <p:nvPr/>
          </p:nvSpPr>
          <p:spPr>
            <a:xfrm>
              <a:off x="2808000" y="34815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8"/>
            <p:cNvSpPr/>
            <p:nvPr/>
          </p:nvSpPr>
          <p:spPr>
            <a:xfrm>
              <a:off x="2700000" y="290520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9"/>
            <p:cNvSpPr/>
            <p:nvPr/>
          </p:nvSpPr>
          <p:spPr>
            <a:xfrm>
              <a:off x="2766960" y="30513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31"/>
            <p:cNvSpPr/>
            <p:nvPr/>
          </p:nvSpPr>
          <p:spPr>
            <a:xfrm>
              <a:off x="4797360" y="349092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5-Point Star 32"/>
            <p:cNvSpPr/>
            <p:nvPr/>
          </p:nvSpPr>
          <p:spPr>
            <a:xfrm>
              <a:off x="4119480" y="275760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5-Point Star 33"/>
            <p:cNvSpPr/>
            <p:nvPr/>
          </p:nvSpPr>
          <p:spPr>
            <a:xfrm>
              <a:off x="4119480" y="312408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5-Point Star 34"/>
            <p:cNvSpPr/>
            <p:nvPr/>
          </p:nvSpPr>
          <p:spPr>
            <a:xfrm>
              <a:off x="3917880" y="312408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-Point Star 35"/>
            <p:cNvSpPr/>
            <p:nvPr/>
          </p:nvSpPr>
          <p:spPr>
            <a:xfrm>
              <a:off x="4052880" y="327024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-Point Star 36"/>
            <p:cNvSpPr/>
            <p:nvPr/>
          </p:nvSpPr>
          <p:spPr>
            <a:xfrm>
              <a:off x="4998960" y="261144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-Point Star 37"/>
            <p:cNvSpPr/>
            <p:nvPr/>
          </p:nvSpPr>
          <p:spPr>
            <a:xfrm>
              <a:off x="6081840" y="38577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5-Point Star 38"/>
            <p:cNvSpPr/>
            <p:nvPr/>
          </p:nvSpPr>
          <p:spPr>
            <a:xfrm>
              <a:off x="5946840" y="327024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3" h="75946">
                  <a:moveTo>
                    <a:pt x="0" y="29009"/>
                  </a:moveTo>
                  <a:lnTo>
                    <a:pt x="29371" y="29009"/>
                  </a:lnTo>
                  <a:lnTo>
                    <a:pt x="38447" y="0"/>
                  </a:lnTo>
                  <a:lnTo>
                    <a:pt x="47522" y="29009"/>
                  </a:lnTo>
                  <a:lnTo>
                    <a:pt x="76893" y="29009"/>
                  </a:lnTo>
                  <a:lnTo>
                    <a:pt x="53132" y="46937"/>
                  </a:lnTo>
                  <a:lnTo>
                    <a:pt x="62208" y="75946"/>
                  </a:lnTo>
                  <a:lnTo>
                    <a:pt x="38447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5-Point Star 39"/>
            <p:cNvSpPr/>
            <p:nvPr/>
          </p:nvSpPr>
          <p:spPr>
            <a:xfrm>
              <a:off x="6149880" y="319716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5-Point Star 40"/>
            <p:cNvSpPr/>
            <p:nvPr/>
          </p:nvSpPr>
          <p:spPr>
            <a:xfrm>
              <a:off x="6081840" y="31971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5-Point Star 42"/>
            <p:cNvSpPr/>
            <p:nvPr/>
          </p:nvSpPr>
          <p:spPr>
            <a:xfrm>
              <a:off x="6015240" y="297828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реализация Познаньской программы в странах мир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5-Point Star 46"/>
          <p:cNvSpPr/>
          <p:nvPr/>
        </p:nvSpPr>
        <p:spPr>
          <a:xfrm>
            <a:off x="2209680" y="51055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7"/>
          <p:cNvSpPr/>
          <p:nvPr/>
        </p:nvSpPr>
        <p:spPr>
          <a:xfrm>
            <a:off x="2209680" y="4952880"/>
            <a:ext cx="7632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8"/>
          <p:cNvSpPr/>
          <p:nvPr/>
        </p:nvSpPr>
        <p:spPr>
          <a:xfrm>
            <a:off x="2209680" y="48006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лотные про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ект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ны, отобранные в первом раун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тра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9"/>
          <p:cNvSpPr/>
          <p:nvPr/>
        </p:nvSpPr>
        <p:spPr>
          <a:xfrm>
            <a:off x="0" y="658800"/>
            <a:ext cx="175248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урция и Острова Кук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становки для выработки водородной энергии для малых островных государств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0" y="2457360"/>
            <a:ext cx="1752480" cy="6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кси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ные технологии  ветровой энергети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Б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0" y="3124080"/>
            <a:ext cx="17524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ные технологии  солнечной энергети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Б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0" y="4572000"/>
            <a:ext cx="1752480" cy="12139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авливание и хран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ахарной промышлен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0" y="3733920"/>
            <a:ext cx="17524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т-д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вуа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стирование твердых отходо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фБ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086600" y="5065560"/>
            <a:ext cx="20574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нега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о теплоизоляционных материалов  из рогоза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086600" y="569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этапная ликвидация ГХФУ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нергосберегающие установки по кондиционированию воздуха и системы охлаждения  без использования ГФУ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ЮНИДО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7086600" y="2324160"/>
            <a:ext cx="205740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илан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а технологий по линии Юг-Ю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о  этанола из маниоки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8"/>
          <p:cNvSpPr/>
          <p:nvPr/>
        </p:nvSpPr>
        <p:spPr>
          <a:xfrm>
            <a:off x="7086600" y="3024360"/>
            <a:ext cx="205740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мбодж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работка энергии из отходов сельскохозяйственного  производства (биомассы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7086600" y="3941640"/>
            <a:ext cx="20574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ри-Лан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работка бамбука (ПРОО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0"/>
          <p:cNvSpPr/>
          <p:nvPr/>
        </p:nvSpPr>
        <p:spPr>
          <a:xfrm>
            <a:off x="7086600" y="4495680"/>
            <a:ext cx="20574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орда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рригационные технологи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ФРС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1"/>
          <p:cNvSpPr/>
          <p:nvPr/>
        </p:nvSpPr>
        <p:spPr>
          <a:xfrm>
            <a:off x="7086600" y="1569960"/>
            <a:ext cx="20574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итай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монстрация чистых с точки зрения окружающей среды грузовико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мирный бан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2"/>
          <p:cNvSpPr/>
          <p:nvPr/>
        </p:nvSpPr>
        <p:spPr>
          <a:xfrm>
            <a:off x="0" y="1905120"/>
            <a:ext cx="175248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лая волновая энергетика (ПРОО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4"/>
          <p:cNvSpPr/>
          <p:nvPr/>
        </p:nvSpPr>
        <p:spPr>
          <a:xfrm>
            <a:off x="1752480" y="1089000"/>
            <a:ext cx="3078360" cy="15955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6"/>
          <p:cNvSpPr/>
          <p:nvPr/>
        </p:nvSpPr>
        <p:spPr>
          <a:xfrm>
            <a:off x="1752480" y="2104920"/>
            <a:ext cx="1285920" cy="836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 flipV="1">
            <a:off x="1752480" y="2720880"/>
            <a:ext cx="744480" cy="44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78"/>
          <p:cNvSpPr/>
          <p:nvPr/>
        </p:nvSpPr>
        <p:spPr>
          <a:xfrm>
            <a:off x="1752480" y="3402000"/>
            <a:ext cx="1030320" cy="593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1"/>
          <p:cNvSpPr/>
          <p:nvPr/>
        </p:nvSpPr>
        <p:spPr>
          <a:xfrm flipV="1">
            <a:off x="1752480" y="3331800"/>
            <a:ext cx="2401920" cy="677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4"/>
          <p:cNvSpPr/>
          <p:nvPr/>
        </p:nvSpPr>
        <p:spPr>
          <a:xfrm flipV="1">
            <a:off x="1752480" y="3625560"/>
            <a:ext cx="1478160" cy="1546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7"/>
          <p:cNvSpPr/>
          <p:nvPr/>
        </p:nvSpPr>
        <p:spPr>
          <a:xfrm flipH="1">
            <a:off x="5913000" y="1031760"/>
            <a:ext cx="1173240" cy="9939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0"/>
          <p:cNvSpPr/>
          <p:nvPr/>
        </p:nvSpPr>
        <p:spPr>
          <a:xfrm flipH="1">
            <a:off x="6622920" y="1924200"/>
            <a:ext cx="463680" cy="650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93"/>
          <p:cNvSpPr/>
          <p:nvPr/>
        </p:nvSpPr>
        <p:spPr>
          <a:xfrm flipH="1">
            <a:off x="6072120" y="2601360"/>
            <a:ext cx="1014480" cy="8046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6"/>
          <p:cNvSpPr/>
          <p:nvPr/>
        </p:nvSpPr>
        <p:spPr>
          <a:xfrm flipH="1" flipV="1">
            <a:off x="6116760" y="3342960"/>
            <a:ext cx="969840" cy="1126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9"/>
          <p:cNvSpPr/>
          <p:nvPr/>
        </p:nvSpPr>
        <p:spPr>
          <a:xfrm flipH="1" flipV="1">
            <a:off x="5829480" y="3227400"/>
            <a:ext cx="1257120" cy="9144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2"/>
          <p:cNvSpPr/>
          <p:nvPr/>
        </p:nvSpPr>
        <p:spPr>
          <a:xfrm flipH="1" flipV="1">
            <a:off x="4941720" y="2841120"/>
            <a:ext cx="2144880" cy="18543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05"/>
          <p:cNvSpPr/>
          <p:nvPr/>
        </p:nvSpPr>
        <p:spPr>
          <a:xfrm flipH="1" flipV="1">
            <a:off x="4025880" y="3214440"/>
            <a:ext cx="3060720" cy="2205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0"/>
          <p:cNvSpPr/>
          <p:nvPr/>
        </p:nvSpPr>
        <p:spPr>
          <a:xfrm>
            <a:off x="1752480" y="1089000"/>
            <a:ext cx="58680" cy="28306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Гватем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оста-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П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Арген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Сенег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от-д</a:t>
            </a:r>
            <a:r>
              <a:rPr b="0" lang="ja-JP" sz="1200" spc="-1" strike="noStrike">
                <a:solidFill>
                  <a:srgbClr val="40404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ву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Бангладе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ндоне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Шри-Л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Таил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Острова К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екс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Яма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Российская Фед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Ч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ор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Тур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амбо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Вьет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одзаголовок 2"/>
          <p:cNvSpPr/>
          <p:nvPr/>
        </p:nvSpPr>
        <p:spPr>
          <a:xfrm>
            <a:off x="439560" y="6367320"/>
            <a:ext cx="70668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1339920" y="609768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2"/>
          <p:cNvSpPr/>
          <p:nvPr/>
        </p:nvSpPr>
        <p:spPr>
          <a:xfrm>
            <a:off x="1257480" y="62960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Долгосрочная программа передачи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Поддержка центров и сетей, занимающихся разработкой технологий в области изменения климат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 глобальном, региональном и национальном уров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зможны оказание технической помощи, обучение, обмен информацией, управление знаниями с учетом обсуждения вопросов в рамках РКООНИК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Реализация пилотных проектов в области разработки и внедрения технологий в целях содействия инновациям и инвестиция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емонстрировать в действии инновационные техн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пособствовать внедрению и распространению технологий в целях привлечения инвести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Создание государственно-частных партнерств в целях передачи технолог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действовать участию частного сектора для поддержки  использования инновационных финансовых инструментов или бизнес-моделей для внедрения  технолог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Содействие  проведению оценок потребностей в технологиях  (ОПТ)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Помогать странам с низким и средним уровнями дохода проводить ОПТ и/или корректировать их результа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ГЭФ как учреждение-катализатор, способствующее передаче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основные особенности долгосрочно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11430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рограмма согласуется с механизмом финансирования технологий, согласованным в Канкуне на 16-й конференции сторон (КС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6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), и поддерживает этот механ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рограмма утверждена Советом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5 элементов программы могут финансироваться с помощью следующих механизмов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ы 1, 2 и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лобальные и региональные резервы (элементы 1 и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 ГЧП (государственно-частного партнерства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ополнительные добровольные взнос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6019920" y="4800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кация о передаче ЧО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ЭФ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0) 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ак узнать о потребностях страны в области передачи технолог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Arial"/>
              </a:rPr>
              <a:t>Основные вопросы, связанные с проблемой изменения климат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одилась ли в последнее время в вашей стране оценка потребностей в технологиях (ОПТ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ы ли потребности в технологиях в рамках осуществляющихся в вашей стране Национальной программы распространения информаци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Национальной программы адаптации к изменению климата (НПДА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усматривают ли проводимая в вашей стране политика и реализуемая стратегия определение конкретных потребностей в технология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яются ли потребности в технологиях в ходе проведения в вашей стране стандартной оценки потребностей в рамках реализации Рамочной программы ООН по оказанию помощи в целях развития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C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A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д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о вам следует начать  с ознакомления с соответствующим документом для приоритезации действий по подготовке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не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обенно применительно к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ть можно с оценки целесообразности проведения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ли с более конкретной оценки потребностей в технологиях в рамках вашей следующей Н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Дальнейшие шаги в процессе адаптации к изменению клим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Проведение оценки потребностей в технологиях  (ОП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олее крупные стр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 провести единую для всей страны ОПТ с использованием средств, выделенных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нее крупные стр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подать заявку на включение в многострановой проект, финансируемый из глобальных и региональных резервов, участники которого отбираются на конкурсной основе (связаться с ГЭФ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проекта по передаче технолог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мягчение последствий изменения клима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по проекту в одной из шести областей деятельности, финансируемых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даптация к изменению клима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по проекту в СФБИК/ФНР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и/или участие в работе центра и сети передачи технологий в области адаптации к изменению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ациональном уровн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глобальном и региональном уровн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сообщить ГЭФ о вашей заинтересованности, поскольку  реализация регионального пилотного проекта может  начаться  в 2011 году в соответствии с решениями конференции в Канку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buSzPct val="10281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7720" y="6858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0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8000"/>
                </a:solidFill>
                <a:latin typeface="Calibri"/>
              </a:rPr>
              <a:t>Спасибо за внимани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19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более подробной информацией  следует обращаться по следующим адреса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редача технологий и смягчение последствий изменения клима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изуру Аоки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izuru Aoki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передачи технолог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даптация к изменению климата,  СФБ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онизелла Бьяджини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onizella Biagini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чальник Отдела стратегии и операций в области адаптации  к изменению клима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Ибрахима Соу 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brahima Sow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ординатор по проблематике химических вещест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б-сайт ГЭФ, посвященный вопросам передачи технологий ( в стадии разработки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Содержание настояще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Что такое передача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Каким образом ГЭФ содействует передаче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Как узнать о потребностях страны в области передачи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Дальнейшие ш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 Что такое передача технолог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83772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Arial"/>
              </a:rPr>
              <a:t>Технология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: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Arial"/>
              </a:rPr>
              <a:t>в центре глобальных проблем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а из причин ухудшения состояния окружающей среды и один из источников выбросов вредных ве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редство смягчения отрицательных последствий, сокращения объемов выбросов вредных веществ, управления природными ресурсами и наблюдения за состоянием окружающей ср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а из основ экономического развития, создания стоимости и повышения занят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Arial"/>
              </a:rPr>
              <a:t>Разработка, демонстрация, внедрение и распространение чистых с точки зрения окружающей среды технологий (ЧОСТ) являются видами деятельности, имеющими решающее значение для эффективного решения  глобальных задач в области охраны окружающей среды ("Повестка дня на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XXI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Arial"/>
              </a:rPr>
              <a:t> век")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Что такое передача технологий?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Различные многосторонние соглашения по окружающей среде (МСОС) включают положения, касающиеся технологий, обеспечения их доступности и пере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762120" y="1828800"/>
            <a:ext cx="822960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Рамочная конвенция ООН об изменении климата (РКООНИК)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в декабре 2010 года было согласовано использование механизма передачи климатических технологий для поддержки мер по разработке и распространению технологий для смягчения последствий изменения климата и адаптации к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Конвенция о биологическом разнообразии (КБР)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знает, что доступ к технологиям и обмен технологиями между участниками Конвенции имеют решающее значение для достижения целей К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Монреальский протокол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  <a:ea typeface="ＭＳ Ｐゴシック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нято реш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 чистых с точки зрения окружающей среды методах уничтожения  банков озоноразрушающих веществ (ОРВ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Многостороннему фонду предложено продолжить усилия по реализации экономически эффективных проектов по уничтожению банков ОРВ с использованием надлежащи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токгольмская конвенция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сматривает содействие в использовании наилучших имеющихся технологий и наилучшей практики (НИТ/НПООС) охраны окружающей среды в целях сокращения объемов выбросов  стойких органических загрязнителей (СОЗ), являющихся непроизвольным побочным продуктом производства (сжигание мусора, производство алюминия, открытое сжигание отходов и т. 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Что такое передача технологий?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2960" indent="-275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уществует множество определений и толкований  понятия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именительно к изменению климата ГЭФ использует определение передачи технологий, принятое Межправительственной группой экспертов по проблемам изменения климата (МГЭИК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широкий набор  средств,  включая передачу "ноу-хау", опыта и оборудования на цели смягчения последствий изменения климата и адаптации к ним  среди различных заинтересованных сторон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Речь идет не только о технических средствах, но также о потенциале, "ноу-хау", политике и институтах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аким образом ГЭФ способствует передаче технолог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066320"/>
            <a:ext cx="8458200" cy="80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финансирует  деятельность, связанную с демонстрацией, внедрением и распространением чистых с точки зрения окружающей среды технологий (ЧОСТ), а также проведение стимулирующих мероприят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каждой из тематических областей решаются задачи передачи технологий в контексте стратегии ГЭФ-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ы разрабатываются на основе руководящих принципов Конвенции и в соответствии с приоритетными задачами стр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spcAft>
                <a:spcPts val="601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ормулирование общей  стратегии ГЭФ в отношении технологий находится на стадии обсуждения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2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Передача технологий является одной из приоритетных задач ГЭФ в рамках тематической области адаптации к изменению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еренция сторон (КС) РКООНИК  наделила ГЭФ полномочиями по передаче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является единственным многосторонним учреждением, финансирующим процесс передачи технологий под руководством 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является крупнейшим публичным механизмом финансирования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проблемы изменения климата и передачи технолог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ГЭФ инвестировал примерно 3 млрд. долл. США в деятельность, связанную со смягчением  последствий изменения климата и адаптации к ним, мобилизовав на эти цели более 15 млрд. долл. С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Финансирование в рамках ГЭФ-5 (на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2010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–20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14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 годы) на цели смягчения последствий изменения климата составляет примерно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,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4 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млрд. долл. С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Специальный фонд для борьбы с изменением климата /Фонд для наименее развитых стран (СФБИК/ФНРС): финансирование на цели адаптации к изменению климата и оказания содействия НРС в совокупности составляет примерно 53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344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. Направления деятельности ГЭФ: Стратегия смягчения последствий изменения климата и передача технологий в рамках ГЭФ-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3"/>
          <p:cNvSpPr/>
          <p:nvPr/>
        </p:nvSpPr>
        <p:spPr>
          <a:xfrm>
            <a:off x="228600" y="609480"/>
            <a:ext cx="8991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6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целей Стратегии смягчения последствий изменения климата в рамках ГЭФ-5 охватывают различные аспекты передачи технологий – от НИОКР до распространения технологий + стимулирующи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Сектора: повышение энергоэффективности, освоение возобновляемых видов энергии, транспорт, городское хозяйство, ИЗПЛ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62120" y="1981080"/>
            <a:ext cx="7696080" cy="4114800"/>
            <a:chOff x="762120" y="1981080"/>
            <a:chExt cx="7696080" cy="4114800"/>
          </a:xfrm>
        </p:grpSpPr>
        <p:sp>
          <p:nvSpPr>
            <p:cNvPr id="121" name="Rectangle 33"/>
            <p:cNvSpPr/>
            <p:nvPr/>
          </p:nvSpPr>
          <p:spPr>
            <a:xfrm>
              <a:off x="5867640" y="1981080"/>
              <a:ext cx="2590560" cy="411480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9"/>
            <p:cNvGrpSpPr/>
            <p:nvPr/>
          </p:nvGrpSpPr>
          <p:grpSpPr>
            <a:xfrm>
              <a:off x="4267080" y="1981080"/>
              <a:ext cx="2514600" cy="4114800"/>
              <a:chOff x="4267080" y="1981080"/>
              <a:chExt cx="2514600" cy="4114800"/>
            </a:xfrm>
          </p:grpSpPr>
          <p:sp>
            <p:nvSpPr>
              <p:cNvPr id="123" name="Chevron 44"/>
              <p:cNvSpPr/>
              <p:nvPr/>
            </p:nvSpPr>
            <p:spPr>
              <a:xfrm>
                <a:off x="571500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80cd"/>
                  </a:gs>
                  <a:gs pos="100000">
                    <a:srgbClr val="9bc1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"/>
              <p:cNvSpPr/>
              <p:nvPr/>
            </p:nvSpPr>
            <p:spPr>
              <a:xfrm>
                <a:off x="4267080" y="1981080"/>
                <a:ext cx="1981440" cy="4114800"/>
              </a:xfrm>
              <a:prstGeom prst="rect">
                <a:avLst/>
              </a:prstGeom>
              <a:gradFill rotWithShape="0">
                <a:gsLst>
                  <a:gs pos="0">
                    <a:srgbClr val="3f80cd"/>
                  </a:gs>
                  <a:gs pos="100000">
                    <a:srgbClr val="9bc1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6"/>
            <p:cNvGrpSpPr/>
            <p:nvPr/>
          </p:nvGrpSpPr>
          <p:grpSpPr>
            <a:xfrm>
              <a:off x="2286000" y="1981080"/>
              <a:ext cx="2514600" cy="4114800"/>
              <a:chOff x="2286000" y="1981080"/>
              <a:chExt cx="2514600" cy="4114800"/>
            </a:xfrm>
          </p:grpSpPr>
          <p:sp>
            <p:nvSpPr>
              <p:cNvPr id="126" name="Chevron 42"/>
              <p:cNvSpPr/>
              <p:nvPr/>
            </p:nvSpPr>
            <p:spPr>
              <a:xfrm>
                <a:off x="373392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43"/>
              <p:cNvSpPr/>
              <p:nvPr/>
            </p:nvSpPr>
            <p:spPr>
              <a:xfrm>
                <a:off x="2286000" y="1981080"/>
                <a:ext cx="1981440" cy="4114800"/>
              </a:xfrm>
              <a:prstGeom prst="rect">
                <a:avLst/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047"/>
            <p:cNvGrpSpPr/>
            <p:nvPr/>
          </p:nvGrpSpPr>
          <p:grpSpPr>
            <a:xfrm>
              <a:off x="1447920" y="1981080"/>
              <a:ext cx="1752480" cy="4114800"/>
              <a:chOff x="1447920" y="1981080"/>
              <a:chExt cx="1752480" cy="4114800"/>
            </a:xfrm>
          </p:grpSpPr>
          <p:sp>
            <p:nvSpPr>
              <p:cNvPr id="129" name="Chevron 40"/>
              <p:cNvSpPr/>
              <p:nvPr/>
            </p:nvSpPr>
            <p:spPr>
              <a:xfrm>
                <a:off x="213372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41"/>
              <p:cNvSpPr/>
              <p:nvPr/>
            </p:nvSpPr>
            <p:spPr>
              <a:xfrm>
                <a:off x="1447920" y="1981080"/>
                <a:ext cx="1219320" cy="41148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2"/>
            <p:cNvGrpSpPr/>
            <p:nvPr/>
          </p:nvGrpSpPr>
          <p:grpSpPr>
            <a:xfrm>
              <a:off x="762120" y="1981080"/>
              <a:ext cx="1371600" cy="4114800"/>
              <a:chOff x="762120" y="1981080"/>
              <a:chExt cx="1371600" cy="4114800"/>
            </a:xfrm>
          </p:grpSpPr>
          <p:sp>
            <p:nvSpPr>
              <p:cNvPr id="132" name="Chevron 38"/>
              <p:cNvSpPr/>
              <p:nvPr/>
            </p:nvSpPr>
            <p:spPr>
              <a:xfrm>
                <a:off x="1066680" y="1981080"/>
                <a:ext cx="1067040" cy="4114800"/>
              </a:xfrm>
              <a:custGeom>
                <a:avLst/>
                <a:gdLst>
                  <a:gd name="textAreaLeft" fmla="*/ 0 w 1067040"/>
                  <a:gd name="textAreaRight" fmla="*/ 1067400 w 106704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9"/>
              <p:cNvSpPr/>
              <p:nvPr/>
            </p:nvSpPr>
            <p:spPr>
              <a:xfrm>
                <a:off x="762120" y="1981080"/>
                <a:ext cx="838080" cy="4114800"/>
              </a:xfrm>
              <a:prstGeom prst="rect">
                <a:avLst/>
              </a:pr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Box 46"/>
          <p:cNvSpPr/>
          <p:nvPr/>
        </p:nvSpPr>
        <p:spPr>
          <a:xfrm>
            <a:off x="4952880" y="1990800"/>
            <a:ext cx="3429000" cy="930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действие преобразованию рынка в целях повышения эффективности использования энергии в промышленности и в зданиях и сооружени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4952880" y="2981160"/>
            <a:ext cx="3429000" cy="5961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тимулирование притока инвестиций в развитие технологий возобновляемой энерг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8"/>
          <p:cNvSpPr/>
          <p:nvPr/>
        </p:nvSpPr>
        <p:spPr>
          <a:xfrm>
            <a:off x="4952880" y="3619440"/>
            <a:ext cx="3429000" cy="763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действие развитию эффективных низкоуглродных систем транспорта и городского хозяй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4952880" y="4419720"/>
            <a:ext cx="3429000" cy="1159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ЦЕЛЬ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одействие сохранению и расширению накопления углерода за счет изменения землепользования и лесного хозйства (ИЗЛХ) + увязка с межсекторальным устойчивым лесопользованием/сокращением объемов выбросов в результате обезлесения и деградации лесов (СВОД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0"/>
          <p:cNvSpPr/>
          <p:nvPr/>
        </p:nvSpPr>
        <p:spPr>
          <a:xfrm>
            <a:off x="762120" y="6019920"/>
            <a:ext cx="7696080" cy="276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ЦЕЛЬ 6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держка стимулирующих меро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6553080" y="56386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АСПРОСТРА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724280" y="56386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НЕД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274320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ДЕМОНС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1752480" y="5334120"/>
            <a:ext cx="83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РИКЛА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5"/>
          <p:cNvSpPr/>
          <p:nvPr/>
        </p:nvSpPr>
        <p:spPr>
          <a:xfrm>
            <a:off x="714240" y="53341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ФУНДАМЕНТ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6"/>
          <p:cNvSpPr/>
          <p:nvPr/>
        </p:nvSpPr>
        <p:spPr>
          <a:xfrm>
            <a:off x="2590920" y="3657600"/>
            <a:ext cx="2286000" cy="1006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ЦЕЛ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действие демонстрации, внедр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передаче инновацио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оуглеродных 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Познаньская стратегическая программа по передаче технологи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1430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Объем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н. долл. США из средств Траст-фонда ГЭФ в рамках ГЭФ-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н.  долл. США из средств  Специального фонда по борьбе с изменением климата (СФБИК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Финансирование пилотных проектов в области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2009 году для финансирования было отобрано 14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 эти проекты находятся в стадии ре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Финансирование оценок потребностей в технологии (ОП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ект был утвержден в 2009 год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2010 году был завершен первый раунд отбора стран: отобрано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5 стран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ершается второй раунд отбора стр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осуществляются оценки в стран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Долгосрочная программа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лан, состоящий из 5 элементов, представлен КС РКООНИК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м. слайд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6248520" y="51814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кация о Познаньской програм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node/3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lication on Poznan Programhttp://www.thegef.org/gef/node/3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10-06T11:26:37Z</cp:lastPrinted>
  <dcterms:modified xsi:type="dcterms:W3CDTF">2011-11-01T21:01:21Z</dcterms:modified>
  <cp:revision>903</cp:revision>
  <dc:subject/>
  <dc:title>Slide 1</dc:title>
</cp:coreProperties>
</file>