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457C-8FD7-47E8-B4A8-E46F7503A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358-025F-440F-8C45-87591FAB5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E8F-D102-47F2-9D08-26E9BD9DE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141-C3F6-405F-874B-081A1872A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16C5-AA86-4ABA-B7D2-726010219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ие информацию доверителя, представленную в рамках  КРПП от 16 марта по вопросу получения дополнительных доходов в размере  1 млн. долл. США без учета решений об использовании сред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бъема финансовых ресурсов по состоянию на конец 2012 года основывается на данных Таблицы 5, отражающей потенциальные ресурсы в рам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учета решений об использовании финансовых средств, 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AA8-3173-4802-BE7C-24AD89A87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790-6B59-4800-9065-F17EADD42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B453-49C6-4C43-B864-5B304FB38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об уровне возможного  финансирования не  включают  информацию  о  принятых к настоящему времени решениях об использовании средств и соответствующ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Попечителя, предоставленных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в рамках КРПП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4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аблицы 5 «Потенциальные ресурсы» (16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463E-64EC-4AF6-B0EF-3970989AC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883E-4FBE-48EF-8076-706FC9E13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изложение полного перечня проблем, содержащегося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B/B.11/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ключающего следующи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стандартов и запрашиваемых  подтверждающих документо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процед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связанные с языковыми барьера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ая новизна функций НУИ и отсутствие в прошлом такого рода функций в рамках правительст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 при определении наиболее подходящей организации для выполнения роли НУИ в стра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дуциарным стандартам  в стране соответствует не одна  организация, а несколько организац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93A1-F811-4FE3-A54E-03A0C5390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9C4A-331E-49C3-9AD0-34AB57DB2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4E5-8F13-467D-B97B-7D6DD71A7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 уполномоченным органом   (СУО) в контексте деятельности А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являться организация, действующая в качестве Уполномоченного национального агентства по реализации МЧР,  не являющаяся при этом им в обязательном порядк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юбом случае страна должна назначить Специально уполномоченный орган  путем оформления письменного документа, подписанного должностным лицом на уровне минис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AD19-3D26-4C84-AA4F-4BFC8D52E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250-C994-4DB9-9404-678BF6FB6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113-B3AB-4E4A-AE26-B07ED47E1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004-ADC5-41BD-9E87-FD4D5EE78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8 </a:t>
            </a:r>
            <a:r>
              <a:rPr b="1" lang="ru-RU" sz="1500" spc="-1" strike="noStrike">
                <a:solidFill>
                  <a:srgbClr val="007033"/>
                </a:solidFill>
                <a:latin typeface="Calibri"/>
              </a:rPr>
              <a:t>одобренных концепций</a:t>
            </a: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а Кука, Сальвадор, Грузия, Гватемала, Мадагаскар, Мальдивы, Монголия, 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по состоянию на 18 мар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4CB1-151B-4485-BF5F-F27DB611B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B81E-1E7B-4F23-9608-2928FECE4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да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отский протокол, ст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2.8: </a:t>
            </a:r>
            <a:r>
              <a:rPr b="0" i="1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поступлений от сертифицированных видов деятельности по проектам используется для покрытия административных расходов, а также для оказания помощи Сторонам, являющимся развивающимися странами, которые особенно уязвимы к неблагоприятному воздействию изменения климата, в погашении расходов, связанных с адапт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аке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 решение о формировании АФ и его финансировании за счет отчисления 2% объема поступлений от реализации проектов по линии механизма чистого развития (МЧР) и из других источников финанс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АФ и формирование правовой основы его деятель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перационной единицы обслуживается секретариатом и попечителе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нь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равоспособности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нгаге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на законных основаниях проводит заседание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.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2010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аккредитация учреждений-исполнител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я национальные учреждения-исполн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0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н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ервой концепции реализации проектов  (включая предложения, полученные от НУ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1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обрены первые подготовленные в полном объеме документы по реализации проекта (включая документы, полученные от НУ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2011 года:  подписан первый протокол о намерениях (ПОН) (с НУ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3D5-A960-4AF1-85E3-A1286A063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AD6-2529-4DAA-8D98-DE12EBBB7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2AA-5C07-4109-80B7-624337E2C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78E-95A3-4F91-903E-A0DAEF4F5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0CD-A4D8-4D29-B2E8-FFF259800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940-98B5-4FF1-83E9-FCC1CD5BC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кандидатов в члены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(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наверное, все-таки,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их заместителей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), которы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ставляют стороны и формально избираются на сессиях КС/СС следующим образо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ва представителя от каждой из пяти региональных групп О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ин представитель от малых островных развивающихся государст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дин представитель от Сторон, относящихся к группе наименее развитых стра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включенных в Приложени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;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не включенных в Приложение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ок полномочий – два года с возможностью возобновления один р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E2DE-577E-409C-BF17-ED784EBCD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095-DE26-4C75-8717-16A0998B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90D-F547-4CCE-8A28-9EB2083A1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78D4-D31D-4D70-AE64-633AC5C6A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CFD-01ED-4F83-A898-EF3061B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3A0-7D6F-4B42-9A71-09492C5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BE9-C84A-4178-ADEB-7BB83114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7EA-2547-4185-974B-C52F12A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C27-A847-4FC5-9D95-EA52E07C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9F8-0EC4-4ECE-BC41-E0C74DE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C31-89C2-4EE6-94CD-704165EB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778-2104-4DEC-B4F7-381D04C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25F-174D-4BFF-AC65-928C23A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955-85D5-4C38-A286-631BB3B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D8D-F419-48EA-A7A9-A95E49A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61B-3EB9-4DE9-A0CE-2BC59637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A7A-AC2A-491D-950F-A1551FA75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254400" cy="291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720" y="32000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ступ к ресурсам Адаптационного фо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699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принци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правления, ориентированного на достижение конкретных результато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Рамок стратегических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уде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яться следующими компонент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мониторинга и оценки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ящие принципы окончательной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ство по подготовке рамок для определения исходных условий ре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ов 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зультатов их осущест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общедоступно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азы данных по проектам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 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декса поведения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овета  Адаптационного фо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ый размер комиссии за управление, выплачиваемый учреждениям-исполнител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Текуща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по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готовке бюджета и планированию раб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Группа по аккреди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реждена Советом в целях обеспече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соответств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й, получающих средства от Адаптационного фонда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идуциарным стандарт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яет Совету рекомендации относительно аккредитации, условной аккредитации, временного приостановления или лишения аккредитации, повторной аккреди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лена Сове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едатель, заместитель председател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их технических экспер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осуществляет контроль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работой Групп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иступила к работе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нваре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8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: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Финанс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остоянию на 18 март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в доверительном управлении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1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9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ичие средств для финансирования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168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5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роны, включенные в Приложе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оставляют дополнительное финансирова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4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тыс. евро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Швеция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шведских  к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язательства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стралия -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 1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австралийских долл.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Брюссельский столичный регион -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выделенных финансовых средств по состоянию на 18 марта 2011 года: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43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полагаемый объем финансовых средств, которые будут в наличии к конц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редненная оценка -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334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ая оценка- 2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, высокая оценка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8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труктура У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прямого доступ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ющие установленным критериям стороны могут представлять свои проекты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прямую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сторон может также уполномочить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 выступа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учреждений-исполнителей, вместо НУ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·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доступа через МУ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роны могут направлять свои предложения через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я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33"/>
                </a:solidFill>
                <a:latin typeface="Calibri"/>
              </a:rPr>
              <a:t>НУИ и МУИ должны</a:t>
            </a:r>
            <a:r>
              <a:rPr b="1" lang="en-US" sz="32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Соответствовать фидуциарным стандартам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оветом АФ в отношен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ого управления и финансовой безупре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х возмож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зрачности, полномочий для проведения расследований собственной деятельности и мер по борьбе с корруп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лностью отвеч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и программ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полнять функци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ой деятельностью, мониторингом и отчет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Access Modalities.tif"/>
          <p:cNvPicPr/>
          <p:nvPr/>
        </p:nvPicPr>
        <p:blipFill>
          <a:blip r:embed="rId2"/>
          <a:stretch/>
        </p:blipFill>
        <p:spPr>
          <a:xfrm>
            <a:off x="1828800" y="1257480"/>
            <a:ext cx="5334120" cy="5295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827360" y="1295280"/>
            <a:ext cx="5297400" cy="38124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1. МЕХАНИЗМ ДОСТУПА К ФИНАНСИРОВАНИЮ ПО ЛИНИИ АДАПТАЦИОННОГО ФО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855880" y="2987640"/>
            <a:ext cx="725400" cy="66996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217600" y="4114800"/>
            <a:ext cx="878040" cy="3808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352680" y="4127400"/>
            <a:ext cx="878040" cy="36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08520" y="4114800"/>
            <a:ext cx="87804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06880" y="213372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Сов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958000" y="4114800"/>
            <a:ext cx="87768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963880" y="212580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Доверительный управляющ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502240" y="3002040"/>
            <a:ext cx="609480" cy="57924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Н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75080" y="5470560"/>
            <a:ext cx="304164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инансовые пото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ение предложений и оформление контрак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работка предложений и осуществление надзо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казания доверительному управляющему со стороны Сове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ханизм прямого доступ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54520" y="5592600"/>
            <a:ext cx="1470240" cy="808200"/>
          </a:xfrm>
          <a:prstGeom prst="rect">
            <a:avLst/>
          </a:prstGeom>
          <a:solidFill>
            <a:srgbClr val="fef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орона назначает национальное учреждение–исполнителя либо может также предложить многосторонне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 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33"/>
                </a:solidFill>
                <a:latin typeface="Calibri"/>
              </a:rPr>
              <a:t>Финансовая безупречность и финансовое у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чная и регулярная регистрация транзакций и балан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иодически проходящих аудит силами независимой компании или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управление  финансовыми средствами и их расходование при своевременном предоставлении их получателям специальных мер защ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перспективных планов и бюдж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й статус для заключения контрактов с АФ и третьими сторо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Институциональные возм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упочные процедуры, предусматривающие прозрачную практику, в том числе в отношении конкур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роведения мониторинга 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одбора, разработки и оценк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ция по управлению или надзору за реализацией проекта/программы, включая возможности по управлению деятельностью вторичных получателей средств и оказанию содействия в вопросах осуществле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зрачность и полномочия для проведения расследований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петенция по решению проблем, связанных с финансовыми злоупотреблениями и другими формами недобросовестной прак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цесс аккреди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одобряет назначение Специального уполномоченного органа (СУО) и Учреждения-исполнителя. СУО одобряет все предложения 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заявл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ние степени соответствия организации требованиям в отношении наличия у нее конкретных возмож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отрение заявления Группой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может запросить у организации дополнительную информацию/разъясн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 посещения организации и/или наблюдения на месте за ее деятельно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предоставления заявителю технической поддержки для расширения его возможностей  в целях получения аккреди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едставляет рекомендации Совету А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5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по вопросу аккредитации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Цель презен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19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Исходные данные</a:t>
            </a:r>
            <a:r>
              <a:rPr b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Состояние Адаптационного фонда  на сегодняшний день и достигнутые успе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Ф уже действует в полную силу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24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еа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Наличие средств для финанс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остоянию н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6 марта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20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68,5 млн. долл. С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 концу 2012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редненная оцен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34 млн. долл. СШ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68 млн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89 млн. долл.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учреждения-исполн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3 национальных учреждения-исполнителя</a:t>
            </a:r>
            <a:r>
              <a:rPr b="0" lang="fi-FI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tre de Suivi Ecologique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егал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т планирования Ямайки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gencia Nacional de Investigación e Innovación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</a:t>
            </a:r>
            <a:r>
              <a:rPr b="1" lang="es-ES" sz="2000" spc="-1" strike="noStrike">
                <a:solidFill>
                  <a:srgbClr val="007033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 многосторонних учреждений-исполнителей</a:t>
            </a:r>
            <a:r>
              <a:rPr b="0" lang="es-E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мирный банк, ПРООН, ЮНЕП, АБР, МФРСХ, ВПП, В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Ускорен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дура аккредитации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завершена в течение  </a:t>
            </a:r>
            <a:r>
              <a:rPr b="1" lang="fi-FI" sz="2000" spc="-1" strike="noStrike">
                <a:solidFill>
                  <a:srgbClr val="007033"/>
                </a:solidFill>
                <a:latin typeface="Calibri"/>
              </a:rPr>
              <a:t>3 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меся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0" y="152244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2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Почему нельзя задействовать больше НУИ</a:t>
            </a: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Некоторые из выявленных проблем</a:t>
            </a:r>
            <a:r>
              <a:rPr b="1" lang="en-U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тоды и процедуры прямого доступ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роль фидуциарных стандарто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 полностью осмыслены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легко определи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одходящее / имеющее наибольший потенциа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У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сто составить документацию для аккредитаци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ст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зыковыми барьерам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достаточная уверенность в собственных возможностях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обходимо больше НУ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 обратился с просьбой 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ногосторонним и двусторонним донорам об оказании содейств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аккредитации в стра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рекомендует сторонам следова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омендациям Совета/секретариата в вопросах создания НУ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 РКООНИК  планирует организова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иональных семинара, в ходе которых будет использован инструментарий АФ для аккредитации и целью которых будет ознакомление Сторон с процедурами аккредитации НУИ и предъявляемыми к ним требова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543800" y="541008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AFB Project Cycle.tif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4400" y="-52560"/>
            <a:ext cx="9083520" cy="63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ЫЙ ЦИКЛ 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81080" y="1287360"/>
            <a:ext cx="250668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Секретариатом проверки на предмет соответствия и соблюдения технических требов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52280" y="2278080"/>
            <a:ext cx="3048120" cy="8460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экспертизы Комитетом по оценке проектов и программ. Могут быть использованы услуги независимых экспер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122800" y="1143000"/>
            <a:ext cx="2878200" cy="762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едставление проекта или программы в Секретариат АФ с использованием типового образца, утвержденного С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132520" y="4343400"/>
            <a:ext cx="301284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Реализация проекта и осуществление мониторинга учреждением-исполнител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4200" y="4389480"/>
            <a:ext cx="3733560" cy="7002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Оформление Советом АФ контрактных отношений. Предоставление доверительным управляющим финансовых средств после получения письменных указаний от Совета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006560" y="3629160"/>
            <a:ext cx="2100240" cy="438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ринятие решения Советом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562800" y="2475000"/>
            <a:ext cx="23986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153a1"/>
                </a:solidFill>
                <a:latin typeface="Arial"/>
              </a:rPr>
              <a:t>ВСЕ ПРОЕКТЫ: ГОДОВЫЕ ОТЧЕТЫ О ХОДЕ РАБОТЫ И ОКОНЧАТЕЛЬНЫЕ ДОКЛАДЫ ОБ ОЦЕ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04920" y="6138720"/>
            <a:ext cx="434340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се предложения будут опубликованы на веб-сайте АФ в целях получения комментариев от обще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Проектный цикл АФ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(2):</a:t>
            </a:r>
            <a:br>
              <a:rPr sz="2000"/>
            </a:b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Calibri"/>
              </a:rPr>
              <a:t>Упрощенные процедуры оценки и </a:t>
            </a:r>
            <a:r>
              <a:rPr b="1" i="1" lang="ru-RU" sz="1800" spc="-1" strike="noStrike">
                <a:solidFill>
                  <a:srgbClr val="92d050"/>
                </a:solidFill>
                <a:latin typeface="Calibri"/>
              </a:rPr>
              <a:t>утвер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объем финансирования  для отдельно взятой страны установлен в размере 10 млн. долл. США. Отсутствие ограничений в отношении финансирования конкретных объе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ектам стоимостью свыше 1 млн. долл. СШ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ва возможных варианта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олное предложение) ил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е стад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утверждение концепции и составление документации по проект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проектам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лых масштаб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менее 1 млн. долл. США)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тендентам на получение статуса НУИ может быть предоставлен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ант на подготовку проект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преобразования одобренных принципов в носящие полномасштабный характер пред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тверждаться специально уполномоченным для этого органом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О). В настоящее время такой орган назначен в более чем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50 стра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быть представле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позднее, чем за 9 недель д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седания 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4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нципы финанс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предоставляется с учетом общего объема затрат, связанных с адаптацией, в рамках реализации проектов и программ, имеющих своей целью нейтрализацию неблагоприятных последствий изменения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Ф будет финансировать реализацию проектов,  основной и четко сформулированной целью  которых является адаптация к изменению климата и повышение степени устойчивости к его последств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должны иметь конкретные цели: обсуждение определения продолжается, основное внимание уделяется степени воз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специфических условий отдельных стран: отсутствие заранее определенных секторов или под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Экспертиза предложения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акцент на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280" y="2209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имость 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и стратегиями устойчив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ие, социальные и экологическ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ответств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 техническим стандар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ую 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вления, управление финансовыми операциями и риск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иторинг и оценку, оценку воз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бежание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йствий с другими источниками финансирования на цели адап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чины неутвержде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2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ая обоснованность с точки зрения решения задач адаптации к изменению климата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ядке повседневной деятельности, либо причины не ясн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ы доказательства отсутствия 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ошлыми/действующими проек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ый объем информ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дному или нескольким аспектам, как правило, по вопросам технической осуществ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ект составлен неэфф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а руководящая роль и заинтересованность  страны в разработке и реализации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оп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едания Совета АФ, начиная с сентября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800" spc="-1" strike="noStrike">
                <a:solidFill>
                  <a:srgbClr val="007033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утверждено финансирование 7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щита береговой линии и поддержание средств к существованию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енегал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CSE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степени уязвимости и обеспечение продовольственной безопасности в Эквадор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ПП, 2 стадии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7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4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6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ы управления водными ресурсами и распространение агротехнических методов в Эритре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2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50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ондурас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 и засух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5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, вызванных разливами ледниковых озер на север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акиста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0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производства продуктов питания и систем управления  на Соломоновых Острова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енегал: адаптация к береговой эрозии в уязвимых район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: 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ервым НУИ –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у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изических объектов и сохранению средств к существованию населения тре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брежных районов Сенег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 и утвержден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 реализаци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нвар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08160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Ф: исходные дан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рамка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отского проток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КОО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конкретных проектов, связанных с адаптацией к изменению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ся за счет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%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лений от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ССВ 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и реализации проектов по линии Механизма чистого развития (МЧР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из других источников 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яющий орг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ерационные процед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ы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олном объеме начал действовать в 2010 г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ы решения о финансиров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о реализации перв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Гондурас: нейтрализация рисков, угрожающих водным ресурсам в связи с изменением клим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4479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МУ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сить устойчивость к рискам, угрожающим водным ресурсам в связи с изменением климат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йонах проживания наиболее уязвимых групп населения в Гондурасе в рамках пилотных мероприятий и интеграции задач адаптации к изменению климата в процесс управления водными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 и утвержде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5742000" y="1523880"/>
            <a:ext cx="3173400" cy="233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5765760" y="3809880"/>
            <a:ext cx="2540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25 </a:t>
            </a: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ектных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33"/>
                </a:solidFill>
                <a:latin typeface="Calibri"/>
              </a:rPr>
              <a:t>Различные сектора</a:t>
            </a:r>
            <a:r>
              <a:rPr b="1" lang="en-US" sz="36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прибрежными зон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овольственная безопас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сельских район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городских район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льское хозяйств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щение рисков, связанных со стихийными бед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4680" y="-1522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6320" y="4343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retariat@adaptation-fund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341760" y="281952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adaptation-fun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638360" y="5334120"/>
            <a:ext cx="6438960" cy="533160"/>
          </a:xfrm>
          <a:prstGeom prst="rect">
            <a:avLst/>
          </a:prstGeom>
          <a:gradFill rotWithShape="0">
            <a:gsLst>
              <a:gs pos="0">
                <a:srgbClr val="5a0305"/>
              </a:gs>
              <a:gs pos="100000">
                <a:srgbClr val="9d0f1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2010 год: Первый проект Адаптационного фонда,  финансируемый в рамках прямого доступа и имеющий своей целью борьбу с береговой эрозией в Сенег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Фотографии береговой линии любезно предоставлены </a:t>
            </a:r>
            <a:r>
              <a:rPr b="0" lang="en-US" sz="1100" spc="-1" strike="noStrike">
                <a:solidFill>
                  <a:srgbClr val="edf0e9"/>
                </a:solidFill>
                <a:latin typeface="Arial"/>
              </a:rPr>
              <a:t>Dethi Soum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даптационный фонд (АФ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Инновационный механизм финансирования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ящий орг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и сбалансированное представительство Сторон, подписавших Киотский проток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ресурсам АФ для стран, соответствующих установленным критер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источник финанс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ый сбор в размере 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2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ССВ,  обеспечиваемых в рамках проектов МЧ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Институциональная струк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ЭФ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верительный управляющ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ирный банк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  КП приняли решение о пересмотре временной институциональной структуры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219320" y="358128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219320" y="510552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1"/>
          <p:cNvSpPr/>
          <p:nvPr/>
        </p:nvSpPr>
        <p:spPr>
          <a:xfrm>
            <a:off x="2666880" y="5181480"/>
            <a:ext cx="9907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2"/>
          <p:cNvSpPr/>
          <p:nvPr/>
        </p:nvSpPr>
        <p:spPr>
          <a:xfrm>
            <a:off x="1676520" y="4572000"/>
            <a:ext cx="4608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3"/>
          <p:cNvSpPr/>
          <p:nvPr/>
        </p:nvSpPr>
        <p:spPr>
          <a:xfrm>
            <a:off x="1676520" y="4648320"/>
            <a:ext cx="46080" cy="30456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0"/>
          <p:cNvSpPr/>
          <p:nvPr/>
        </p:nvSpPr>
        <p:spPr>
          <a:xfrm>
            <a:off x="2666880" y="5791320"/>
            <a:ext cx="990720" cy="75960"/>
          </a:xfrm>
          <a:prstGeom prst="rightArrow">
            <a:avLst>
              <a:gd name="adj1" fmla="val 50000"/>
              <a:gd name="adj2" fmla="val 50178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3962520" y="4648320"/>
            <a:ext cx="3429000" cy="68580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кретариат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ЭФ на временной основ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886200" y="5486400"/>
            <a:ext cx="3505320" cy="60948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верительный управляющий (Всемирный банк на временной основе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01000" y="5783400"/>
            <a:ext cx="1143000" cy="9475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5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Руководящий орган</a:t>
            </a:r>
            <a:r>
              <a:rPr b="1" lang="en-US" sz="48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Совет А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их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заместителей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яющих Сто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Правоспособнос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ная Германией в феврале 2011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заключать соглашения с учреждениями-исполн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Вспомогательные органы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оценке проектов и программ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PPR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этике и финанс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EF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A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5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оценке проектов и про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суждать и анализировать проекты и программы, представляемые Совету соответствующими Сторонами в соответствии с Операционными принципами и процедур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вопросы, возникающие в связи с проектами и программами, представляемыми Совету, в том числе нерешенные вопросы полити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отчеты по проектам и программам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яемые национальными учреждениями-исполнителями (НУИ) 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ногосторонни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чреждениями-исполнителями (МУИ) в соответствии с положениями пункта 46 Операционных принципов и процедур и при поддержке Секретари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читываться перед Советом и представлять ему свои рекомендации относительно утверждения, аннулирования, прекращения или приостановления реализации проектов и программ,  а также по любым другим рассматриваемым им вопроса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любые другие вопросы, обсуждение которых Совет считает целесообраз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887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применением Кодекса поведения и регулировать проблемы, связанные с различными его толкованиями, а также с последствиями его наруше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нализир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 текущих расходов Совета, секретариата доверительного управляющего и выносить соответствующие рекоменда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Выносить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вета относительно общей политики и методов мобилизации ресурсов, в том числе рекомендации доверительного управляющего в отношении монетизации ССВ и получения средств из других источ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вер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ую отчетность Фон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язаннос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цен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зультаты деятельности Фонда, НУИ и МУИ с использованием в случае необходимости внутренних и внешних оценок и отчетности, получаемой от  НУИ, МУИ и из других источник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ешат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ы, касающиеся мониторинга и оценки проектов и програм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ятельностью Секретариата, в том числе за наймом сотрудников и закупками товаров и услуг и другими действиями, относящими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йствиями доверительного управляющего в областях, относящих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ассматр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юбые другие вопросы, обсуждение которых Совет считает целесообразны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0" y="655164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Mikko Ollikainen</dc:creator>
  <dc:description>Generic presentation on the Adaptation Fund.</dc:description>
  <dc:language>en-US</dc:language>
  <cp:lastModifiedBy>wb350798</cp:lastModifiedBy>
  <cp:lastPrinted>2011-09-21T06:45:36Z</cp:lastPrinted>
  <dcterms:modified xsi:type="dcterms:W3CDTF">2011-11-01T21:01:54Z</dcterms:modified>
  <cp:revision>761</cp:revision>
  <dc:subject>Adaptation Fund presentation</dc:subject>
  <dc:title>The Adaptation Fund</dc:title>
</cp:coreProperties>
</file>