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21F6-D674-4A42-BCFC-77EFC1F6E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9961-0674-4291-9FDC-8E4EBE0B7B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8746-03AD-4787-A4D9-4ED587933C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75A0-E3DC-4B70-B648-ADD4C80FC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08C3-FB24-4632-B7F0-8D4FA88E8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е 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FB/EFC.4/10/Rev.2.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ющие информацию доверителя, представленную в рамках  КРПП от 16 марта по вопросу получения дополнительных доходов в размере  1 млн. долл. США без учета решений об использовании средст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ых в рамках  СА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объема финансовых ресурсов по состоянию на конец 2012 года основывается на данных Таблицы 5, отражающей потенциальные ресурсы в рамк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FB/EFC.4/10/Rev.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учета решений об использовании финансовых средств, принятых в рамках  СА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CDE1-3F2C-486B-AA04-E6EA80D5F8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Дата 3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омер слайда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097D-B49E-4A8B-B2B3-7FBC485B9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Дата 3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Номер слайда 4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9855-883E-4BEF-8A53-48CFB3632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е об уровне возможного  финансирования не  включают  информацию  о  принятых к настоящему времени решениях об использовании средств и соответствующих затрата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х Попечителя, предоставленных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в рамках КРПП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.4,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без учета решений об использовании средств, принятых в рамках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АФ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.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Таблицы 5 «Потенциальные ресурсы» (16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FB/EFC.4/10/Rev.2,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без учета решений об использовании средств, принятых в рамках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АФ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.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7D99-8ADC-4604-AE23-CF06B4765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1384-01C6-4BB6-9498-A15855E4A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изложение полного перечня проблем, содержащегося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B/B.11/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включающего следующие проблем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ясности в отношении стандартов и запрашиваемых  подтверждающих документо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ясности в отношении процедур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сти, связанные с языковыми барьерам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иальная новизна функций НУИ и отсутствие в прошлом такого рода функций в рамках правительств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сти при определении наиболее подходящей организации для выполнения роли НУИ в стран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дуциарным стандартам  в стране соответствует не одна  организация, а несколько организаци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AA3E-1B77-48FB-94D2-4B8BC6574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244D-7AFA-4F29-A545-6C58FED8DE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2FCF-3F3C-4464-9C73-C82751125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 уполномоченным органом   (СУО) в контексте деятельности АФ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являться организация, действующая в качестве Уполномоченного национального агентства по реализации МЧР,  не являющаяся при этом им в обязательном порядк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юбом случае страна должна назначить Специально уполномоченный орган  путем оформления письменного документа, подписанного должностным лицом на уровне минис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9461-FC1D-4AF0-B967-F48979B31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205D-0192-48BA-AD5B-589FD9482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9BF4-FAC4-4D04-BCD0-F1F2384E9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24A9-3361-43E3-A05F-3F9453E9D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7033"/>
                </a:solidFill>
                <a:latin typeface="Calibri"/>
              </a:rPr>
              <a:t>8 </a:t>
            </a:r>
            <a:r>
              <a:rPr b="1" lang="ru-RU" sz="1500" spc="-1" strike="noStrike">
                <a:solidFill>
                  <a:srgbClr val="007033"/>
                </a:solidFill>
                <a:latin typeface="Calibri"/>
              </a:rPr>
              <a:t>одобренных концепций</a:t>
            </a:r>
            <a:r>
              <a:rPr b="1" lang="en-US" sz="1500" spc="-1" strike="noStrike">
                <a:solidFill>
                  <a:srgbClr val="007033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ва Кука, Сальвадор, Грузия, Гватемала, Мадагаскар, Мальдивы, Монголия, Уругва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по состоянию на 18 март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1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F17C-0A2C-4500-9A61-95C6C10B7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80BE-675A-408E-B6EC-C02A32873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 данны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отский протокол, ст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2.8: </a:t>
            </a:r>
            <a:r>
              <a:rPr b="0" i="1" lang="ja-JP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поступлений от сертифицированных видов деятельности по проектам используется для покрытия административных расходов, а также для оказания помощи Сторонам, являющимся развивающимися странами, которые особенно уязвимы к неблагоприятному воздействию изменения климата, в погашении расходов, связанных с адапт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аке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200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о решение о формировании АФ и его финансировании за счет отчисления 2% объема поступлений от реализации проектов по линии механизма чистого развития (МЧР) и из других источников финанс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/С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и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0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АФ и формирование правовой основы его деятельно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 адаптационного фон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операционной единицы обслуживается секретариатом и попечителе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/С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нь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0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правоспособности А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/С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нгаге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200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я на законных основаниях проводит заседание А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/СС.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т 2010 г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аккредитация учреждений-исполнител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я национальные учреждения-исполните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/С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10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юн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а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первой концепции реализации проектов  (включая предложения, полученные от НУ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11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нтябр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обрены первые подготовленные в полном объеме документы по реализации проекта (включая документы, полученные от НУ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ябрь 2011 года:  подписан первый протокол о намерениях (ПОН) (с НУ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B236-5AA9-4B23-9CDE-24DD2193FE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51FE-54D5-4FA5-AA67-1921C488AA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5ECE-5CDF-4F37-99F8-E2642DFF2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337A-BC8C-4CD4-AE8F-6F9E17D07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5F56-8CF1-4EFE-AC57-7F85A13D0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D186-2AE0-4B52-BD1A-3B0DC568D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7033"/>
                </a:solidFill>
                <a:latin typeface="Calibri"/>
              </a:rPr>
              <a:t>Совет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ключает </a:t>
            </a:r>
            <a:r>
              <a:rPr b="1" lang="en-US" sz="1100" spc="-1" strike="noStrike">
                <a:solidFill>
                  <a:srgbClr val="007033"/>
                </a:solidFill>
                <a:latin typeface="Calibri"/>
              </a:rPr>
              <a:t>16 </a:t>
            </a:r>
            <a:r>
              <a:rPr b="1" lang="ru-RU" sz="1100" spc="-1" strike="noStrike">
                <a:solidFill>
                  <a:srgbClr val="007033"/>
                </a:solidFill>
                <a:latin typeface="Calibri"/>
              </a:rPr>
              <a:t>членов</a:t>
            </a:r>
            <a:r>
              <a:rPr b="1" lang="en-US" sz="1100" spc="-1" strike="noStrike">
                <a:solidFill>
                  <a:srgbClr val="007033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1100" spc="-1" strike="noStrike">
                <a:solidFill>
                  <a:srgbClr val="007033"/>
                </a:solidFill>
                <a:latin typeface="Calibri"/>
              </a:rPr>
              <a:t>кандидатов в члены </a:t>
            </a:r>
            <a:r>
              <a:rPr b="1" lang="ru-RU" sz="1100" spc="-1" strike="noStrike" u="sng">
                <a:solidFill>
                  <a:srgbClr val="ffc000"/>
                </a:solidFill>
                <a:uFillTx/>
                <a:latin typeface="Calibri"/>
              </a:rPr>
              <a:t>(</a:t>
            </a:r>
            <a:r>
              <a:rPr b="1" lang="ru-RU" sz="1100" spc="-1" strike="noStrike">
                <a:solidFill>
                  <a:srgbClr val="ffc000"/>
                </a:solidFill>
                <a:latin typeface="Calibri"/>
              </a:rPr>
              <a:t>наверное, все-таки, </a:t>
            </a:r>
            <a:r>
              <a:rPr b="1" lang="ru-RU" sz="1100" spc="-1" strike="noStrike" u="sng">
                <a:solidFill>
                  <a:srgbClr val="ffc000"/>
                </a:solidFill>
                <a:uFillTx/>
                <a:latin typeface="Calibri"/>
              </a:rPr>
              <a:t>их заместителей</a:t>
            </a:r>
            <a:r>
              <a:rPr b="1" lang="ru-RU" sz="1100" spc="-1" strike="noStrike">
                <a:solidFill>
                  <a:srgbClr val="ffc000"/>
                </a:solidFill>
                <a:latin typeface="Calibri"/>
              </a:rPr>
              <a:t>), которые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едставляют стороны и формально избираются на сессиях КС/СС следующим образом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ва представителя от каждой из пяти региональных групп ОО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дин представитель от малых островных развивающихся государств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дин представитель от Сторон, относящихся к группе наименее развитых стран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Еще два представителя от Сторон, включенных в Приложени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I;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Еще два представителя от Сторон, не включенных в Приложение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I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рок полномочий – два года с возможностью возобновления один ра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724C-3F59-41B7-94B5-04EFCD0D6B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3957-15ED-4778-9430-7C36633D0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42AA-AE09-4B61-B21F-A642DE5F0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ABA1-0D52-4C0F-9D87-A8EEBAB0F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14A-3745-4419-A1D0-0E292F4D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E1C-33A2-437E-A356-48FBF16F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9C1-A842-47F5-B4AB-A43ECD8A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919-2EE3-4580-A1B7-9336E1BD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B2A0-D248-4E81-A46D-D2DE93D1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51A2-0F9F-4FF9-80FA-93B5C04B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0F72-2925-4066-AAA9-A4C70243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8391-3BBA-4D37-BA6E-D38DAC1B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8814-2DEA-47AD-8FC9-46344CE2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A6F-7544-4307-B577-7EE55B6E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208C-90FB-48A2-9513-BE8301F9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395-D55F-4D2B-B951-35B12DA7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46BC-31DB-4CB2-A249-F51A0B616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254400" cy="2919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90720" y="320004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2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ступ к ресурсам Адаптационного фон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Calibri"/>
              </a:rPr>
              <a:t>Комитет по этике и финансам: основные реш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699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ятие принципа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правления, ориентированного на достижение конкретных результато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О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1800" spc="-1" strike="noStrike">
                <a:solidFill>
                  <a:srgbClr val="ffc000"/>
                </a:solidFill>
                <a:latin typeface="Calibri"/>
              </a:rPr>
              <a:t>Рамок стратегических результа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будет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полняться следующими компонента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еханизм мониторинга и оценки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уководящие принципы окончательной оце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уководство по подготовке рамок для определения исходных условий реализаци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ектов и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езультатов их осуществ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общедоступной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базы данных по проектам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00" name="Straight Connector 7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8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Calibri"/>
              </a:rPr>
              <a:t>Комитет по этике и финансам: основные решения </a:t>
            </a:r>
            <a:r>
              <a:rPr b="1" lang="en-US" sz="4000" spc="-1" strike="noStrike">
                <a:solidFill>
                  <a:srgbClr val="92d050"/>
                </a:solidFill>
                <a:latin typeface="Calibri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920" y="19807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тверждение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одекса поведения 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Совета  Адаптационного фон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ксимальный размер комиссии за управление, выплачиваемый учреждениям-исполнителя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5%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Текуща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 по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дготовке бюджета и планированию рабо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05" name="Straight Connector 7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Calibri"/>
              </a:rPr>
              <a:t>Группа по аккредита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реждена Советом в целях обеспечени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соответств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аций, получающих средства от Адаптационного фонда,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идуциарным стандарта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яет Совету рекомендации относительно аккредитации, условной аккредитации, временного приостановления или лишения аккредитации, повторной аккредит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лена Сове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едатель, заместитель председател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р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нешних технических эксперт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т </a:t>
            </a:r>
            <a:r>
              <a:rPr b="1" i="1" lang="ru-RU" sz="1800" spc="-1" strike="noStrike">
                <a:solidFill>
                  <a:srgbClr val="ffc000"/>
                </a:solidFill>
                <a:latin typeface="Calibri"/>
              </a:rPr>
              <a:t>осуществляет контроль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работой Групп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приступила к работе 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январе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10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8"/>
          <p:cNvSpPr/>
          <p:nvPr/>
        </p:nvSpPr>
        <p:spPr>
          <a:xfrm>
            <a:off x="0" y="6475320"/>
            <a:ext cx="826308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Calibri"/>
              </a:rPr>
              <a:t>Положение дел на данный момент:</a:t>
            </a:r>
            <a:r>
              <a:rPr b="1" lang="en-US" sz="28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92d050"/>
                </a:solidFill>
                <a:latin typeface="Calibri"/>
              </a:rPr>
              <a:t>Финанс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 состоянию на 18 март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2011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а в доверительном управлении: 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212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,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9 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млн.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личие средств для финансирования: 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168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,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5 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млн.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ороны, включенные в Приложение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едоставляют дополнительное финансирование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ания – </a:t>
            </a:r>
            <a:r>
              <a:rPr b="1" i="1" lang="fi-FI" sz="1600" spc="-1" strike="noStrike">
                <a:solidFill>
                  <a:srgbClr val="007033"/>
                </a:solidFill>
                <a:latin typeface="Calibri"/>
              </a:rPr>
              <a:t>45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млн. евро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нако – </a:t>
            </a:r>
            <a:r>
              <a:rPr b="1" i="1" lang="fi-FI" sz="1600" spc="-1" strike="noStrike">
                <a:solidFill>
                  <a:srgbClr val="007033"/>
                </a:solidFill>
                <a:latin typeface="Calibri"/>
              </a:rPr>
              <a:t>10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тыс. евро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ермания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– </a:t>
            </a:r>
            <a:r>
              <a:rPr b="1" i="1" lang="fi-FI" sz="1600" spc="-1" strike="noStrike">
                <a:solidFill>
                  <a:srgbClr val="007033"/>
                </a:solidFill>
                <a:latin typeface="Calibri"/>
              </a:rPr>
              <a:t>10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млн. евро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Швеция 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fi-FI" sz="1600" spc="-1" strike="noStrike">
                <a:solidFill>
                  <a:srgbClr val="007033"/>
                </a:solidFill>
                <a:latin typeface="Calibri"/>
              </a:rPr>
              <a:t>100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млн. шведских  кр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язательства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стралия - 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fi-FI" sz="1600" spc="-1" strike="noStrike">
                <a:solidFill>
                  <a:srgbClr val="007033"/>
                </a:solidFill>
                <a:latin typeface="Calibri"/>
              </a:rPr>
              <a:t> 15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млн. австралийских долл.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Брюссельский столичный регион - </a:t>
            </a:r>
            <a:r>
              <a:rPr b="1" i="1" lang="fi-FI" sz="1600" spc="-1" strike="noStrike">
                <a:solidFill>
                  <a:srgbClr val="007033"/>
                </a:solidFill>
                <a:latin typeface="Calibri"/>
              </a:rPr>
              <a:t>1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млн. евр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ъем выделенных финансовых средств по состоянию на 18 марта 2011 года: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 </a:t>
            </a:r>
            <a:br>
              <a:rPr sz="1600"/>
            </a:b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43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,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2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млн. долл. США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едполагаемый объем финансовых средств, которые будут в наличии к концу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средненная оценка - 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 334</a:t>
            </a:r>
            <a:r>
              <a:rPr b="1" i="1" lang="ru-RU" sz="1600" spc="-1" strike="noStrike">
                <a:solidFill>
                  <a:srgbClr val="007033"/>
                </a:solidFill>
                <a:latin typeface="Calibri"/>
              </a:rPr>
              <a:t> млн. долл. США </a:t>
            </a:r>
            <a:r>
              <a:rPr b="1" i="1" lang="en-US" sz="1600" spc="-1" strike="noStrike">
                <a:solidFill>
                  <a:srgbClr val="007033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изкая оценка- 28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млн. долл. США, высокая оценка -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389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млн. долл. СШ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aight Connector 14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16" name="Straight Connector 41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Доступ к финансированию по линии АФ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: </a:t>
            </a: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структура У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Механизм прямого доступ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чающие установленным критериям стороны могут представлять свои проекты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апрямую 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т АФ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через аккредитованно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циональное учреждение-исполнител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У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сторон может также уполномочить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егиональные и субрегиональные учреждения  выступать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честве учреждений-исполнителей, вместо НУ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33"/>
                </a:solidFill>
                <a:latin typeface="Times New Roman"/>
                <a:ea typeface="Times New Roman"/>
              </a:rPr>
              <a:t>·</a:t>
            </a: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Механизм доступа через МУ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ороны могут направлять свои предложения через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ккредитованно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стороннее учреждение-исполнителя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У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20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Calibri"/>
              </a:rPr>
              <a:t>Доступ к финансированию по линии АФ</a:t>
            </a:r>
            <a:r>
              <a:rPr b="1" lang="en-US" sz="2800" spc="-1" strike="noStrike">
                <a:solidFill>
                  <a:srgbClr val="92d050"/>
                </a:solidFill>
                <a:latin typeface="Calibri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24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33"/>
                </a:solidFill>
                <a:latin typeface="Calibri"/>
              </a:rPr>
              <a:t>НУИ и МУИ должны</a:t>
            </a:r>
            <a:r>
              <a:rPr b="1" lang="en-US" sz="32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.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Соответствовать фидуциарным стандартам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ленным Советом АФ в отношени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ового управления и финансовой безупреч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ституциональных возможнос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зрачности, полномочий для проведения расследований собственной деятельности и мер по борьбе с коррупци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олностью отвеча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бщее руководств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ами и программам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ыполнять функции, связанные с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финансовой деятельностью, мониторингом и отчетно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Доступ к финансированию по линии АФ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 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Access Modalities.tif"/>
          <p:cNvPicPr/>
          <p:nvPr/>
        </p:nvPicPr>
        <p:blipFill>
          <a:blip r:embed="rId2"/>
          <a:stretch/>
        </p:blipFill>
        <p:spPr>
          <a:xfrm>
            <a:off x="1828800" y="1257480"/>
            <a:ext cx="5334120" cy="5295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1827360" y="1295280"/>
            <a:ext cx="5297400" cy="381240"/>
          </a:xfrm>
          <a:prstGeom prst="rect">
            <a:avLst/>
          </a:prstGeom>
          <a:solidFill>
            <a:srgbClr val="afd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АГРАММА 1. МЕХАНИЗМ ДОСТУПА К ФИНАНСИРОВАНИЮ ПО ЛИНИИ АДАПТАЦИОННОГО ФОН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855880" y="2987640"/>
            <a:ext cx="725400" cy="669960"/>
          </a:xfrm>
          <a:prstGeom prst="rect">
            <a:avLst/>
          </a:prstGeom>
          <a:solidFill>
            <a:srgbClr val="afd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И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217600" y="4114800"/>
            <a:ext cx="878040" cy="380880"/>
          </a:xfrm>
          <a:prstGeom prst="rect">
            <a:avLst/>
          </a:prstGeom>
          <a:solidFill>
            <a:srgbClr val="afd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чреждение-исполни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352680" y="4127400"/>
            <a:ext cx="878040" cy="368280"/>
          </a:xfrm>
          <a:prstGeom prst="rect">
            <a:avLst/>
          </a:prstGeom>
          <a:solidFill>
            <a:srgbClr val="afd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чреждение-исполни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808520" y="4114800"/>
            <a:ext cx="878040" cy="38088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2f2f2"/>
                </a:solidFill>
                <a:latin typeface="Arial"/>
              </a:rPr>
              <a:t>Учреждение-исполни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006880" y="2133720"/>
            <a:ext cx="1219320" cy="38088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2f2f2"/>
                </a:solidFill>
                <a:latin typeface="Arial"/>
              </a:rPr>
              <a:t>Сове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5958000" y="4114800"/>
            <a:ext cx="877680" cy="38088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2f2f2"/>
                </a:solidFill>
                <a:latin typeface="Arial"/>
              </a:rPr>
              <a:t>Учреждение-исполни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963880" y="2125800"/>
            <a:ext cx="1219320" cy="38088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2f2f2"/>
                </a:solidFill>
                <a:latin typeface="Arial"/>
              </a:rPr>
              <a:t>Доверительный управляющ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502240" y="3002040"/>
            <a:ext cx="609480" cy="57924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f2f2"/>
                </a:solidFill>
                <a:latin typeface="Arial"/>
              </a:rPr>
              <a:t>НУИ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2575080" y="5470560"/>
            <a:ext cx="3041640" cy="80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961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инансовые поток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61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едставление предложений и оформление контракт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61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работка предложений и осуществление надзор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казания доверительному управляющему со стороны Совет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еханизм прямого доступ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654520" y="5592600"/>
            <a:ext cx="1470240" cy="808200"/>
          </a:xfrm>
          <a:prstGeom prst="rect">
            <a:avLst/>
          </a:prstGeom>
          <a:solidFill>
            <a:srgbClr val="fef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торона назначает национальное учреждение–исполнителя либо может также предложить многостороннее учрежден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Calibri"/>
              </a:rPr>
              <a:t>Фидуциарные стандарты </a:t>
            </a:r>
            <a:r>
              <a:rPr b="1" lang="en-US" sz="4400" spc="-1" strike="noStrike">
                <a:solidFill>
                  <a:srgbClr val="92d050"/>
                </a:solidFill>
                <a:latin typeface="Calibri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33"/>
                </a:solidFill>
                <a:latin typeface="Calibri"/>
              </a:rPr>
              <a:t>Финансовая безупречность и финансовое упра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чная и регулярная регистрация транзакций и баланс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ериодически проходящих аудит силами независимой компании или орган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ое управление  финансовыми средствами и их расходование при своевременном предоставлении их получателям специальных мер защи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ка перспективных планов и бюдже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овой статус для заключения контрактов с АФ и третьими сторон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46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Calibri"/>
              </a:rPr>
              <a:t>Фидуциарные стандарты</a:t>
            </a:r>
            <a:r>
              <a:rPr b="1" lang="en-US" sz="4400" spc="-1" strike="noStrike">
                <a:solidFill>
                  <a:srgbClr val="92d050"/>
                </a:solidFill>
                <a:latin typeface="Calibri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b050"/>
              </a:buClr>
              <a:buFont typeface="Calibri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Институциональные возмож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упочные процедуры, предусматривающие прозрачную практику, в том числе в отношении конкурен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и для проведения мониторинга и оцен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можности для подбора, разработки и оценки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Calibri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етенция по управлению или надзору за реализацией проекта/программы, включая возможности по управлению деятельностью вторичных получателей средств и оказанию содействия в вопросах осуществления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00b050"/>
              </a:buClr>
              <a:buFont typeface="Calibri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Прозрачность и полномочия для проведения расследований собственной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петенция по решению проблем, связанных с финансовыми злоупотреблениями и другими формами недобросовестной прак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2d050"/>
                </a:solidFill>
                <a:latin typeface="Calibri"/>
              </a:rPr>
              <a:t>Процесс аккредит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33"/>
                </a:solidFill>
                <a:latin typeface="Calibri"/>
              </a:rPr>
              <a:t>Стадия </a:t>
            </a:r>
            <a:r>
              <a:rPr b="1" i="1" lang="en-US" sz="1800" spc="-1" strike="noStrike">
                <a:solidFill>
                  <a:srgbClr val="007033"/>
                </a:solidFill>
                <a:latin typeface="Calibri"/>
              </a:rPr>
              <a:t> 0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тельство одобряет назначение Специального уполномоченного органа (СУО) и Учреждения-исполнителя. СУО одобряет все предложения У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33"/>
                </a:solidFill>
                <a:latin typeface="Calibri"/>
              </a:rPr>
              <a:t>Стадия</a:t>
            </a:r>
            <a:r>
              <a:rPr b="1" i="1" lang="en-US" sz="1800" spc="-1" strike="noStrike">
                <a:solidFill>
                  <a:srgbClr val="007033"/>
                </a:solidFill>
                <a:latin typeface="Calibri"/>
              </a:rPr>
              <a:t> 1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ление заявлен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исание степени соответствия организации требованиям в отношении наличия у нее конкретных возмож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ложение подтверждающих докумен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33"/>
                </a:solidFill>
                <a:latin typeface="Calibri"/>
              </a:rPr>
              <a:t>Стадия </a:t>
            </a:r>
            <a:r>
              <a:rPr b="1" i="1" lang="en-US" sz="1800" spc="-1" strike="noStrike">
                <a:solidFill>
                  <a:srgbClr val="007033"/>
                </a:solidFill>
                <a:latin typeface="Calibri"/>
              </a:rPr>
              <a:t> 2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мотрение заявления Группой по аккредитаци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33"/>
                </a:solidFill>
                <a:latin typeface="Calibri"/>
              </a:rPr>
              <a:t>Стадия </a:t>
            </a:r>
            <a:r>
              <a:rPr b="1" i="1" lang="en-US" sz="1800" spc="-1" strike="noStrike">
                <a:solidFill>
                  <a:srgbClr val="007033"/>
                </a:solidFill>
                <a:latin typeface="Calibri"/>
              </a:rPr>
              <a:t> 3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может запросить у организации дополнительную информацию/разъяснени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жет проинформировать Совет о необходимости  посещения организации и/или наблюдения на месте за ее деятельность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жет проинформировать Совет о необходимости предоставления заявителю технической поддержки для расширения его возможностей  в целях получения аккреди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33"/>
                </a:solidFill>
                <a:latin typeface="Calibri"/>
              </a:rPr>
              <a:t>Стадия </a:t>
            </a:r>
            <a:r>
              <a:rPr b="1" i="1" lang="en-US" sz="1800" spc="-1" strike="noStrike">
                <a:solidFill>
                  <a:srgbClr val="007033"/>
                </a:solidFill>
                <a:latin typeface="Calibri"/>
              </a:rPr>
              <a:t> 4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представляет рекомендации Совету А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33"/>
                </a:solidFill>
                <a:latin typeface="Calibri"/>
              </a:rPr>
              <a:t>Стадия</a:t>
            </a:r>
            <a:r>
              <a:rPr b="1" i="1" lang="en-US" sz="1800" spc="-1" strike="noStrike">
                <a:solidFill>
                  <a:srgbClr val="007033"/>
                </a:solidFill>
                <a:latin typeface="Calibri"/>
              </a:rPr>
              <a:t> 5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т АФ принимает окончательное решение по вопросу аккредитации учреж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Calibri"/>
              </a:rPr>
              <a:t>Цель презента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1920" y="12189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Исходные данные</a:t>
            </a:r>
            <a:r>
              <a:rPr b="1" lang="en-US" sz="1600" spc="-1" strike="noStrike">
                <a:solidFill>
                  <a:srgbClr val="007033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Состояние Адаптационного фонда  на сегодняшний день и достигнутые успех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Ф уже действует в полную силу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400"/>
              </a:spcBef>
              <a:spcAft>
                <a:spcPts val="2401"/>
              </a:spcAft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ямой доступ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реа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Наличие средств для финансир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состоянию на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6 марта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201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1 г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33"/>
                </a:solidFill>
                <a:latin typeface="Calibri"/>
              </a:rPr>
              <a:t>      </a:t>
            </a:r>
            <a:r>
              <a:rPr b="1" i="1" lang="en-US" sz="2800" spc="-1" strike="noStrike">
                <a:solidFill>
                  <a:srgbClr val="007033"/>
                </a:solidFill>
                <a:latin typeface="Calibri"/>
              </a:rPr>
              <a:t>1</a:t>
            </a:r>
            <a:r>
              <a:rPr b="1" i="1" lang="ru-RU" sz="2800" spc="-1" strike="noStrike">
                <a:solidFill>
                  <a:srgbClr val="007033"/>
                </a:solidFill>
                <a:latin typeface="Calibri"/>
              </a:rPr>
              <a:t>68,5 млн. долл. СШ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 концу 2012 г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редненная оцен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33"/>
                </a:solidFill>
                <a:latin typeface="Calibri"/>
              </a:rPr>
              <a:t>     </a:t>
            </a:r>
            <a:r>
              <a:rPr b="1" i="1" lang="en-US" sz="2800" spc="-1" strike="noStrike">
                <a:solidFill>
                  <a:srgbClr val="007033"/>
                </a:solidFill>
                <a:latin typeface="Calibri"/>
              </a:rPr>
              <a:t>3</a:t>
            </a:r>
            <a:r>
              <a:rPr b="1" i="1" lang="ru-RU" sz="2800" spc="-1" strike="noStrike">
                <a:solidFill>
                  <a:srgbClr val="007033"/>
                </a:solidFill>
                <a:latin typeface="Calibri"/>
              </a:rPr>
              <a:t>34 млн. долл. СШ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зкая оцен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68 млн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окая оцен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89 млн. долл.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Ш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52200" indent="-504000">
              <a:lnSpc>
                <a:spcPct val="8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Положение дел на данный момент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: </a:t>
            </a: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учреждения-исполните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Аккредитовано 3 национальных учреждения-исполнителя</a:t>
            </a:r>
            <a:r>
              <a:rPr b="0" lang="fi-FI" sz="20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entre de Suivi Ecologique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негал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ститут планирования Ямайки 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Ямайка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gencia Nacional de Investigación e Innovación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угвай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Аккредитовано </a:t>
            </a:r>
            <a:r>
              <a:rPr b="1" lang="es-ES" sz="2000" spc="-1" strike="noStrike">
                <a:solidFill>
                  <a:srgbClr val="007033"/>
                </a:solidFill>
                <a:latin typeface="Calibri"/>
              </a:rPr>
              <a:t>7</a:t>
            </a: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 многосторонних учреждений-исполнителей</a:t>
            </a:r>
            <a:r>
              <a:rPr b="0" lang="es-ES" sz="20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мирный банк, ПРООН, ЮНЕП, АБР, МФРСХ, ВПП, ВМ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Ускоренна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дура аккредитации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т быть завершена в течение  </a:t>
            </a:r>
            <a:r>
              <a:rPr b="1" lang="fi-FI" sz="2000" spc="-1" strike="noStrike">
                <a:solidFill>
                  <a:srgbClr val="007033"/>
                </a:solidFill>
                <a:latin typeface="Calibri"/>
              </a:rPr>
              <a:t>3 </a:t>
            </a: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месяц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0" y="152244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62" name="Straight Connector 41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Calibri"/>
              </a:rPr>
              <a:t>Почему нельзя задействовать больше НУИ</a:t>
            </a:r>
            <a:r>
              <a:rPr b="1" lang="en-US" sz="3200" spc="-1" strike="noStrike">
                <a:solidFill>
                  <a:srgbClr val="92d05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Некоторые из выявленных проблем</a:t>
            </a:r>
            <a:r>
              <a:rPr b="1" lang="en-US" sz="20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етоды и процедуры прямого доступ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роль фидуциарных стандартов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 полностью осмыслены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легко определи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иболее подходящее / имеющее наибольший потенциал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У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тран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росто составить документацию для аккредитации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удности, связанные с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языковыми барьерами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едостаточная уверенность в собственных возможностях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5"/>
          <p:cNvSpPr/>
          <p:nvPr/>
        </p:nvSpPr>
        <p:spPr>
          <a:xfrm>
            <a:off x="0" y="6475320"/>
            <a:ext cx="826308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Calibri"/>
              </a:rPr>
              <a:t>Необходимо больше НУ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т Адаптационного фонда обратился с просьбой к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ногосторонним и двусторонним донорам об оказании содейств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процессе аккредитации в стран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т рекомендует сторонам следовать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екомендациям Совета/секретариата в вопросах создания НУ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кретариат РКООНИК  планирует организоват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гиональных семинара, в ходе которых будет использован инструментарий АФ для аккредитации и целью которых будет ознакомление Сторон с процедурами аккредитации НУИ и предъявляемыми к ним требован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5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7543800" y="5410080"/>
            <a:ext cx="1066680" cy="9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AFB Project Cycle.tif"/>
          <p:cNvPicPr/>
          <p:nvPr/>
        </p:nvPicPr>
        <p:blipFill>
          <a:blip r:embed="rId2"/>
          <a:stretch/>
        </p:blipFill>
        <p:spPr>
          <a:xfrm>
            <a:off x="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14400" y="-52560"/>
            <a:ext cx="9083520" cy="638280"/>
          </a:xfrm>
          <a:prstGeom prst="rect">
            <a:avLst/>
          </a:prstGeom>
          <a:solidFill>
            <a:srgbClr val="afde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НЫЙ ЦИКЛ 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981080" y="1287360"/>
            <a:ext cx="2506680" cy="68580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df0e9"/>
                </a:solidFill>
                <a:latin typeface="Arial"/>
              </a:rPr>
              <a:t>Проведение Секретариатом проверки на предмет соответствия и соблюдения технических требова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52280" y="2278080"/>
            <a:ext cx="3048120" cy="84600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df0e9"/>
                </a:solidFill>
                <a:latin typeface="Arial"/>
              </a:rPr>
              <a:t>Проведение экспертизы Комитетом по оценке проектов и программ. Могут быть использованы услуги независимых эксперт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122800" y="1143000"/>
            <a:ext cx="2878200" cy="76212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df0e9"/>
                </a:solidFill>
                <a:latin typeface="Arial"/>
              </a:rPr>
              <a:t>Представление проекта или программы в Секретариат АФ с использованием типового образца, утвержденного СА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132520" y="4343400"/>
            <a:ext cx="3012840" cy="68580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df0e9"/>
                </a:solidFill>
                <a:latin typeface="Arial"/>
              </a:rPr>
              <a:t>Реализация проекта и осуществление мониторинга учреждением-исполнителе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754200" y="4389480"/>
            <a:ext cx="3733560" cy="70020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2f2f2"/>
                </a:solidFill>
                <a:latin typeface="Arial"/>
              </a:rPr>
              <a:t>Оформление Советом АФ контрактных отношений. Предоставление доверительным управляющим финансовых средств после получения письменных указаний от Совета А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006560" y="3629160"/>
            <a:ext cx="2100240" cy="438120"/>
          </a:xfrm>
          <a:prstGeom prst="rect">
            <a:avLst/>
          </a:prstGeom>
          <a:solidFill>
            <a:srgbClr val="7153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Принятие решения Советом А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562800" y="2475000"/>
            <a:ext cx="2398680" cy="13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153a1"/>
                </a:solidFill>
                <a:latin typeface="Arial"/>
              </a:rPr>
              <a:t>ВСЕ ПРОЕКТЫ: ГОДОВЫЕ ОТЧЕТЫ О ХОДЕ РАБОТЫ И ОКОНЧАТЕЛЬНЫЕ ДОКЛАДЫ ОБ ОЦЕНК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04920" y="6138720"/>
            <a:ext cx="4343400" cy="3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се предложения будут опубликованы на веб-сайте АФ в целях получения комментариев от обществен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Calibri"/>
              </a:rPr>
              <a:t>Проектный цикл АФ</a:t>
            </a:r>
            <a:r>
              <a:rPr b="1" lang="en-US" sz="2000" spc="-1" strike="noStrike">
                <a:solidFill>
                  <a:srgbClr val="92d050"/>
                </a:solidFill>
                <a:latin typeface="Calibri"/>
              </a:rPr>
              <a:t> (2):</a:t>
            </a:r>
            <a:br>
              <a:rPr sz="2000"/>
            </a:br>
            <a:r>
              <a:rPr b="1" lang="en-US" sz="20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92d050"/>
                </a:solidFill>
                <a:latin typeface="Calibri"/>
              </a:rPr>
              <a:t>Упрощенные процедуры оценки и </a:t>
            </a:r>
            <a:r>
              <a:rPr b="1" i="1" lang="ru-RU" sz="1800" spc="-1" strike="noStrike">
                <a:solidFill>
                  <a:srgbClr val="92d050"/>
                </a:solidFill>
                <a:latin typeface="Calibri"/>
              </a:rPr>
              <a:t>утверж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ксимальный объем финансирования  для отдельно взятой страны установлен в размере 10 млн. долл. США. Отсутствие ограничений в отношении финансирования конкретных объек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ектам стоимостью свыше 1 млн. долл. СШ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– два возможных варианта: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дна стад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полное предложение) или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ве стад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утверждение концепции и составление документации по проекту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проектам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лых масштабов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менее 1 млн. долл. США) –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дна стад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тендентам на получение статуса НУИ может быть предоставлен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рант на подготовку проекта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целях преобразования одобренных принципов в носящие полномасштабный характер предлож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ложения должны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тверждаться специально уполномоченным для этого органом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О). В настоящее время такой орган назначен в более чем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50 страна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ложения должны быть представлены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 позднее, чем за 9 недель до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заседания 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14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Calibri"/>
              </a:rPr>
              <a:t>Некоторые принципы финанс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предоставляется с учетом общего объема затрат, связанных с адаптацией, в рамках реализации проектов и программ, имеющих своей целью нейтрализацию неблагоприятных последствий изменения клим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Ф будет финансировать реализацию проектов,  основной и четко сформулированной целью  которых является адаптация к изменению климата и повышение степени устойчивости к его последстви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ы должны иметь конкретные цели: обсуждение определения продолжается, основное внимание уделяется степени воздей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т специфических условий отдельных стран: отсутствие заранее определенных секторов или подход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90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Экспертиза предложения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: </a:t>
            </a: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акцент на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52280" y="2209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овместимость с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циональными стратегиями устойчивого разви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кономические, социальные и экологическ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г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оответстви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циональным техническим стандарт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кономическую эффектив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еханизм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равления, управление финансовыми операциями и риска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ниторинг и оценку, оценку воздей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збежание дублирова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йствий с другими источниками финансирования на цели адап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83416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95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9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d050"/>
                </a:solidFill>
                <a:latin typeface="Calibri"/>
              </a:rPr>
              <a:t>Некоторые причины неутверждения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52280" y="10663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едостаточная обоснованность с точки зрения решения задач адаптации к изменению климата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орядке повседневной деятельности, либо причины не ясн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е продемонстрированы доказательства отсутствия  дублирова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прошлыми/действующими проект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едостаточный объем информаци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одному или нескольким аспектам, как правило, по вопросам технической осуществи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роект составлен неэффектив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е продемонстрирована руководящая роль и заинтересованность  страны в разработке и реализации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15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Положение дел на данный момент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: </a:t>
            </a: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опер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2189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седания Совета АФ, начиная с сентября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года</a:t>
            </a:r>
            <a:r>
              <a:rPr b="0" lang="en-US" sz="2800" spc="-1" strike="noStrike">
                <a:solidFill>
                  <a:srgbClr val="007033"/>
                </a:solidFill>
                <a:latin typeface="Calibri"/>
              </a:rPr>
              <a:t>: </a:t>
            </a:r>
            <a:r>
              <a:rPr b="1" lang="ru-RU" sz="2800" spc="-1" strike="noStrike">
                <a:solidFill>
                  <a:srgbClr val="007033"/>
                </a:solidFill>
                <a:latin typeface="Calibri"/>
              </a:rPr>
              <a:t>утверждено финансирование 7 проек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щита береговой линии и поддержание средств к существованию 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Сенегал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CSE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ямой доступ, 2 стади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619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нижение степени уязвимости и обеспечение продовольственной безопасности в Эквадор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ПП, 2 стадии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7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449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468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стемы управления водными ресурсами и распространение агротехнических методов в Эритре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О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тадия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 6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52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850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правление водными ресурсами 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Гондурас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О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1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тадия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63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30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нижение рисков и степени уязвимости от наводнений и засух в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икарагу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ОН, 2 стади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5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95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нижение рисков и степени уязвимости от наводнений, вызванных разливами ледниковых озер на севере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акистан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ОН, 2 стади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906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витие производства продуктов питания и систем управления  на Соломоновых Островах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ОН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стади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: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5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533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205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Сенегал: адаптация к береговой эрозии в уязвимых район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880" y="175212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: 8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619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000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уется первым НУИ –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ствуе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щит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изических объектов и сохранению средств к существованию населения тре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брежных районов Сенегал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ен и утвержден в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этап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чало реализаци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нвар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201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209" name="Straight Connector 7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3081600" cy="2143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"/>
          <p:cNvPicPr/>
          <p:nvPr/>
        </p:nvPicPr>
        <p:blipFill>
          <a:blip r:embed="rId3"/>
          <a:stretch/>
        </p:blipFill>
        <p:spPr>
          <a:xfrm>
            <a:off x="5410080" y="40384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Calibri"/>
              </a:rPr>
              <a:t>АФ: исходные данны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13712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 в рамках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иотского протоко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КООНИ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конкретных проектов, связанных с адаптацией к изменению клим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уется за счет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%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туплений от </a:t>
            </a:r>
            <a:r>
              <a:rPr b="1" lang="ru-RU" sz="2000" spc="-1" strike="noStrike">
                <a:solidFill>
                  <a:srgbClr val="ffc000"/>
                </a:solidFill>
                <a:latin typeface="Calibri"/>
              </a:rPr>
              <a:t>ССВ 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при реализации проектов по линии Механизма чистого развития (МЧР)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из других источников финанс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яющий орга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т Адаптационного фон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ерационные процедур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отаны 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8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ода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олном объеме начал действовать в 2010 год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няты решения о финансирован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нварь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11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чало реализации первого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Calibri"/>
              </a:rPr>
              <a:t>Гондурас: нейтрализация рисков, угрожающих водным ресурсам в связи с изменением клим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447920"/>
            <a:ext cx="5181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юджет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: 5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630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300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долл.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лизуется МУИ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высить устойчивость к рискам, угрожающим водным ресурсам в связи с изменением климата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йонах проживания наиболее уязвимых групп населения в Гондурасе в рамках пилотных мероприятий и интеграции задач адаптации к изменению климата в процесс управления водными ресурс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ен и утвержден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эта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7"/>
          <p:cNvSpPr/>
          <p:nvPr/>
        </p:nvSpPr>
        <p:spPr>
          <a:xfrm>
            <a:off x="0" y="1447920"/>
            <a:ext cx="914400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8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>
            <a:off x="5742000" y="1523880"/>
            <a:ext cx="3173400" cy="2333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3"/>
          <a:stretch/>
        </p:blipFill>
        <p:spPr>
          <a:xfrm>
            <a:off x="5765760" y="3809880"/>
            <a:ext cx="25401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Calibri"/>
              </a:rPr>
              <a:t>25 </a:t>
            </a:r>
            <a:r>
              <a:rPr b="1" lang="ru-RU" sz="4400" spc="-1" strike="noStrike">
                <a:solidFill>
                  <a:srgbClr val="92d050"/>
                </a:solidFill>
                <a:latin typeface="Calibri"/>
              </a:rPr>
              <a:t>проектных предло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33"/>
                </a:solidFill>
                <a:latin typeface="Calibri"/>
              </a:rPr>
              <a:t>Различные сектора</a:t>
            </a:r>
            <a:r>
              <a:rPr b="1" lang="en-US" sz="36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водными ресурсам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авление прибрежными зонам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довольственная безопасност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витие сельских районо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витие городских район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льское хозяйств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кращение рисков, связанных со стихийными бедств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8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5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-4680" y="-15228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609480" y="685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асиб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76320" y="43434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retariat@adaptation-fund.or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6341760" y="281952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adaptation-fun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1638360" y="5334120"/>
            <a:ext cx="6438960" cy="533160"/>
          </a:xfrm>
          <a:prstGeom prst="rect">
            <a:avLst/>
          </a:prstGeom>
          <a:gradFill rotWithShape="0">
            <a:gsLst>
              <a:gs pos="0">
                <a:srgbClr val="5a0305"/>
              </a:gs>
              <a:gs pos="100000">
                <a:srgbClr val="9d0f1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df0e9"/>
                </a:solidFill>
                <a:latin typeface="Arial"/>
              </a:rPr>
              <a:t>2010 год: Первый проект Адаптационного фонда,  финансируемый в рамках прямого доступа и имеющий своей целью борьбу с береговой эрозией в Сенега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df0e9"/>
                </a:solidFill>
                <a:latin typeface="Arial"/>
              </a:rPr>
              <a:t>Фотографии береговой линии любезно предоставлены </a:t>
            </a:r>
            <a:r>
              <a:rPr b="0" lang="en-US" sz="1100" spc="-1" strike="noStrike">
                <a:solidFill>
                  <a:srgbClr val="edf0e9"/>
                </a:solidFill>
                <a:latin typeface="Arial"/>
              </a:rPr>
              <a:t>Dethi Soum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2d050"/>
                </a:solidFill>
                <a:latin typeface="Calibri"/>
              </a:rPr>
              <a:t>Адаптационный фонд (АФ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33"/>
                </a:solidFill>
                <a:latin typeface="Calibri"/>
              </a:rPr>
              <a:t>Инновационный механизм финансирования</a:t>
            </a:r>
            <a:r>
              <a:rPr b="1" lang="en-US" sz="28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уководящий орга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аведливое и сбалансированное представительство Сторон, подписавших Киотский проток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ямой доступ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ресурсам АФ для стран, соответствующих установленным критер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вый источник финансирован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ждународный сбор в размере </a:t>
            </a:r>
            <a:r>
              <a:rPr b="1" lang="en-US" sz="2800" spc="-1" strike="noStrike">
                <a:solidFill>
                  <a:srgbClr val="007033"/>
                </a:solidFill>
                <a:latin typeface="Calibri"/>
              </a:rPr>
              <a:t>2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ССВ,  обеспечиваемых в рамках проектов МЧ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14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41"/>
          <p:cNvSpPr/>
          <p:nvPr/>
        </p:nvSpPr>
        <p:spPr>
          <a:xfrm>
            <a:off x="0" y="640080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Calibri"/>
              </a:rPr>
              <a:t>Институциональная струк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кретариа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ЭФ на временной осно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верительный управляющ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мирный банк на временной осно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ороны  КП приняли решение о пересмотре временной институциональной структуры в 2011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4"/>
          <p:cNvSpPr/>
          <p:nvPr/>
        </p:nvSpPr>
        <p:spPr>
          <a:xfrm>
            <a:off x="1219320" y="3581280"/>
            <a:ext cx="914400" cy="914400"/>
          </a:xfrm>
          <a:prstGeom prst="ellipse">
            <a:avLst/>
          </a:prstGeom>
          <a:solidFill>
            <a:srgbClr val="dd7e0e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1219320" y="5105520"/>
            <a:ext cx="914400" cy="914400"/>
          </a:xfrm>
          <a:prstGeom prst="ellipse">
            <a:avLst/>
          </a:prstGeom>
          <a:solidFill>
            <a:srgbClr val="dd7e0e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11"/>
          <p:cNvSpPr/>
          <p:nvPr/>
        </p:nvSpPr>
        <p:spPr>
          <a:xfrm>
            <a:off x="2666880" y="5181480"/>
            <a:ext cx="990720" cy="7632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12"/>
          <p:cNvSpPr/>
          <p:nvPr/>
        </p:nvSpPr>
        <p:spPr>
          <a:xfrm>
            <a:off x="1676520" y="4572000"/>
            <a:ext cx="46080" cy="76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wn Arrow 13"/>
          <p:cNvSpPr/>
          <p:nvPr/>
        </p:nvSpPr>
        <p:spPr>
          <a:xfrm>
            <a:off x="1676520" y="4648320"/>
            <a:ext cx="46080" cy="304560"/>
          </a:xfrm>
          <a:prstGeom prst="downArrow">
            <a:avLst>
              <a:gd name="adj1" fmla="val 50000"/>
              <a:gd name="adj2" fmla="val 49907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20"/>
          <p:cNvSpPr/>
          <p:nvPr/>
        </p:nvSpPr>
        <p:spPr>
          <a:xfrm>
            <a:off x="2666880" y="5791320"/>
            <a:ext cx="990720" cy="75960"/>
          </a:xfrm>
          <a:prstGeom prst="rightArrow">
            <a:avLst>
              <a:gd name="adj1" fmla="val 50000"/>
              <a:gd name="adj2" fmla="val 50178"/>
            </a:avLst>
          </a:prstGeom>
          <a:solidFill>
            <a:srgbClr val="a5b592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1"/>
          <p:cNvSpPr/>
          <p:nvPr/>
        </p:nvSpPr>
        <p:spPr>
          <a:xfrm>
            <a:off x="3962520" y="4648320"/>
            <a:ext cx="3429000" cy="685800"/>
          </a:xfrm>
          <a:prstGeom prst="rect">
            <a:avLst/>
          </a:prstGeom>
          <a:solidFill>
            <a:srgbClr val="dd7e0e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екретариат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ЭФ на временной основе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2"/>
          <p:cNvSpPr/>
          <p:nvPr/>
        </p:nvSpPr>
        <p:spPr>
          <a:xfrm>
            <a:off x="3886200" y="5486400"/>
            <a:ext cx="3505320" cy="609480"/>
          </a:xfrm>
          <a:prstGeom prst="rect">
            <a:avLst/>
          </a:prstGeom>
          <a:solidFill>
            <a:srgbClr val="dd7e0e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оверительный управляющий (Всемирный банк на временной основе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01000" y="5783400"/>
            <a:ext cx="1143000" cy="947520"/>
          </a:xfrm>
          <a:prstGeom prst="rect">
            <a:avLst/>
          </a:prstGeom>
          <a:ln w="0">
            <a:noFill/>
          </a:ln>
        </p:spPr>
      </p:pic>
      <p:sp>
        <p:nvSpPr>
          <p:cNvPr id="75" name="Straight Connector 15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16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Calibri"/>
              </a:rPr>
              <a:t>Руководящий орган</a:t>
            </a:r>
            <a:r>
              <a:rPr b="1" lang="en-US" sz="4800" spc="-1" strike="noStrike">
                <a:solidFill>
                  <a:srgbClr val="92d050"/>
                </a:solidFill>
                <a:latin typeface="Calibri"/>
              </a:rPr>
              <a:t>: </a:t>
            </a:r>
            <a:r>
              <a:rPr b="1" lang="ru-RU" sz="4800" spc="-1" strike="noStrike">
                <a:solidFill>
                  <a:srgbClr val="92d050"/>
                </a:solidFill>
                <a:latin typeface="Calibri"/>
              </a:rPr>
              <a:t>Совет А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Сове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ключает </a:t>
            </a:r>
            <a:r>
              <a:rPr b="1" lang="en-US" sz="1800" spc="-1" strike="noStrike">
                <a:solidFill>
                  <a:srgbClr val="007033"/>
                </a:solidFill>
                <a:latin typeface="Calibri"/>
              </a:rPr>
              <a:t>16 </a:t>
            </a: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членов</a:t>
            </a:r>
            <a:r>
              <a:rPr b="1" lang="en-US" sz="1800" spc="-1" strike="noStrike">
                <a:solidFill>
                  <a:srgbClr val="007033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их </a:t>
            </a: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заместителей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ставляющих Сторо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Правоспособность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ная Германией в феврале 2011 го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зволяет заключать соглашения с учреждениями-исполнителя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2401"/>
              </a:spcAft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33"/>
                </a:solidFill>
                <a:latin typeface="Calibri"/>
              </a:rPr>
              <a:t>Вспомогательные органы</a:t>
            </a:r>
            <a:r>
              <a:rPr b="1" lang="en-US" sz="1800" spc="-1" strike="noStrike">
                <a:solidFill>
                  <a:srgbClr val="007033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итет по оценке проектов и программ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(PPR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итет по этике и финанса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(EF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уппа по аккредитаци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(A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traight Connector 14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5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Комитет по оценке проектов и програм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язанност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суждать и анализировать проекты и программы, представляемые Совету соответствующими Сторонами в соответствии с Операционными принципами и процедурам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матривать вопросы, возникающие в связи с проектами и программами, представляемыми Совету, в том числе нерешенные вопросы политик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матривать отчеты по проектам и программам,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едставляемые национальными учреждениями-исполнителями (НУИ) и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многосторонним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учреждениями-исполнителями (МУИ) в соответствии с положениями пункта 46 Операционных принципов и процедур и при поддержке Секретариат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читываться перед Советом и представлять ему свои рекомендации относительно утверждения, аннулирования, прекращения или приостановления реализации проектов и программ,  а также по любым другим рассматриваемым им вопроса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матривать любые другие вопросы, обсуждение которых Совет считает целесообразны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8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Комитет по этике и финанс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1887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язанност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Осуществлять контрол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применением Кодекса поведения и регулировать проблемы, связанные с различными его толкованиями, а также с последствиями его нарушен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Анализирова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юджет текущих расходов Совета, секретариата доверительного управляющего и выносить соответствующие рекомендаци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Выносить рекомендаци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Совета относительно общей политики и методов мобилизации ресурсов, в том числе рекомендации доверительного управляющего в отношении монетизации ССВ и получения средств из других источник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33"/>
                </a:solidFill>
                <a:latin typeface="Calibri"/>
              </a:rPr>
              <a:t>Проверят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овую отчетность Фон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83416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90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>
            <a:off x="0" y="624852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2d050"/>
                </a:solidFill>
                <a:latin typeface="Calibri"/>
              </a:rPr>
              <a:t>Комитет по этике и финансам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189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язанност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должени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Оцениват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зультаты деятельности Фонда, НУИ и МУИ с использованием в случае необходимости внутренних и внешних оценок и отчетности, получаемой от  НУИ, МУИ и из других источников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Решать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просы, касающиеся мониторинга и оценки проектов и програм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Осуществлять контроль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 деятельностью Секретариата, в том числе за наймом сотрудников и закупками товаров и услуг и другими действиями, относящимися к компетенции Комитет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Осуществлять контрол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 действиями доверительного управляющего в областях, относящихся к компетенции Комитет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b050"/>
              </a:buClr>
              <a:buFont typeface="Calibri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33"/>
                </a:solidFill>
                <a:latin typeface="Calibri"/>
              </a:rPr>
              <a:t>Рассматриват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юбые другие вопросы, обсуждение которых Совет считает целесообразны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rcRect l="22221" t="12389" r="27785" b="38095"/>
          <a:stretch/>
        </p:blipFill>
        <p:spPr>
          <a:xfrm>
            <a:off x="8077320" y="5783400"/>
            <a:ext cx="1066680" cy="947520"/>
          </a:xfrm>
          <a:prstGeom prst="rect">
            <a:avLst/>
          </a:prstGeom>
          <a:ln w="0">
            <a:noFill/>
          </a:ln>
        </p:spPr>
      </p:pic>
      <p:sp>
        <p:nvSpPr>
          <p:cNvPr id="95" name="Straight Connector 7"/>
          <p:cNvSpPr/>
          <p:nvPr/>
        </p:nvSpPr>
        <p:spPr>
          <a:xfrm>
            <a:off x="0" y="1217520"/>
            <a:ext cx="9144000" cy="180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8"/>
          <p:cNvSpPr/>
          <p:nvPr/>
        </p:nvSpPr>
        <p:spPr>
          <a:xfrm>
            <a:off x="0" y="6551640"/>
            <a:ext cx="8263080" cy="1440"/>
          </a:xfrm>
          <a:prstGeom prst="line">
            <a:avLst/>
          </a:prstGeom>
          <a:ln w="25560">
            <a:solidFill>
              <a:srgbClr val="b7e7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4:29:12Z</dcterms:created>
  <dc:creator>Mikko Ollikainen</dc:creator>
  <dc:description>Generic presentation on the Adaptation Fund.</dc:description>
  <dc:language>en-US</dc:language>
  <cp:lastModifiedBy>wb350798</cp:lastModifiedBy>
  <cp:lastPrinted>2011-09-21T06:45:36Z</cp:lastPrinted>
  <dcterms:modified xsi:type="dcterms:W3CDTF">2011-11-01T21:01:54Z</dcterms:modified>
  <cp:revision>761</cp:revision>
  <dc:subject>Adaptation Fund presentation</dc:subject>
  <dc:title>The Adaptation Fund</dc:title>
</cp:coreProperties>
</file>