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C313-3BE5-4ADE-A66E-437D884C23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B606-1913-4710-A93C-FD9EBC84A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303-010B-4574-B412-A2071A689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F664-ABD3-40CA-80C1-4A74EB353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E350-9810-4997-8540-5CE4FE249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43C1-2CFA-4528-9A53-2B41EC1FA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5D7A-5CAD-4667-9DE6-F0221478E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6623-DC82-460B-A83C-1E24334BA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A53-C447-40CC-9137-6D62C312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811-B845-42ED-ABE5-B7906FEA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2A2-FF6F-409A-81E7-4FD85991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AF1-5E19-49CC-91A9-465E7846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69B-C1B7-496A-AACB-58895CD5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6FC-37EA-4C64-9263-9F648EBF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B34-F3A7-4D70-B01F-C8C67542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BE7-8D92-45E1-848F-9680F0F3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3D0-EBC8-442F-BEF5-00DB4010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623-89F6-47D7-A969-A615B8E8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6E6-0629-44EB-AEA4-FFB803E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099-B27B-4E82-99DD-B1B81F2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146F-BDB1-4B3F-9C20-AB9150493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01T18:24:26Z</dcterms:modified>
  <cp:revision>74</cp:revision>
  <dc:subject/>
  <dc:title>GEF’s Partnership with Civil Society Organizations</dc:title>
</cp:coreProperties>
</file>