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F962-AA7C-4C0F-93E2-EF2FDA89CA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FD4D-7E04-4E31-9844-EA9921914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2F0-A387-42E9-9C49-FF3C8676B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C50F-003D-44A3-BC1D-FD3348034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BB18-D1D6-4800-88E1-1AC137D91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CDA-0532-48BD-9C92-50577F700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7100-0ABD-4006-AF12-1EBF57804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20C-C2DE-458E-9D10-9709E3933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1F7-2ADA-4339-A42B-C5F787D6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C74-83EA-42F9-BCCA-5FE59CD2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A0E-532B-49C0-9A5F-8FB802A6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76A-E72D-48E0-B71F-CD061AB7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9CA-6CBD-4558-9EA8-BB66DD1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88D-7FAD-4A3A-AE84-0379119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331-ABEB-44CD-9584-B3BC651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635-F572-4590-BC44-1CD8FFB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633-C85D-4884-8CCF-31088C0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F37-26AB-4B44-A9A8-E736068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A5F-AE6D-4BBA-B980-AF758512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FB6-5870-4872-9CC3-4265FBC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07E-AC83-433E-B83E-B5FC294DF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18:24:26Z</dcterms:modified>
  <cp:revision>74</cp:revision>
  <dc:subject/>
  <dc:title>GEF’s Partnership with Civil Society Organizations</dc:title>
</cp:coreProperties>
</file>