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5E24-CC8E-407B-8494-234DD557A7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A5EE-833E-4E4B-BA27-B92E7C78F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7540-7346-427A-B0A7-6DAC6CF5D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F2CE-AA7C-401E-86F2-28491DF77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5CD-9F2B-48C4-AD29-DEA6AA6BF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F2F0-EF0D-4660-A98D-76A54B3E27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5AF7-9955-48AE-A4E6-CF7204D236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0B7-81C9-4C81-99A9-1818187B5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4CF-ADF3-4CF7-A0B8-EFB50CF8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B03-A2C1-45C4-BB58-3923818D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AB2F-832E-42DA-A543-3F915FB3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FA9-AFC6-4108-81A5-20C34576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EB4-D253-4A5D-8672-9C166A3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121-FFC1-40D9-81D1-36B75DB5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41D-C3A1-410E-8370-DFC8BB84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C22-4DBB-432D-ABB4-FEAF258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B325-6D1F-43FB-A3C2-1DA6E6B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5B8-9064-4677-B96A-3737474B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6C9-6BF5-4661-B998-B02626BD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2F5-E602-41D1-8268-2A23118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C01A-E85B-43A2-86BC-4A17D61E4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18:24:26Z</dcterms:modified>
  <cp:revision>74</cp:revision>
  <dc:subject/>
  <dc:title>GEF’s Partnership with Civil Society Organizations</dc:title>
</cp:coreProperties>
</file>