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506E-D15B-4BCA-B7F2-EF9973750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9A60-FBBA-4C0F-BBA9-C295D903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B8A5-4C30-4B6C-8978-F0AB6705B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53E8-2731-4509-B847-D2D29831B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0DAD-35FE-4128-8FB4-0B68A52A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08F7-2E04-42CB-B74C-5FDEEB65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3DF9-F9A5-4FFE-AEEE-C032F408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0752-2AD0-4928-A74A-4B7653BD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1C37-B3D4-43D8-B11E-C05EB61D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7670-509B-4EBA-A417-F032D23C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F903-4D27-4A4A-BCA4-D8748C80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25C2-3B9A-421F-A7A0-30C7CA61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B595-12A8-40E0-BBFF-D585A8311A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42d"/>
                </a:solidFill>
                <a:latin typeface="Arial"/>
                <a:ea typeface="Arial"/>
              </a:rPr>
              <a:t>Отслеживание проектных концепций с использованием ИСУ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43" name="Subtitle 4"/>
          <p:cNvSpPr/>
          <p:nvPr/>
        </p:nvSpPr>
        <p:spPr>
          <a:xfrm>
            <a:off x="990720" y="3809880"/>
            <a:ext cx="7238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2d"/>
                </a:solidFill>
                <a:latin typeface="Arial"/>
              </a:rPr>
              <a:t>Семинар для членов ГЭФ</a:t>
            </a:r>
            <a:br>
              <a:rPr sz="2800"/>
            </a:br>
            <a:r>
              <a:rPr b="1" lang="ru-RU" sz="2800" spc="-1" strike="noStrike">
                <a:solidFill>
                  <a:srgbClr val="00642d"/>
                </a:solidFill>
                <a:latin typeface="Arial"/>
              </a:rPr>
              <a:t>в расширенном соста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Arial"/>
              </a:rPr>
              <a:t>11 – 13</a:t>
            </a:r>
            <a:r>
              <a:rPr b="1" lang="ru-RU" sz="2800" spc="-1" strike="noStrike">
                <a:solidFill>
                  <a:srgbClr val="00642d"/>
                </a:solidFill>
                <a:latin typeface="Arial"/>
              </a:rPr>
              <a:t> октября</a:t>
            </a:r>
            <a:r>
              <a:rPr b="1" lang="en-US" sz="2800" spc="-1" strike="noStrike">
                <a:solidFill>
                  <a:srgbClr val="00642d"/>
                </a:solidFill>
                <a:latin typeface="Arial"/>
              </a:rPr>
              <a:t> 2011</a:t>
            </a:r>
            <a:r>
              <a:rPr b="1" lang="ru-RU" sz="2800" spc="-1" strike="noStrike">
                <a:solidFill>
                  <a:srgbClr val="00642d"/>
                </a:solidFill>
                <a:latin typeface="Arial"/>
              </a:rPr>
              <a:t>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2d"/>
                </a:solidFill>
                <a:latin typeface="Arial"/>
              </a:rPr>
              <a:t>Ташкент</a:t>
            </a:r>
            <a:r>
              <a:rPr b="1" lang="en-US" sz="2800" spc="-1" strike="noStrike">
                <a:solidFill>
                  <a:srgbClr val="00642d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642d"/>
                </a:solidFill>
                <a:latin typeface="Arial"/>
              </a:rPr>
              <a:t>Узбекис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одзаголовок 2"/>
          <p:cNvSpPr/>
          <p:nvPr/>
        </p:nvSpPr>
        <p:spPr>
          <a:xfrm>
            <a:off x="124776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одзаголовок 2"/>
          <p:cNvSpPr/>
          <p:nvPr/>
        </p:nvSpPr>
        <p:spPr>
          <a:xfrm>
            <a:off x="1324080" y="246240"/>
            <a:ext cx="384948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одзаголовок 2"/>
          <p:cNvSpPr/>
          <p:nvPr/>
        </p:nvSpPr>
        <p:spPr>
          <a:xfrm>
            <a:off x="514440" y="560520"/>
            <a:ext cx="642960" cy="12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ле сохранения первоначальной концепции ей присваивается идентификационный номер. После присвоения концепции идентификационного номера к ней можно  прилагать  соответствующие докум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610400" cy="4095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136" name="Подзаголовок 2"/>
          <p:cNvSpPr/>
          <p:nvPr/>
        </p:nvSpPr>
        <p:spPr>
          <a:xfrm>
            <a:off x="1246320" y="628164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одзаголовок 2"/>
          <p:cNvSpPr/>
          <p:nvPr/>
        </p:nvSpPr>
        <p:spPr>
          <a:xfrm>
            <a:off x="1324080" y="6046920"/>
            <a:ext cx="38494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одзаголовок 2"/>
          <p:cNvSpPr/>
          <p:nvPr/>
        </p:nvSpPr>
        <p:spPr>
          <a:xfrm>
            <a:off x="504720" y="6370560"/>
            <a:ext cx="642960" cy="12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97080" y="646200"/>
            <a:ext cx="52704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fbfbf"/>
                </a:solidFill>
                <a:latin typeface="Arial"/>
              </a:rPr>
              <a:t>Схема обработки проектных концепций в системе ИСУ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57200" y="1600200"/>
          <a:ext cx="8153280" cy="3886200"/>
        </p:xfrm>
        <a:graphic>
          <a:graphicData uri="http://schemas.openxmlformats.org/drawingml/2006/table">
            <a:tbl>
              <a:tblPr/>
              <a:tblGrid>
                <a:gridCol w="1523880"/>
                <a:gridCol w="1143000"/>
                <a:gridCol w="1143000"/>
                <a:gridCol w="1371600"/>
                <a:gridCol w="642960"/>
                <a:gridCol w="1163880"/>
                <a:gridCol w="116496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29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генство ГЭ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кретариат ГЭ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142" name="TextBox 8"/>
          <p:cNvSpPr/>
          <p:nvPr/>
        </p:nvSpPr>
        <p:spPr>
          <a:xfrm>
            <a:off x="1600200" y="198108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вод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нцеп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Straight Arrow Connector 10"/>
          <p:cNvCxnSpPr/>
          <p:nvPr/>
        </p:nvCxnSpPr>
        <p:spPr>
          <a:xfrm>
            <a:off x="1143000" y="2286000"/>
            <a:ext cx="3816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TextBox 12"/>
          <p:cNvSpPr/>
          <p:nvPr/>
        </p:nvSpPr>
        <p:spPr>
          <a:xfrm>
            <a:off x="3124080" y="1981080"/>
            <a:ext cx="167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хранение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редактирование концеп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Straight Arrow Connector 21"/>
          <p:cNvCxnSpPr/>
          <p:nvPr/>
        </p:nvCxnSpPr>
        <p:spPr>
          <a:xfrm>
            <a:off x="2743200" y="2286000"/>
            <a:ext cx="3816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6" name="TextBox 22"/>
          <p:cNvSpPr/>
          <p:nvPr/>
        </p:nvSpPr>
        <p:spPr>
          <a:xfrm>
            <a:off x="5410080" y="205740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дставление концепции агенством ГЭ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Straight Arrow Connector 23"/>
          <p:cNvCxnSpPr/>
          <p:nvPr/>
        </p:nvCxnSpPr>
        <p:spPr>
          <a:xfrm>
            <a:off x="4800600" y="2286000"/>
            <a:ext cx="3816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8" name="Подзаголовок 2"/>
          <p:cNvSpPr/>
          <p:nvPr/>
        </p:nvSpPr>
        <p:spPr>
          <a:xfrm>
            <a:off x="1246320" y="628164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одзаголовок 2"/>
          <p:cNvSpPr/>
          <p:nvPr/>
        </p:nvSpPr>
        <p:spPr>
          <a:xfrm>
            <a:off x="1324080" y="6046920"/>
            <a:ext cx="38494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одзаголовок 2"/>
          <p:cNvSpPr/>
          <p:nvPr/>
        </p:nvSpPr>
        <p:spPr>
          <a:xfrm>
            <a:off x="514440" y="6370560"/>
            <a:ext cx="642960" cy="12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-12600" y="575640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4"/>
          <p:cNvSpPr/>
          <p:nvPr/>
        </p:nvSpPr>
        <p:spPr>
          <a:xfrm>
            <a:off x="228600" y="380880"/>
            <a:ext cx="87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КРАН ВВОДА ИНФОРМАЦИИ О ПРОЕКТНОЙ КОНЦЕПЦИИ В СИСТЕМЕ ИСУ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228600" y="685800"/>
            <a:ext cx="876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 введения данных о  проектной концепции дополнительные поля становятся доступными для редактирования, 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Ц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гут представит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ектную концепцию агенством ГЭФ или отказаться от концепци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3352680" y="0"/>
            <a:ext cx="57913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fbfbf"/>
                </a:solidFill>
                <a:latin typeface="Arial"/>
              </a:rPr>
              <a:t>Схема обработки проектных концеп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2"/>
          <a:stretch/>
        </p:blipFill>
        <p:spPr>
          <a:xfrm>
            <a:off x="838080" y="1905120"/>
            <a:ext cx="7010640" cy="28954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637200" y="5029200"/>
            <a:ext cx="631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 утверждения проектной концепции агенством ГЭФ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Ц уже не может отказаться от концепци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одзаголовок 2"/>
          <p:cNvSpPr/>
          <p:nvPr/>
        </p:nvSpPr>
        <p:spPr>
          <a:xfrm>
            <a:off x="1255680" y="625320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одзаголовок 2"/>
          <p:cNvSpPr/>
          <p:nvPr/>
        </p:nvSpPr>
        <p:spPr>
          <a:xfrm>
            <a:off x="1293840" y="596124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одзаголовок 2"/>
          <p:cNvSpPr/>
          <p:nvPr/>
        </p:nvSpPr>
        <p:spPr>
          <a:xfrm>
            <a:off x="523800" y="6330960"/>
            <a:ext cx="642960" cy="12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1447920" y="2362320"/>
            <a:ext cx="5286240" cy="363204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251640" y="914400"/>
            <a:ext cx="707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КРАН ВВОДА ИНФОРМАЦИИ О ПРОЕКТНОЙ КОНЦЕПЦИИ В СИСТЕМ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У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470160" y="1295280"/>
            <a:ext cx="78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дел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ты осуществления действий" отражает последова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ений статуса проектной концепции  в соответствии с действия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ществляемыми ОКЦ или агенством ГЭФ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3809880" y="0"/>
            <a:ext cx="5334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fbfbf"/>
                </a:solidFill>
                <a:latin typeface="Arial"/>
              </a:rPr>
              <a:t>Схема обработки проектных концеп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304920" y="609480"/>
            <a:ext cx="49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МПЬЮТЕРНАЯ РАСПЕЧАТКА ИНФОРМАЦИИ О ПРОЕКТ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ЦЕПЦИИ В СИСТЕМЕ ИСУ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 flipV="1" rot="10800000">
            <a:off x="303120" y="1371240"/>
            <a:ext cx="1169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Ц и агенство ГЭФ могут распечатать проектную концепцию непосредствен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экранов своих дисплеев, отражающих список концепций, щелкнув кнопкой мышки соответствующую иконку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8487000" cy="297180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2"/>
          <p:cNvSpPr/>
          <p:nvPr/>
        </p:nvSpPr>
        <p:spPr>
          <a:xfrm>
            <a:off x="3809880" y="0"/>
            <a:ext cx="5334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fbfbf"/>
                </a:solidFill>
                <a:latin typeface="Arial"/>
              </a:rPr>
              <a:t>Схема обработки проектных концеп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-12600" y="581184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169" name="Подзаголовок 2"/>
          <p:cNvSpPr/>
          <p:nvPr/>
        </p:nvSpPr>
        <p:spPr>
          <a:xfrm>
            <a:off x="1258920" y="6272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одзаголовок 2"/>
          <p:cNvSpPr/>
          <p:nvPr/>
        </p:nvSpPr>
        <p:spPr>
          <a:xfrm>
            <a:off x="1324080" y="6046920"/>
            <a:ext cx="38494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одзаголовок 2"/>
          <p:cNvSpPr/>
          <p:nvPr/>
        </p:nvSpPr>
        <p:spPr>
          <a:xfrm>
            <a:off x="493560" y="6381720"/>
            <a:ext cx="642960" cy="12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183520" cy="3429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304920" y="457200"/>
            <a:ext cx="785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ЕРЕСЫЛКА ПО ЭЛЕКТРОННОЙ ПОЧТЕ ИНФОРМАЦИИ О ПРОЕКТ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ОНЦЕПЦИИ В СИСТЕМЕ  ИСУ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457200" y="1219320"/>
            <a:ext cx="8077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Ц и агенство ГЭФ могут отправить по электронной почте информацию о проектной концепци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осредственно с экранов своих дисплеев, отражающих список концепций, щелкнув кнопкой мышки соответствующую иконку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3809880" y="0"/>
            <a:ext cx="5334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fbfbf"/>
                </a:solidFill>
                <a:latin typeface="Arial"/>
              </a:rPr>
              <a:t>Схема обработки проектных концеп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2"/>
          <a:stretch/>
        </p:blipFill>
        <p:spPr>
          <a:xfrm>
            <a:off x="6480" y="577224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6"/>
          <p:cNvSpPr/>
          <p:nvPr/>
        </p:nvSpPr>
        <p:spPr>
          <a:xfrm>
            <a:off x="1595160" y="5410080"/>
            <a:ext cx="614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 сообщению, отправляемому по электронной почте, также будут приложе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окументы, имеющие отношение к проектной концеп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одзаголовок 2"/>
          <p:cNvSpPr/>
          <p:nvPr/>
        </p:nvSpPr>
        <p:spPr>
          <a:xfrm>
            <a:off x="1265400" y="628164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одзаголовок 2"/>
          <p:cNvSpPr/>
          <p:nvPr/>
        </p:nvSpPr>
        <p:spPr>
          <a:xfrm>
            <a:off x="1324080" y="6046920"/>
            <a:ext cx="38494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одзаголовок 2"/>
          <p:cNvSpPr/>
          <p:nvPr/>
        </p:nvSpPr>
        <p:spPr>
          <a:xfrm>
            <a:off x="533520" y="6351480"/>
            <a:ext cx="642960" cy="12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304920" y="457200"/>
            <a:ext cx="70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водный отчет  по проектной концепции, составляемый ОК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304920" y="90504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й сводный отчет ОКЦ может быть составлен по таким параметрам, как название агенства ГЭФ и статус концеп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131760" y="1905120"/>
            <a:ext cx="9012240" cy="36576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2"/>
          <p:cNvSpPr/>
          <p:nvPr/>
        </p:nvSpPr>
        <p:spPr>
          <a:xfrm>
            <a:off x="3809880" y="0"/>
            <a:ext cx="5334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fbfbf"/>
                </a:solidFill>
                <a:latin typeface="Arial"/>
              </a:rPr>
              <a:t>Схема обработки проектных концеп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2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186" name="Подзаголовок 2"/>
          <p:cNvSpPr/>
          <p:nvPr/>
        </p:nvSpPr>
        <p:spPr>
          <a:xfrm>
            <a:off x="1265400" y="628164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одзаголовок 2"/>
          <p:cNvSpPr/>
          <p:nvPr/>
        </p:nvSpPr>
        <p:spPr>
          <a:xfrm>
            <a:off x="1324080" y="6046920"/>
            <a:ext cx="38494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одзаголовок 2"/>
          <p:cNvSpPr/>
          <p:nvPr/>
        </p:nvSpPr>
        <p:spPr>
          <a:xfrm>
            <a:off x="514440" y="6361200"/>
            <a:ext cx="642960" cy="12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97080" y="76320"/>
            <a:ext cx="53388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fbfbf"/>
                </a:solidFill>
                <a:latin typeface="Arial"/>
              </a:rPr>
              <a:t>Схема обработки проектных концепций </a:t>
            </a:r>
            <a:br>
              <a:rPr sz="2000"/>
            </a:br>
            <a:r>
              <a:rPr b="1" lang="ru-RU" sz="2000" spc="-1" strike="noStrike">
                <a:solidFill>
                  <a:srgbClr val="bfbfbf"/>
                </a:solidFill>
                <a:latin typeface="Arial"/>
              </a:rPr>
              <a:t>в системе ИСУ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228600" y="811080"/>
          <a:ext cx="8305920" cy="4926240"/>
        </p:xfrm>
        <a:graphic>
          <a:graphicData uri="http://schemas.openxmlformats.org/drawingml/2006/table">
            <a:tbl>
              <a:tblPr/>
              <a:tblGrid>
                <a:gridCol w="1447920"/>
                <a:gridCol w="880920"/>
                <a:gridCol w="1397160"/>
                <a:gridCol w="1396800"/>
                <a:gridCol w="809640"/>
                <a:gridCol w="1187640"/>
                <a:gridCol w="1185840"/>
              </a:tblGrid>
              <a:tr h="2389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635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генство ГЭ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901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кретариат ГЭ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192" name="TextBox 8"/>
          <p:cNvSpPr/>
          <p:nvPr/>
        </p:nvSpPr>
        <p:spPr>
          <a:xfrm>
            <a:off x="1752480" y="18288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вод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нцеп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Straight Arrow Connector 10"/>
          <p:cNvCxnSpPr/>
          <p:nvPr/>
        </p:nvCxnSpPr>
        <p:spPr>
          <a:xfrm>
            <a:off x="1294920" y="2057400"/>
            <a:ext cx="3819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94" name="TextBox 12"/>
          <p:cNvSpPr/>
          <p:nvPr/>
        </p:nvSpPr>
        <p:spPr>
          <a:xfrm>
            <a:off x="3505320" y="175248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хранение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редактирование концеп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Straight Arrow Connector 21"/>
          <p:cNvCxnSpPr/>
          <p:nvPr/>
        </p:nvCxnSpPr>
        <p:spPr>
          <a:xfrm>
            <a:off x="2971800" y="2133720"/>
            <a:ext cx="3816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96" name="TextBox 22"/>
          <p:cNvSpPr/>
          <p:nvPr/>
        </p:nvSpPr>
        <p:spPr>
          <a:xfrm>
            <a:off x="5562720" y="1449360"/>
            <a:ext cx="23619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дставление концепции агеснтва ГЭ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едомление по электронной почт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Straight Arrow Connector 23"/>
          <p:cNvCxnSpPr/>
          <p:nvPr/>
        </p:nvCxnSpPr>
        <p:spPr>
          <a:xfrm>
            <a:off x="5105520" y="2133720"/>
            <a:ext cx="3816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98" name="TextBox 13"/>
          <p:cNvSpPr/>
          <p:nvPr/>
        </p:nvSpPr>
        <p:spPr>
          <a:xfrm>
            <a:off x="5289480" y="3978360"/>
            <a:ext cx="286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истеме  ИСУП концепция появляется в списке текущих дел агенства ГЭ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Straight Arrow Connector 14"/>
          <p:cNvCxnSpPr/>
          <p:nvPr/>
        </p:nvCxnSpPr>
        <p:spPr>
          <a:xfrm flipH="1">
            <a:off x="6399000" y="2895120"/>
            <a:ext cx="216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0" name="Straight Arrow Connector 18"/>
          <p:cNvCxnSpPr/>
          <p:nvPr/>
        </p:nvCxnSpPr>
        <p:spPr>
          <a:xfrm flipH="1">
            <a:off x="6400440" y="3505320"/>
            <a:ext cx="216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1" name="Straight Arrow Connector 19"/>
          <p:cNvCxnSpPr/>
          <p:nvPr/>
        </p:nvCxnSpPr>
        <p:spPr>
          <a:xfrm flipH="1">
            <a:off x="6399000" y="4952520"/>
            <a:ext cx="216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2" name="TextBox 20"/>
          <p:cNvSpPr/>
          <p:nvPr/>
        </p:nvSpPr>
        <p:spPr>
          <a:xfrm>
            <a:off x="5181480" y="53341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пирование/уведомл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одзаголовок 2"/>
          <p:cNvSpPr/>
          <p:nvPr/>
        </p:nvSpPr>
        <p:spPr>
          <a:xfrm>
            <a:off x="1265400" y="628164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одзаголовок 2"/>
          <p:cNvSpPr/>
          <p:nvPr/>
        </p:nvSpPr>
        <p:spPr>
          <a:xfrm>
            <a:off x="1324080" y="6046920"/>
            <a:ext cx="38494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одзаголовок 2"/>
          <p:cNvSpPr/>
          <p:nvPr/>
        </p:nvSpPr>
        <p:spPr>
          <a:xfrm>
            <a:off x="504720" y="6380280"/>
            <a:ext cx="642960" cy="12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380880" y="5335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кран списка проектных концепций у организации ГЭ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304920" y="905040"/>
            <a:ext cx="7924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входа в систему ИСУП перед пользователем, представляющим агенство ГЭФ, первой появляется экранная страница "Концепции". Находясь на этой странице, вы можете распечатывать, просматривать, утверждать или отклонять  полученные проектные концепции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3581280" y="-190440"/>
            <a:ext cx="54104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fbfbf"/>
                </a:solidFill>
                <a:latin typeface="Arial"/>
              </a:rPr>
              <a:t>Схема обработки проектных концеп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8224560" cy="3581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211" name="Подзаголовок 2"/>
          <p:cNvSpPr/>
          <p:nvPr/>
        </p:nvSpPr>
        <p:spPr>
          <a:xfrm>
            <a:off x="1265400" y="628164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одзаголовок 2"/>
          <p:cNvSpPr/>
          <p:nvPr/>
        </p:nvSpPr>
        <p:spPr>
          <a:xfrm>
            <a:off x="1324080" y="6046920"/>
            <a:ext cx="38494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одзаголовок 2"/>
          <p:cNvSpPr/>
          <p:nvPr/>
        </p:nvSpPr>
        <p:spPr>
          <a:xfrm>
            <a:off x="528480" y="6367320"/>
            <a:ext cx="59400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286480" cy="38098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80880" y="380880"/>
            <a:ext cx="78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КРАН ВВОДА ИНФОРМАЦИИ О ПРОЕКТНОЙ КОНЦЕПЦИИ В СИСТЕМЕ ИСУ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622440" y="990720"/>
            <a:ext cx="68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дел "Проектные концепции" содержит основную  информацию, введенную ОКЦ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809880" y="0"/>
            <a:ext cx="5334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fbfbf"/>
                </a:solidFill>
                <a:latin typeface="Arial"/>
              </a:rPr>
              <a:t>Схема обработки проектных концеп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219" name="Подзаголовок 2"/>
          <p:cNvSpPr/>
          <p:nvPr/>
        </p:nvSpPr>
        <p:spPr>
          <a:xfrm>
            <a:off x="1265400" y="628164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одзаголовок 2"/>
          <p:cNvSpPr/>
          <p:nvPr/>
        </p:nvSpPr>
        <p:spPr>
          <a:xfrm>
            <a:off x="1324080" y="6046920"/>
            <a:ext cx="38494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одзаголовок 2"/>
          <p:cNvSpPr/>
          <p:nvPr/>
        </p:nvSpPr>
        <p:spPr>
          <a:xfrm>
            <a:off x="509760" y="6367320"/>
            <a:ext cx="59364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равочная информа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нструмент для контроля за деятельностью, предшествующей подготовке формы для определения проектов  (ФОП),  был разработан в ответ на замечания Совета и с учетом обеспокоенности, высказываемой многими странами в связи с отсутствием информации о статусе ряда концепций, которые они обсуждали с агенствами ГЭФ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целях облегчения отслеживания этого показателя прогресса Секретариат разработал веб-страницу, позволяющую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перативным координационным центрам (ОКЦ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иксировать проектные концепции с тем, чтобы  можно было отслеживать их состояние в системе ИСУП ГЭФ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50" name="Подзаголовок 2"/>
          <p:cNvSpPr/>
          <p:nvPr/>
        </p:nvSpPr>
        <p:spPr>
          <a:xfrm>
            <a:off x="1265400" y="628164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дзаголовок 2"/>
          <p:cNvSpPr/>
          <p:nvPr/>
        </p:nvSpPr>
        <p:spPr>
          <a:xfrm>
            <a:off x="1324080" y="6046920"/>
            <a:ext cx="38494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дзаголовок 2"/>
          <p:cNvSpPr/>
          <p:nvPr/>
        </p:nvSpPr>
        <p:spPr>
          <a:xfrm>
            <a:off x="533520" y="6351480"/>
            <a:ext cx="642960" cy="12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491760"/>
            <a:ext cx="73152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fbfbf"/>
                </a:solidFill>
                <a:latin typeface="Arial"/>
              </a:rPr>
              <a:t>Схема обработки проектных концепций в системе ИСУ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228600" y="1600200"/>
          <a:ext cx="8686800" cy="4265640"/>
        </p:xfrm>
        <a:graphic>
          <a:graphicData uri="http://schemas.openxmlformats.org/drawingml/2006/table">
            <a:tbl>
              <a:tblPr/>
              <a:tblGrid>
                <a:gridCol w="1371600"/>
                <a:gridCol w="838080"/>
                <a:gridCol w="1295640"/>
                <a:gridCol w="1371600"/>
                <a:gridCol w="2057400"/>
                <a:gridCol w="914400"/>
                <a:gridCol w="83808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99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генство ГЭ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кретариат ГЭ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225" name="TextBox 8"/>
          <p:cNvSpPr/>
          <p:nvPr/>
        </p:nvSpPr>
        <p:spPr>
          <a:xfrm>
            <a:off x="1523880" y="2008080"/>
            <a:ext cx="1143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вод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онцепции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Straight Arrow Connector 10"/>
          <p:cNvCxnSpPr/>
          <p:nvPr/>
        </p:nvCxnSpPr>
        <p:spPr>
          <a:xfrm>
            <a:off x="1143000" y="2190240"/>
            <a:ext cx="3816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7" name="TextBox 12"/>
          <p:cNvSpPr/>
          <p:nvPr/>
        </p:nvSpPr>
        <p:spPr>
          <a:xfrm>
            <a:off x="2590920" y="1905120"/>
            <a:ext cx="12952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охранение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редактирование концеп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Straight Arrow Connector 21"/>
          <p:cNvCxnSpPr/>
          <p:nvPr/>
        </p:nvCxnSpPr>
        <p:spPr>
          <a:xfrm>
            <a:off x="2276640" y="2162160"/>
            <a:ext cx="3816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9" name="TextBox 22"/>
          <p:cNvSpPr/>
          <p:nvPr/>
        </p:nvSpPr>
        <p:spPr>
          <a:xfrm>
            <a:off x="4268880" y="1752480"/>
            <a:ext cx="1751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едставление концепции агенство ГЭ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Straight Arrow Connector 23"/>
          <p:cNvCxnSpPr/>
          <p:nvPr/>
        </p:nvCxnSpPr>
        <p:spPr>
          <a:xfrm>
            <a:off x="3790440" y="2123640"/>
            <a:ext cx="3819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31" name="TextBox 11"/>
          <p:cNvSpPr/>
          <p:nvPr/>
        </p:nvSpPr>
        <p:spPr>
          <a:xfrm>
            <a:off x="4114800" y="2878200"/>
            <a:ext cx="12952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Уведомление по электронной почт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3"/>
          <p:cNvSpPr/>
          <p:nvPr/>
        </p:nvSpPr>
        <p:spPr>
          <a:xfrm>
            <a:off x="3657600" y="3505320"/>
            <a:ext cx="19051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 системе  ИСУП концепция появляется в списке  текущих  дел агенства ГЭ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Straight Arrow Connector 14"/>
          <p:cNvCxnSpPr/>
          <p:nvPr/>
        </p:nvCxnSpPr>
        <p:spPr>
          <a:xfrm flipH="1">
            <a:off x="4722480" y="2362320"/>
            <a:ext cx="216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4" name="Straight Arrow Connector 18"/>
          <p:cNvCxnSpPr/>
          <p:nvPr/>
        </p:nvCxnSpPr>
        <p:spPr>
          <a:xfrm flipH="1">
            <a:off x="4722480" y="3276360"/>
            <a:ext cx="216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5" name="Straight Arrow Connector 19"/>
          <p:cNvCxnSpPr/>
          <p:nvPr/>
        </p:nvCxnSpPr>
        <p:spPr>
          <a:xfrm flipH="1">
            <a:off x="4723560" y="4563720"/>
            <a:ext cx="252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36" name="TextBox 20"/>
          <p:cNvSpPr/>
          <p:nvPr/>
        </p:nvSpPr>
        <p:spPr>
          <a:xfrm>
            <a:off x="4119840" y="4952880"/>
            <a:ext cx="1075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опирование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уведомле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6"/>
          <p:cNvSpPr/>
          <p:nvPr/>
        </p:nvSpPr>
        <p:spPr>
          <a:xfrm>
            <a:off x="5791320" y="2809800"/>
            <a:ext cx="2133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верждает концепцию с ее последующей  разработкой совместно с ОК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7"/>
          <p:cNvSpPr/>
          <p:nvPr/>
        </p:nvSpPr>
        <p:spPr>
          <a:xfrm>
            <a:off x="5867280" y="380988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лоняет/удаляет концепцию (после консультаций с ОКЦ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traight Connector 30"/>
          <p:cNvSpPr/>
          <p:nvPr/>
        </p:nvSpPr>
        <p:spPr>
          <a:xfrm>
            <a:off x="5445000" y="3686040"/>
            <a:ext cx="10670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Straight Arrow Connector 36"/>
          <p:cNvCxnSpPr/>
          <p:nvPr/>
        </p:nvCxnSpPr>
        <p:spPr>
          <a:xfrm flipH="1">
            <a:off x="6551280" y="3619080"/>
            <a:ext cx="216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Straight Arrow Connector 37"/>
          <p:cNvCxnSpPr/>
          <p:nvPr/>
        </p:nvCxnSpPr>
        <p:spPr>
          <a:xfrm flipV="1">
            <a:off x="6551640" y="3399840"/>
            <a:ext cx="216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2" name="TextBox 40"/>
          <p:cNvSpPr/>
          <p:nvPr/>
        </p:nvSpPr>
        <p:spPr>
          <a:xfrm>
            <a:off x="5867280" y="4927680"/>
            <a:ext cx="2667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матическое напоминание  в адрес  агенства ГЭФ направляется по электронной почте (через 20 дней, затем через 30 дне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Straight Arrow Connector 41"/>
          <p:cNvCxnSpPr/>
          <p:nvPr/>
        </p:nvCxnSpPr>
        <p:spPr>
          <a:xfrm flipH="1">
            <a:off x="6562440" y="4438800"/>
            <a:ext cx="216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4" name="Подзаголовок 2"/>
          <p:cNvSpPr/>
          <p:nvPr/>
        </p:nvSpPr>
        <p:spPr>
          <a:xfrm>
            <a:off x="1265400" y="628164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одзаголовок 2"/>
          <p:cNvSpPr/>
          <p:nvPr/>
        </p:nvSpPr>
        <p:spPr>
          <a:xfrm>
            <a:off x="1324080" y="6046920"/>
            <a:ext cx="38494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одзаголовок 2"/>
          <p:cNvSpPr/>
          <p:nvPr/>
        </p:nvSpPr>
        <p:spPr>
          <a:xfrm>
            <a:off x="528480" y="6367320"/>
            <a:ext cx="59400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77320" cy="44956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403560" y="380880"/>
            <a:ext cx="70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КРАН ВВОДА ИНФОРМАЦИИ О ПРОЕКТНОЙ КОНЦЕПЦИИ В СИСТЕМЕ ИСУ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732960" y="685800"/>
            <a:ext cx="690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течение 30 дней агенства ГЭФ должны предприня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ответствующие действия 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отношении концепции – принять ее или отклони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3809880" y="0"/>
            <a:ext cx="5334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fbfbf"/>
                </a:solidFill>
                <a:latin typeface="Arial"/>
              </a:rPr>
              <a:t>Схема обработки проектных концеп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2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252" name="Подзаголовок 2"/>
          <p:cNvSpPr/>
          <p:nvPr/>
        </p:nvSpPr>
        <p:spPr>
          <a:xfrm>
            <a:off x="1265400" y="628164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одзаголовок 2"/>
          <p:cNvSpPr/>
          <p:nvPr/>
        </p:nvSpPr>
        <p:spPr>
          <a:xfrm>
            <a:off x="1295280" y="6019920"/>
            <a:ext cx="384984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одзаголовок 2"/>
          <p:cNvSpPr/>
          <p:nvPr/>
        </p:nvSpPr>
        <p:spPr>
          <a:xfrm>
            <a:off x="528480" y="6367320"/>
            <a:ext cx="59400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139240" cy="43434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403560" y="380880"/>
            <a:ext cx="70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КРАН ВВОДА ИНФОРМАЦИИ О ПРОЕКТНОЙ КОНЦЕПЦИИ В СИСТЕМЕ ИСУ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609480" y="685800"/>
            <a:ext cx="746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генства ГЭФ могут отказаться от концепции после того, как приняли е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3809880" y="0"/>
            <a:ext cx="5334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fbfbf"/>
                </a:solidFill>
                <a:latin typeface="Arial"/>
              </a:rPr>
              <a:t>Схема обработки проектных концеп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2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260" name="Подзаголовок 2"/>
          <p:cNvSpPr/>
          <p:nvPr/>
        </p:nvSpPr>
        <p:spPr>
          <a:xfrm>
            <a:off x="1265400" y="628164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одзаголовок 2"/>
          <p:cNvSpPr/>
          <p:nvPr/>
        </p:nvSpPr>
        <p:spPr>
          <a:xfrm>
            <a:off x="1324080" y="6046920"/>
            <a:ext cx="38494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одзаголовок 2"/>
          <p:cNvSpPr/>
          <p:nvPr/>
        </p:nvSpPr>
        <p:spPr>
          <a:xfrm>
            <a:off x="528480" y="6367320"/>
            <a:ext cx="59400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4"/>
          <p:cNvSpPr/>
          <p:nvPr/>
        </p:nvSpPr>
        <p:spPr>
          <a:xfrm>
            <a:off x="878040" y="380880"/>
            <a:ext cx="69624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Сводный отчет по проектной концепции, составляемый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агенством ГЭФ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228600" y="1066680"/>
            <a:ext cx="838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нный  сводный отчет агенством ГЭФ может быть составлен по таким параметра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название страны и статус концеп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8534160" cy="419112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2"/>
          <p:cNvSpPr/>
          <p:nvPr/>
        </p:nvSpPr>
        <p:spPr>
          <a:xfrm>
            <a:off x="3809880" y="0"/>
            <a:ext cx="5334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fbfbf"/>
                </a:solidFill>
                <a:latin typeface="Arial"/>
              </a:rPr>
              <a:t>Схема обработки проектных концеп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одзаголовок 2"/>
          <p:cNvSpPr/>
          <p:nvPr/>
        </p:nvSpPr>
        <p:spPr>
          <a:xfrm>
            <a:off x="1265400" y="628164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одзаголовок 2"/>
          <p:cNvSpPr/>
          <p:nvPr/>
        </p:nvSpPr>
        <p:spPr>
          <a:xfrm>
            <a:off x="1324080" y="6046920"/>
            <a:ext cx="38494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одзаголовок 2"/>
          <p:cNvSpPr/>
          <p:nvPr/>
        </p:nvSpPr>
        <p:spPr>
          <a:xfrm>
            <a:off x="528480" y="6367320"/>
            <a:ext cx="59400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33360" y="660240"/>
            <a:ext cx="668016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fbfbf"/>
                </a:solidFill>
                <a:latin typeface="Arial"/>
              </a:rPr>
              <a:t>Схема обработки проектных концепций в системе ИСУ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3" name=""/>
          <p:cNvGraphicFramePr/>
          <p:nvPr/>
        </p:nvGraphicFramePr>
        <p:xfrm>
          <a:off x="228600" y="1600200"/>
          <a:ext cx="8686800" cy="4191120"/>
        </p:xfrm>
        <a:graphic>
          <a:graphicData uri="http://schemas.openxmlformats.org/drawingml/2006/table">
            <a:tbl>
              <a:tblPr/>
              <a:tblGrid>
                <a:gridCol w="1523880"/>
                <a:gridCol w="685800"/>
                <a:gridCol w="1295640"/>
                <a:gridCol w="1371600"/>
                <a:gridCol w="2057400"/>
                <a:gridCol w="990360"/>
                <a:gridCol w="762120"/>
              </a:tblGrid>
              <a:tr h="122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Ц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99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генство ГЭ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кретариат ГЭ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274" name="TextBox 8"/>
          <p:cNvSpPr/>
          <p:nvPr/>
        </p:nvSpPr>
        <p:spPr>
          <a:xfrm>
            <a:off x="1523880" y="1905120"/>
            <a:ext cx="99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вод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онцеп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Straight Arrow Connector 10"/>
          <p:cNvCxnSpPr/>
          <p:nvPr/>
        </p:nvCxnSpPr>
        <p:spPr>
          <a:xfrm>
            <a:off x="1219320" y="2133720"/>
            <a:ext cx="3816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76" name="TextBox 12"/>
          <p:cNvSpPr/>
          <p:nvPr/>
        </p:nvSpPr>
        <p:spPr>
          <a:xfrm>
            <a:off x="2666880" y="1905120"/>
            <a:ext cx="13338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охранение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редактирование концепции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Straight Arrow Connector 21"/>
          <p:cNvCxnSpPr/>
          <p:nvPr/>
        </p:nvCxnSpPr>
        <p:spPr>
          <a:xfrm>
            <a:off x="2362320" y="2133720"/>
            <a:ext cx="3816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78" name="TextBox 22"/>
          <p:cNvSpPr/>
          <p:nvPr/>
        </p:nvSpPr>
        <p:spPr>
          <a:xfrm>
            <a:off x="4191120" y="1752480"/>
            <a:ext cx="12189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едставление концепции  агенству ГЭ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9" name="Straight Arrow Connector 23"/>
          <p:cNvCxnSpPr/>
          <p:nvPr/>
        </p:nvCxnSpPr>
        <p:spPr>
          <a:xfrm>
            <a:off x="3809520" y="2131560"/>
            <a:ext cx="3819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80" name="TextBox 11"/>
          <p:cNvSpPr/>
          <p:nvPr/>
        </p:nvSpPr>
        <p:spPr>
          <a:xfrm>
            <a:off x="3973680" y="2886120"/>
            <a:ext cx="1143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Уведомление по электронной почт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3"/>
          <p:cNvSpPr/>
          <p:nvPr/>
        </p:nvSpPr>
        <p:spPr>
          <a:xfrm>
            <a:off x="3429000" y="3878280"/>
            <a:ext cx="2057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 системе  ИСУП концепция появляется  в списке текущих дел  агенства ГЭ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Straight Arrow Connector 14"/>
          <p:cNvCxnSpPr/>
          <p:nvPr/>
        </p:nvCxnSpPr>
        <p:spPr>
          <a:xfrm flipH="1">
            <a:off x="4553640" y="2561760"/>
            <a:ext cx="252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83" name="Straight Arrow Connector 18"/>
          <p:cNvCxnSpPr/>
          <p:nvPr/>
        </p:nvCxnSpPr>
        <p:spPr>
          <a:xfrm flipH="1">
            <a:off x="4487040" y="3525480"/>
            <a:ext cx="252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84" name="Straight Arrow Connector 19"/>
          <p:cNvCxnSpPr/>
          <p:nvPr/>
        </p:nvCxnSpPr>
        <p:spPr>
          <a:xfrm flipH="1">
            <a:off x="4419360" y="4800240"/>
            <a:ext cx="216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85" name="TextBox 20"/>
          <p:cNvSpPr/>
          <p:nvPr/>
        </p:nvSpPr>
        <p:spPr>
          <a:xfrm>
            <a:off x="3891240" y="5126040"/>
            <a:ext cx="1075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опирование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уведомле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6"/>
          <p:cNvSpPr/>
          <p:nvPr/>
        </p:nvSpPr>
        <p:spPr>
          <a:xfrm>
            <a:off x="5410080" y="2820960"/>
            <a:ext cx="21337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нимает концепцию с ее последующей разработкой совместно с ОК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7"/>
          <p:cNvSpPr/>
          <p:nvPr/>
        </p:nvSpPr>
        <p:spPr>
          <a:xfrm>
            <a:off x="5486400" y="3809880"/>
            <a:ext cx="20574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Отклоняет/отказывается от концепции (после консультаций с ОКЦ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traight Connector 30"/>
          <p:cNvSpPr/>
          <p:nvPr/>
        </p:nvSpPr>
        <p:spPr>
          <a:xfrm>
            <a:off x="5259240" y="3591000"/>
            <a:ext cx="10670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Straight Arrow Connector 36"/>
          <p:cNvCxnSpPr/>
          <p:nvPr/>
        </p:nvCxnSpPr>
        <p:spPr>
          <a:xfrm flipH="1">
            <a:off x="6322680" y="3579480"/>
            <a:ext cx="216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90" name="Straight Arrow Connector 37"/>
          <p:cNvCxnSpPr/>
          <p:nvPr/>
        </p:nvCxnSpPr>
        <p:spPr>
          <a:xfrm flipV="1">
            <a:off x="6323040" y="3351960"/>
            <a:ext cx="216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91" name="TextBox 40"/>
          <p:cNvSpPr/>
          <p:nvPr/>
        </p:nvSpPr>
        <p:spPr>
          <a:xfrm>
            <a:off x="5410080" y="4876920"/>
            <a:ext cx="27432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Автоматическое напоминание в адрес агенства ГЭФ направляется по электронной почте (через 20 дней, затем через 30 дней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2" name="Straight Arrow Connector 41"/>
          <p:cNvCxnSpPr/>
          <p:nvPr/>
        </p:nvCxnSpPr>
        <p:spPr>
          <a:xfrm flipH="1">
            <a:off x="6322680" y="4465800"/>
            <a:ext cx="216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93" name="TextBox 24"/>
          <p:cNvSpPr/>
          <p:nvPr/>
        </p:nvSpPr>
        <p:spPr>
          <a:xfrm>
            <a:off x="7543800" y="1676520"/>
            <a:ext cx="1371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азработка концепции совместно с агенством ГЭ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4" name="Straight Arrow Connector 27"/>
          <p:cNvCxnSpPr/>
          <p:nvPr/>
        </p:nvCxnSpPr>
        <p:spPr>
          <a:xfrm flipV="1">
            <a:off x="6339240" y="2152080"/>
            <a:ext cx="3960" cy="61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95" name="Straight Arrow Connector 29"/>
          <p:cNvCxnSpPr/>
          <p:nvPr/>
        </p:nvCxnSpPr>
        <p:spPr>
          <a:xfrm>
            <a:off x="5334120" y="2057400"/>
            <a:ext cx="22867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96" name="Подзаголовок 2"/>
          <p:cNvSpPr/>
          <p:nvPr/>
        </p:nvSpPr>
        <p:spPr>
          <a:xfrm>
            <a:off x="1265400" y="628164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одзаголовок 2"/>
          <p:cNvSpPr/>
          <p:nvPr/>
        </p:nvSpPr>
        <p:spPr>
          <a:xfrm>
            <a:off x="1324080" y="6046920"/>
            <a:ext cx="38494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одзаголовок 2"/>
          <p:cNvSpPr/>
          <p:nvPr/>
        </p:nvSpPr>
        <p:spPr>
          <a:xfrm>
            <a:off x="528480" y="6367320"/>
            <a:ext cx="59400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33360" y="660240"/>
            <a:ext cx="668016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fbfbf"/>
                </a:solidFill>
                <a:latin typeface="Arial"/>
              </a:rPr>
              <a:t>Схема обработки проектных концепций в системе ИСУ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"/>
          <p:cNvGraphicFramePr/>
          <p:nvPr/>
        </p:nvGraphicFramePr>
        <p:xfrm>
          <a:off x="228600" y="1600200"/>
          <a:ext cx="8686800" cy="4191120"/>
        </p:xfrm>
        <a:graphic>
          <a:graphicData uri="http://schemas.openxmlformats.org/drawingml/2006/table">
            <a:tbl>
              <a:tblPr/>
              <a:tblGrid>
                <a:gridCol w="1523880"/>
                <a:gridCol w="685800"/>
                <a:gridCol w="1295640"/>
                <a:gridCol w="1371600"/>
                <a:gridCol w="2057400"/>
                <a:gridCol w="990360"/>
                <a:gridCol w="762120"/>
              </a:tblGrid>
              <a:tr h="122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Ц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99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генство ГЭ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кретариат ГЭ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302" name="TextBox 8"/>
          <p:cNvSpPr/>
          <p:nvPr/>
        </p:nvSpPr>
        <p:spPr>
          <a:xfrm>
            <a:off x="1523880" y="1905120"/>
            <a:ext cx="99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вод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онцеп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3" name="Straight Arrow Connector 10"/>
          <p:cNvCxnSpPr/>
          <p:nvPr/>
        </p:nvCxnSpPr>
        <p:spPr>
          <a:xfrm>
            <a:off x="1219320" y="2133720"/>
            <a:ext cx="3816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04" name="TextBox 12"/>
          <p:cNvSpPr/>
          <p:nvPr/>
        </p:nvSpPr>
        <p:spPr>
          <a:xfrm>
            <a:off x="2666880" y="1905120"/>
            <a:ext cx="13338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охранение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редактирование концепции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Straight Arrow Connector 21"/>
          <p:cNvCxnSpPr/>
          <p:nvPr/>
        </p:nvCxnSpPr>
        <p:spPr>
          <a:xfrm>
            <a:off x="2362320" y="2133720"/>
            <a:ext cx="3816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06" name="TextBox 22"/>
          <p:cNvSpPr/>
          <p:nvPr/>
        </p:nvSpPr>
        <p:spPr>
          <a:xfrm>
            <a:off x="4191120" y="1752480"/>
            <a:ext cx="12189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едставление концепции  агенства ГЭ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Straight Arrow Connector 23"/>
          <p:cNvCxnSpPr/>
          <p:nvPr/>
        </p:nvCxnSpPr>
        <p:spPr>
          <a:xfrm>
            <a:off x="3809520" y="2131560"/>
            <a:ext cx="3819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08" name="TextBox 11"/>
          <p:cNvSpPr/>
          <p:nvPr/>
        </p:nvSpPr>
        <p:spPr>
          <a:xfrm>
            <a:off x="3973680" y="2886120"/>
            <a:ext cx="1143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Уведомление по электронной почт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13"/>
          <p:cNvSpPr/>
          <p:nvPr/>
        </p:nvSpPr>
        <p:spPr>
          <a:xfrm>
            <a:off x="3429000" y="3878280"/>
            <a:ext cx="2057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 системе  ИСУП концепция появляется  в списке текущих дел  агенства ГЭ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0" name="Straight Arrow Connector 14"/>
          <p:cNvCxnSpPr/>
          <p:nvPr/>
        </p:nvCxnSpPr>
        <p:spPr>
          <a:xfrm flipH="1">
            <a:off x="4553640" y="2561760"/>
            <a:ext cx="252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11" name="Straight Arrow Connector 18"/>
          <p:cNvCxnSpPr/>
          <p:nvPr/>
        </p:nvCxnSpPr>
        <p:spPr>
          <a:xfrm flipH="1">
            <a:off x="4487040" y="3525480"/>
            <a:ext cx="252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12" name="Straight Arrow Connector 19"/>
          <p:cNvCxnSpPr/>
          <p:nvPr/>
        </p:nvCxnSpPr>
        <p:spPr>
          <a:xfrm flipH="1">
            <a:off x="4419360" y="4800240"/>
            <a:ext cx="216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13" name="TextBox 20"/>
          <p:cNvSpPr/>
          <p:nvPr/>
        </p:nvSpPr>
        <p:spPr>
          <a:xfrm>
            <a:off x="3891240" y="5126040"/>
            <a:ext cx="1075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опирование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уведомле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6"/>
          <p:cNvSpPr/>
          <p:nvPr/>
        </p:nvSpPr>
        <p:spPr>
          <a:xfrm>
            <a:off x="5410080" y="2820960"/>
            <a:ext cx="21337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Утверждает концепцию с ее последующей разработкой совместно с ОК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7"/>
          <p:cNvSpPr/>
          <p:nvPr/>
        </p:nvSpPr>
        <p:spPr>
          <a:xfrm>
            <a:off x="5486400" y="3809880"/>
            <a:ext cx="20574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Отклоняет/отказывается от концепции (после консультаций с ОКЦ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traight Connector 30"/>
          <p:cNvSpPr/>
          <p:nvPr/>
        </p:nvSpPr>
        <p:spPr>
          <a:xfrm>
            <a:off x="5259240" y="3591000"/>
            <a:ext cx="10670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7" name="Straight Arrow Connector 36"/>
          <p:cNvCxnSpPr/>
          <p:nvPr/>
        </p:nvCxnSpPr>
        <p:spPr>
          <a:xfrm flipH="1">
            <a:off x="6322680" y="3579480"/>
            <a:ext cx="216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18" name="Straight Arrow Connector 37"/>
          <p:cNvCxnSpPr/>
          <p:nvPr/>
        </p:nvCxnSpPr>
        <p:spPr>
          <a:xfrm flipV="1">
            <a:off x="6323040" y="3351960"/>
            <a:ext cx="216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19" name="TextBox 40"/>
          <p:cNvSpPr/>
          <p:nvPr/>
        </p:nvSpPr>
        <p:spPr>
          <a:xfrm>
            <a:off x="5105520" y="4876920"/>
            <a:ext cx="27432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Автоматическое напоминание в адрес агенства ГЭФ направляется по электронной почте (через 20 дней, затем через 30 дней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Straight Arrow Connector 41"/>
          <p:cNvCxnSpPr/>
          <p:nvPr/>
        </p:nvCxnSpPr>
        <p:spPr>
          <a:xfrm flipH="1">
            <a:off x="6322680" y="4465800"/>
            <a:ext cx="216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21" name="TextBox 24"/>
          <p:cNvSpPr/>
          <p:nvPr/>
        </p:nvSpPr>
        <p:spPr>
          <a:xfrm>
            <a:off x="7543800" y="1676520"/>
            <a:ext cx="1371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азработка концепции совместно с  агенством ГЭ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2" name="Straight Arrow Connector 27"/>
          <p:cNvCxnSpPr/>
          <p:nvPr/>
        </p:nvCxnSpPr>
        <p:spPr>
          <a:xfrm flipV="1">
            <a:off x="6339240" y="2152080"/>
            <a:ext cx="3960" cy="61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23" name="Straight Arrow Connector 29"/>
          <p:cNvCxnSpPr/>
          <p:nvPr/>
        </p:nvCxnSpPr>
        <p:spPr>
          <a:xfrm>
            <a:off x="5334120" y="2057400"/>
            <a:ext cx="22867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24" name="Подзаголовок 2"/>
          <p:cNvSpPr/>
          <p:nvPr/>
        </p:nvSpPr>
        <p:spPr>
          <a:xfrm>
            <a:off x="1265400" y="628164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одзаголовок 2"/>
          <p:cNvSpPr/>
          <p:nvPr/>
        </p:nvSpPr>
        <p:spPr>
          <a:xfrm>
            <a:off x="1324080" y="6046920"/>
            <a:ext cx="38494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одзаголовок 2"/>
          <p:cNvSpPr/>
          <p:nvPr/>
        </p:nvSpPr>
        <p:spPr>
          <a:xfrm>
            <a:off x="528480" y="6367320"/>
            <a:ext cx="59400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24"/>
          <p:cNvSpPr/>
          <p:nvPr/>
        </p:nvSpPr>
        <p:spPr>
          <a:xfrm>
            <a:off x="7543800" y="2895480"/>
            <a:ext cx="1371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едставляет ФОП в ГЭ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24"/>
          <p:cNvSpPr/>
          <p:nvPr/>
        </p:nvSpPr>
        <p:spPr>
          <a:xfrm>
            <a:off x="7848720" y="5056200"/>
            <a:ext cx="838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олучает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ФОП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9" name="Straight Arrow Connector 27"/>
          <p:cNvCxnSpPr/>
          <p:nvPr/>
        </p:nvCxnSpPr>
        <p:spPr>
          <a:xfrm>
            <a:off x="8133840" y="3346560"/>
            <a:ext cx="1080" cy="1683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сть ли вопросы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332" name="Подзаголовок 2"/>
          <p:cNvSpPr/>
          <p:nvPr/>
        </p:nvSpPr>
        <p:spPr>
          <a:xfrm>
            <a:off x="1265400" y="628164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одзаголовок 2"/>
          <p:cNvSpPr/>
          <p:nvPr/>
        </p:nvSpPr>
        <p:spPr>
          <a:xfrm>
            <a:off x="1324080" y="6046920"/>
            <a:ext cx="38494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одзаголовок 2"/>
          <p:cNvSpPr/>
          <p:nvPr/>
        </p:nvSpPr>
        <p:spPr>
          <a:xfrm>
            <a:off x="527040" y="6372360"/>
            <a:ext cx="59364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-3240" y="5962680"/>
            <a:ext cx="9156600" cy="914400"/>
          </a:xfrm>
          <a:prstGeom prst="rect">
            <a:avLst/>
          </a:prstGeom>
          <a:ln w="0">
            <a:noFill/>
          </a:ln>
        </p:spPr>
      </p:pic>
      <p:sp>
        <p:nvSpPr>
          <p:cNvPr id="54" name="Freeform 5"/>
          <p:cNvSpPr/>
          <p:nvPr/>
        </p:nvSpPr>
        <p:spPr>
          <a:xfrm rot="20241600">
            <a:off x="1142640" y="2437920"/>
            <a:ext cx="6853320" cy="2803680"/>
          </a:xfrm>
          <a:custGeom>
            <a:avLst/>
            <a:gdLst>
              <a:gd name="textAreaLeft" fmla="*/ 0 w 6853320"/>
              <a:gd name="textAreaRight" fmla="*/ 6853680 w 6853320"/>
              <a:gd name="textAreaTop" fmla="*/ 0 h 2803680"/>
              <a:gd name="textAreaBottom" fmla="*/ 2804040 h 2803680"/>
            </a:gdLst>
            <a:ahLst/>
            <a:rect l="textAreaLeft" t="textAreaTop" r="textAreaRight" b="textAreaBottom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8b8bff"/>
              </a:gs>
              <a:gs pos="100000">
                <a:srgbClr val="0000ff"/>
              </a:gs>
            </a:gsLst>
            <a:lin ang="13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6"/>
          <p:cNvSpPr/>
          <p:nvPr/>
        </p:nvSpPr>
        <p:spPr>
          <a:xfrm>
            <a:off x="3505320" y="1600200"/>
            <a:ext cx="1752480" cy="137160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005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7"/>
          <p:cNvSpPr/>
          <p:nvPr/>
        </p:nvSpPr>
        <p:spPr>
          <a:xfrm>
            <a:off x="1295280" y="31240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4f81bd"/>
              </a:gs>
              <a:gs pos="100000">
                <a:srgbClr val="19283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Заверш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реализаци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проект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и его оцен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генством ГЭ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8"/>
          <p:cNvSpPr/>
          <p:nvPr/>
        </p:nvSpPr>
        <p:spPr>
          <a:xfrm>
            <a:off x="2178000" y="482112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c0504d"/>
              </a:gs>
              <a:gs pos="100000">
                <a:srgbClr val="451d1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9"/>
          <p:cNvSpPr/>
          <p:nvPr/>
        </p:nvSpPr>
        <p:spPr>
          <a:xfrm>
            <a:off x="4952880" y="41911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b359d7"/>
              </a:gs>
              <a:gs pos="100000">
                <a:srgbClr val="623175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0"/>
          <p:cNvSpPr/>
          <p:nvPr/>
        </p:nvSpPr>
        <p:spPr>
          <a:xfrm>
            <a:off x="6553080" y="1828800"/>
            <a:ext cx="1413000" cy="1274760"/>
          </a:xfrm>
          <a:prstGeom prst="ellipse">
            <a:avLst/>
          </a:prstGeom>
          <a:gradFill rotWithShape="0">
            <a:gsLst>
              <a:gs pos="0">
                <a:srgbClr val="800080"/>
              </a:gs>
              <a:gs pos="100000">
                <a:srgbClr val="2c002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3780360" y="1828800"/>
            <a:ext cx="12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Разработк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ГЭФ проектно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концеп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400800" y="2209680"/>
            <a:ext cx="1773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Подготовк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проек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агенством ГЭФ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5057280" y="4479840"/>
            <a:ext cx="1172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Экспертиз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проек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агенством ГЭ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1982880" y="4789440"/>
            <a:ext cx="170316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ffff"/>
                </a:solidFill>
                <a:latin typeface="Verdana"/>
              </a:rPr>
              <a:t>Утверждение и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ffff"/>
                </a:solidFill>
                <a:latin typeface="Verdana"/>
              </a:rPr>
              <a:t>реализация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ffff"/>
                </a:solidFill>
                <a:latin typeface="Verdana"/>
              </a:rPr>
              <a:t>проекта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ffff"/>
                </a:solidFill>
                <a:latin typeface="Verdana"/>
              </a:rPr>
              <a:t>агенством ГЭФ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ffff"/>
                </a:solidFill>
                <a:latin typeface="Verdana"/>
              </a:rPr>
              <a:t>и осуществление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ffff"/>
                </a:solidFill>
                <a:latin typeface="Verdana"/>
              </a:rPr>
              <a:t>надзора з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ffff"/>
                </a:solidFill>
                <a:latin typeface="Verdana"/>
              </a:rPr>
              <a:t>его </a:t>
            </a:r>
            <a:br>
              <a:rPr sz="700"/>
            </a:br>
            <a:r>
              <a:rPr b="1" lang="ru-RU" sz="700" spc="-1" strike="noStrike">
                <a:solidFill>
                  <a:srgbClr val="ffffff"/>
                </a:solidFill>
                <a:latin typeface="Verdana"/>
              </a:rPr>
              <a:t>осуществлением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800600" y="685800"/>
            <a:ext cx="13986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Этап </a:t>
            </a: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Calibri"/>
              </a:rPr>
              <a:t>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Секретариат проводит анализ в целях утверждения ФОП для </a:t>
            </a:r>
            <a:r>
              <a:rPr b="0" i="1" lang="en-US" sz="1000" spc="-1" strike="noStrike">
                <a:solidFill>
                  <a:srgbClr val="c0504d"/>
                </a:solidFill>
                <a:latin typeface="Calibri"/>
              </a:rPr>
              <a:t>W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5011560" y="2819520"/>
            <a:ext cx="22640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При получени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запроса Секретариат проводи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анализ для утверждения предоставления гранта дл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подготовки проект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7315200" y="609480"/>
            <a:ext cx="118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Этап </a:t>
            </a: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Анализ и утверждение рабочей программы Советом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4313880" y="5486400"/>
            <a:ext cx="127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Этап </a:t>
            </a: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Calibri"/>
              </a:rPr>
              <a:t>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Секретариа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проводи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анализ для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утверждения проект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ИД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0"/>
          <p:cNvSpPr/>
          <p:nvPr/>
        </p:nvSpPr>
        <p:spPr>
          <a:xfrm>
            <a:off x="2971800" y="36068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номасштабные про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1"/>
          <p:cNvSpPr/>
          <p:nvPr/>
        </p:nvSpPr>
        <p:spPr>
          <a:xfrm>
            <a:off x="2057400" y="1752480"/>
            <a:ext cx="127332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Этап</a:t>
            </a: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Calibri"/>
              </a:rPr>
              <a:t>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Отде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оценки ГЭ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проводит анали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и оценк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завершенных проект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2"/>
          <p:cNvSpPr/>
          <p:nvPr/>
        </p:nvSpPr>
        <p:spPr>
          <a:xfrm>
            <a:off x="228600" y="4952880"/>
            <a:ext cx="12207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Секретариа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проводит анали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проектов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находящихся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в стад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реализа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3"/>
          <p:cNvSpPr/>
          <p:nvPr/>
        </p:nvSpPr>
        <p:spPr>
          <a:xfrm>
            <a:off x="6180840" y="990720"/>
            <a:ext cx="1361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Рекомендаци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СТАП в отношен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утвержденно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ФО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4"/>
          <p:cNvSpPr/>
          <p:nvPr/>
        </p:nvSpPr>
        <p:spPr>
          <a:xfrm>
            <a:off x="5943600" y="2971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5"/>
          <p:cNvSpPr/>
          <p:nvPr/>
        </p:nvSpPr>
        <p:spPr>
          <a:xfrm flipH="1" flipV="1">
            <a:off x="5638680" y="2209320"/>
            <a:ext cx="76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6"/>
          <p:cNvSpPr/>
          <p:nvPr/>
        </p:nvSpPr>
        <p:spPr>
          <a:xfrm>
            <a:off x="2666880" y="24382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7"/>
          <p:cNvSpPr/>
          <p:nvPr/>
        </p:nvSpPr>
        <p:spPr>
          <a:xfrm flipV="1">
            <a:off x="914400" y="510516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8"/>
          <p:cNvSpPr/>
          <p:nvPr/>
        </p:nvSpPr>
        <p:spPr>
          <a:xfrm flipH="1" flipV="1">
            <a:off x="4495320" y="51055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9"/>
          <p:cNvSpPr/>
          <p:nvPr/>
        </p:nvSpPr>
        <p:spPr>
          <a:xfrm>
            <a:off x="3353040" y="4343400"/>
            <a:ext cx="1410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Анализ и замечания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Совета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0"/>
          <p:cNvSpPr/>
          <p:nvPr/>
        </p:nvSpPr>
        <p:spPr>
          <a:xfrm>
            <a:off x="5562720" y="144792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1"/>
          <p:cNvSpPr/>
          <p:nvPr/>
        </p:nvSpPr>
        <p:spPr>
          <a:xfrm flipH="1">
            <a:off x="5943240" y="1371600"/>
            <a:ext cx="6094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2"/>
          <p:cNvSpPr/>
          <p:nvPr/>
        </p:nvSpPr>
        <p:spPr>
          <a:xfrm flipH="1">
            <a:off x="6400800" y="144792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4"/>
          <p:cNvSpPr/>
          <p:nvPr/>
        </p:nvSpPr>
        <p:spPr>
          <a:xfrm>
            <a:off x="87840" y="304920"/>
            <a:ext cx="251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Проектный цикл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Straight Arrow Connector 34"/>
          <p:cNvCxnSpPr>
            <a:stCxn id="77" idx="2"/>
          </p:cNvCxnSpPr>
          <p:nvPr/>
        </p:nvCxnSpPr>
        <p:spPr>
          <a:xfrm>
            <a:off x="4059360" y="4739760"/>
            <a:ext cx="2160" cy="591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3" name="Text Box 29"/>
          <p:cNvSpPr/>
          <p:nvPr/>
        </p:nvSpPr>
        <p:spPr>
          <a:xfrm>
            <a:off x="5562720" y="5638680"/>
            <a:ext cx="3429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 Толькло при поступлении запроса от Совета при утверждении рабочего пла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2362320" y="380880"/>
            <a:ext cx="2057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Необязательный этап</a:t>
            </a: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ОКЦ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представляют проектную концепцию агенством ГЭФ через ИСУ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0"/>
          <p:cNvSpPr/>
          <p:nvPr/>
        </p:nvSpPr>
        <p:spPr>
          <a:xfrm>
            <a:off x="3429000" y="12952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одзаголовок 2"/>
          <p:cNvSpPr/>
          <p:nvPr/>
        </p:nvSpPr>
        <p:spPr>
          <a:xfrm>
            <a:off x="1265400" y="639756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одзаголовок 2"/>
          <p:cNvSpPr/>
          <p:nvPr/>
        </p:nvSpPr>
        <p:spPr>
          <a:xfrm>
            <a:off x="1333440" y="6191280"/>
            <a:ext cx="259884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одзаголовок 2"/>
          <p:cNvSpPr/>
          <p:nvPr/>
        </p:nvSpPr>
        <p:spPr>
          <a:xfrm>
            <a:off x="504720" y="6448320"/>
            <a:ext cx="642960" cy="12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5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500" fill="hold"/>
                                        <p:tgtEl>
                                          <p:spTgt spid="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500" fill="hold"/>
                                        <p:tgtEl>
                                          <p:spTgt spid="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5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952200"/>
            <a:ext cx="800100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fbfbf"/>
                </a:solidFill>
                <a:latin typeface="Arial"/>
              </a:rPr>
              <a:t>Схема обработки проектных концепций в системе ИСУ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-12600" y="5943600"/>
            <a:ext cx="91566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304920" y="1752480"/>
          <a:ext cx="8458200" cy="3886200"/>
        </p:xfrm>
        <a:graphic>
          <a:graphicData uri="http://schemas.openxmlformats.org/drawingml/2006/table">
            <a:tbl>
              <a:tblPr/>
              <a:tblGrid>
                <a:gridCol w="1644480"/>
                <a:gridCol w="1565280"/>
                <a:gridCol w="784440"/>
                <a:gridCol w="793440"/>
                <a:gridCol w="1198800"/>
                <a:gridCol w="1197000"/>
                <a:gridCol w="1274760"/>
              </a:tblGrid>
              <a:tr h="129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генство ГЭ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кретариат ГЭ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92" name="TextBox 8"/>
          <p:cNvSpPr/>
          <p:nvPr/>
        </p:nvSpPr>
        <p:spPr>
          <a:xfrm>
            <a:off x="1752480" y="21337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во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нцеп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Straight Arrow Connector 10"/>
          <p:cNvCxnSpPr/>
          <p:nvPr/>
        </p:nvCxnSpPr>
        <p:spPr>
          <a:xfrm>
            <a:off x="1295280" y="2437920"/>
            <a:ext cx="4579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4" name="Подзаголовок 2"/>
          <p:cNvSpPr/>
          <p:nvPr/>
        </p:nvSpPr>
        <p:spPr>
          <a:xfrm>
            <a:off x="1265400" y="645480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одзаголовок 2"/>
          <p:cNvSpPr/>
          <p:nvPr/>
        </p:nvSpPr>
        <p:spPr>
          <a:xfrm>
            <a:off x="1352520" y="618984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"/>
          <p:cNvSpPr/>
          <p:nvPr/>
        </p:nvSpPr>
        <p:spPr>
          <a:xfrm>
            <a:off x="3809880" y="0"/>
            <a:ext cx="39625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fbfbf"/>
                </a:solidFill>
                <a:latin typeface="Calibri"/>
              </a:rPr>
              <a:t>Интерфейсы ИСУ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390600" y="438120"/>
            <a:ext cx="467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Экран, отражающий список проектных концепций, у ОК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287280" y="762120"/>
            <a:ext cx="9009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входа в систему ИСУП перед пользователем, представляющим оперативный  координационный  центр, первой на экране появится страница "Концепции". Находясь на этой странице, ОКЦ могут  вводить, изменять или распечатывать проектные концепции и осуществлять мониторинг концепций, представленных ими агенством ГЭ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3809880" y="0"/>
            <a:ext cx="5334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fbfbf"/>
                </a:solidFill>
                <a:latin typeface="Arial"/>
              </a:rPr>
              <a:t>Схема обработки проектных концеп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342280" cy="3886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105" name="Подзаголовок 2"/>
          <p:cNvSpPr/>
          <p:nvPr/>
        </p:nvSpPr>
        <p:spPr>
          <a:xfrm>
            <a:off x="1246320" y="628164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одзаголовок 2"/>
          <p:cNvSpPr/>
          <p:nvPr/>
        </p:nvSpPr>
        <p:spPr>
          <a:xfrm>
            <a:off x="1324080" y="6046920"/>
            <a:ext cx="38494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одзаголовок 2"/>
          <p:cNvSpPr/>
          <p:nvPr/>
        </p:nvSpPr>
        <p:spPr>
          <a:xfrm>
            <a:off x="533520" y="6351480"/>
            <a:ext cx="642960" cy="12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431200" cy="42670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403560" y="380880"/>
            <a:ext cx="70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КРАН ВВОДА ИНФОРМАЦИИ О ПРОЕКТНОЙ КОНЦЕПЦИИ В СИСТЕМЕ ИСУ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650880" y="685800"/>
            <a:ext cx="672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дел "Проектные концепции" содержит основную информацию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веденную ОКЦ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3809880" y="0"/>
            <a:ext cx="5334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fbfbf"/>
                </a:solidFill>
                <a:latin typeface="Arial"/>
              </a:rPr>
              <a:t>Схема обработки проектных концеп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113" name="Подзаголовок 2"/>
          <p:cNvSpPr/>
          <p:nvPr/>
        </p:nvSpPr>
        <p:spPr>
          <a:xfrm>
            <a:off x="1265400" y="628164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одзаголовок 2"/>
          <p:cNvSpPr/>
          <p:nvPr/>
        </p:nvSpPr>
        <p:spPr>
          <a:xfrm>
            <a:off x="1324080" y="6046920"/>
            <a:ext cx="38494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одзаголовок 2"/>
          <p:cNvSpPr/>
          <p:nvPr/>
        </p:nvSpPr>
        <p:spPr>
          <a:xfrm>
            <a:off x="514440" y="6370560"/>
            <a:ext cx="642960" cy="12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8670960" cy="44197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КЦ  может добавить дополнительное контактное лицо, например, референта или члена технической группы, в адрес которых могут направляться копии сообщений электронной почты, рассылаемых через ИСУ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119" name="Подзаголовок 2"/>
          <p:cNvSpPr/>
          <p:nvPr/>
        </p:nvSpPr>
        <p:spPr>
          <a:xfrm>
            <a:off x="1255680" y="6281640"/>
            <a:ext cx="42768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одзаголовок 2"/>
          <p:cNvSpPr/>
          <p:nvPr/>
        </p:nvSpPr>
        <p:spPr>
          <a:xfrm>
            <a:off x="1324080" y="6046920"/>
            <a:ext cx="38494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одзаголовок 2"/>
          <p:cNvSpPr/>
          <p:nvPr/>
        </p:nvSpPr>
        <p:spPr>
          <a:xfrm>
            <a:off x="504720" y="6370560"/>
            <a:ext cx="642960" cy="12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96720" y="646200"/>
            <a:ext cx="603252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fbfbf"/>
                </a:solidFill>
                <a:latin typeface="Arial"/>
              </a:rPr>
              <a:t>Схема обработки проектных концепций</a:t>
            </a:r>
            <a:br>
              <a:rPr sz="2000"/>
            </a:br>
            <a:r>
              <a:rPr b="1" lang="ru-RU" sz="2000" spc="-1" strike="noStrike">
                <a:solidFill>
                  <a:srgbClr val="bfbfbf"/>
                </a:solidFill>
                <a:latin typeface="Arial"/>
              </a:rPr>
              <a:t>в системе ИСУ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-12600" y="5810400"/>
            <a:ext cx="91566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380880" y="1600200"/>
          <a:ext cx="8153640" cy="3886200"/>
        </p:xfrm>
        <a:graphic>
          <a:graphicData uri="http://schemas.openxmlformats.org/drawingml/2006/table">
            <a:tbl>
              <a:tblPr/>
              <a:tblGrid>
                <a:gridCol w="1827360"/>
                <a:gridCol w="1294920"/>
                <a:gridCol w="2207880"/>
                <a:gridCol w="281160"/>
                <a:gridCol w="216000"/>
                <a:gridCol w="1162800"/>
                <a:gridCol w="1163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29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генство ГЭ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кретариат ГЭ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125" name="TextBox 8"/>
          <p:cNvSpPr/>
          <p:nvPr/>
        </p:nvSpPr>
        <p:spPr>
          <a:xfrm>
            <a:off x="1905120" y="198108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вод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нцеп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Straight Arrow Connector 10"/>
          <p:cNvCxnSpPr/>
          <p:nvPr/>
        </p:nvCxnSpPr>
        <p:spPr>
          <a:xfrm>
            <a:off x="1294920" y="2209320"/>
            <a:ext cx="3819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7" name="TextBox 12"/>
          <p:cNvSpPr/>
          <p:nvPr/>
        </p:nvSpPr>
        <p:spPr>
          <a:xfrm>
            <a:off x="3505320" y="1981080"/>
            <a:ext cx="281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хранение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едактирование концеп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1"/>
          <p:cNvCxnSpPr/>
          <p:nvPr/>
        </p:nvCxnSpPr>
        <p:spPr>
          <a:xfrm>
            <a:off x="3123720" y="2286000"/>
            <a:ext cx="3819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10"/>
          <p:cNvCxnSpPr/>
          <p:nvPr/>
        </p:nvCxnSpPr>
        <p:spPr>
          <a:xfrm>
            <a:off x="1447920" y="2362320"/>
            <a:ext cx="3816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0" name="Подзаголовок 2"/>
          <p:cNvSpPr/>
          <p:nvPr/>
        </p:nvSpPr>
        <p:spPr>
          <a:xfrm>
            <a:off x="1246320" y="628164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одзаголовок 2"/>
          <p:cNvSpPr/>
          <p:nvPr/>
        </p:nvSpPr>
        <p:spPr>
          <a:xfrm>
            <a:off x="1324080" y="6046920"/>
            <a:ext cx="38494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одзаголовок 2"/>
          <p:cNvSpPr/>
          <p:nvPr/>
        </p:nvSpPr>
        <p:spPr>
          <a:xfrm>
            <a:off x="514440" y="6380280"/>
            <a:ext cx="642960" cy="12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8:55:32Z</dcterms:created>
  <dc:creator>wb350798</dc:creator>
  <dc:description/>
  <dc:language>en-US</dc:language>
  <cp:lastModifiedBy>wb350798</cp:lastModifiedBy>
  <cp:lastPrinted>2011-09-27T09:18:22Z</cp:lastPrinted>
  <dcterms:modified xsi:type="dcterms:W3CDTF">2011-11-01T21:02:27Z</dcterms:modified>
  <cp:revision>200</cp:revision>
  <dc:subject/>
  <dc:title>Slide 1</dc:title>
</cp:coreProperties>
</file>