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A22-A276-4538-ACDA-82A5133B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911-4241-4937-A803-38E40A8C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8AD-A13A-48F6-B08F-A0BE8A6B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8B9-DEAE-42D8-9531-35E0CBD0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237-0159-4C2B-8E0D-03D1A9A2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BC4-B390-4DA6-831E-C68A3323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923-7C16-4352-B6B3-51392B43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CD2-A474-40A7-9479-3F713E3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3AD-1CAD-4CFF-9495-72510757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040-EBA8-4A14-92AF-C437FF86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686C-44AD-435F-9ECC-854CE7A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62F-842D-4160-9E31-C112347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56AF-A6E1-4FA9-878C-9DB9CF086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Arial"/>
                <a:ea typeface="Arial"/>
              </a:rPr>
              <a:t>Отслеживание проектных концепций с использованием ИСУ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3" name="Subtitle 4"/>
          <p:cNvSpPr/>
          <p:nvPr/>
        </p:nvSpPr>
        <p:spPr>
          <a:xfrm>
            <a:off x="990720" y="3809880"/>
            <a:ext cx="7238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Семинар для членов ГЭФ</a:t>
            </a:r>
            <a:br>
              <a:rPr sz="2800"/>
            </a:b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11 – 13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1324080" y="24624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514440" y="5605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 сохранения первоначальной концепции ей присваивается идентификационный номер. После присвоения концепции идентификационного номера к ней можно  прилагать  соответствующие док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610400" cy="409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36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7080" y="646200"/>
            <a:ext cx="5270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57200" y="1600200"/>
          <a:ext cx="8153280" cy="3886200"/>
        </p:xfrm>
        <a:graphic>
          <a:graphicData uri="http://schemas.openxmlformats.org/drawingml/2006/table">
            <a:tbl>
              <a:tblPr/>
              <a:tblGrid>
                <a:gridCol w="1523880"/>
                <a:gridCol w="1143000"/>
                <a:gridCol w="1143000"/>
                <a:gridCol w="1371600"/>
                <a:gridCol w="642960"/>
                <a:gridCol w="1163880"/>
                <a:gridCol w="116496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8"/>
          <p:cNvSpPr/>
          <p:nvPr/>
        </p:nvSpPr>
        <p:spPr>
          <a:xfrm>
            <a:off x="1600200" y="1981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10"/>
          <p:cNvCxnSpPr/>
          <p:nvPr/>
        </p:nvCxnSpPr>
        <p:spPr>
          <a:xfrm>
            <a:off x="11430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TextBox 12"/>
          <p:cNvSpPr/>
          <p:nvPr/>
        </p:nvSpPr>
        <p:spPr>
          <a:xfrm>
            <a:off x="3124080" y="198108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21"/>
          <p:cNvCxnSpPr/>
          <p:nvPr/>
        </p:nvCxnSpPr>
        <p:spPr>
          <a:xfrm>
            <a:off x="27432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6" name="TextBox 22"/>
          <p:cNvSpPr/>
          <p:nvPr/>
        </p:nvSpPr>
        <p:spPr>
          <a:xfrm>
            <a:off x="5410080" y="205740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ение концепции агенством ГЭ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23"/>
          <p:cNvCxnSpPr/>
          <p:nvPr/>
        </p:nvCxnSpPr>
        <p:spPr>
          <a:xfrm>
            <a:off x="4800600" y="228600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-12600" y="575640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28600" y="380880"/>
            <a:ext cx="87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" y="6858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ведения данных о  проектной концепции дополнительные поля становятся доступными для редактирования, 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т представи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ую концепцию агенством ГЭФ или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352680" y="0"/>
            <a:ext cx="5791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637200" y="5029200"/>
            <a:ext cx="63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утверждения проектной концепции агенством ГЭФ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Ц уже не может отказаться от концеп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дзаголовок 2"/>
          <p:cNvSpPr/>
          <p:nvPr/>
        </p:nvSpPr>
        <p:spPr>
          <a:xfrm>
            <a:off x="1255680" y="625320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дзаголовок 2"/>
          <p:cNvSpPr/>
          <p:nvPr/>
        </p:nvSpPr>
        <p:spPr>
          <a:xfrm>
            <a:off x="1293840" y="59612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дзаголовок 2"/>
          <p:cNvSpPr/>
          <p:nvPr/>
        </p:nvSpPr>
        <p:spPr>
          <a:xfrm>
            <a:off x="523800" y="633096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5286240" cy="3632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251640" y="91440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70160" y="1295280"/>
            <a:ext cx="78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ы осуществления действий" отражает последов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й статуса проектной концепции  в соответствии с действ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мыми ОКЦ или агенством ГЭФ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304920" y="609480"/>
            <a:ext cx="49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ЬЮТЕРНАЯ РАСПЕЧАТКА ИНФОРМАЦИИ О ПРОЕКТ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И В СИСТЕМЕ ИСУ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 flipV="1" rot="10800000">
            <a:off x="303120" y="1371240"/>
            <a:ext cx="1169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 и агенство ГЭФ могут распечатать проектную концепцию непосредств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экранов своих дисплеев, отражающих список концепций, щелкнув кнопкой мышки соответствующую иконку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4870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-12600" y="58118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69" name="Подзаголовок 2"/>
          <p:cNvSpPr/>
          <p:nvPr/>
        </p:nvSpPr>
        <p:spPr>
          <a:xfrm>
            <a:off x="1258920" y="6272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дзаголовок 2"/>
          <p:cNvSpPr/>
          <p:nvPr/>
        </p:nvSpPr>
        <p:spPr>
          <a:xfrm>
            <a:off x="493560" y="638172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183520" cy="342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04920" y="457200"/>
            <a:ext cx="785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СЫЛКА ПО ЭЛЕКТРОННОЙ ПОЧТЕ ИНФОРМАЦИИ О ПРОЕК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ЦЕПЦИИ В СИСТЕМЕ  ИСУ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457200" y="121932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Ц и агенство ГЭФ могут отправить по электронной почте информацию о проектной концеп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 с экранов своих дисплеев, отражающих список концепций, щелкнув кнопкой мышки соответствующую иконк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6480" y="577224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1595160" y="5410080"/>
            <a:ext cx="614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сообщению, отправляемому по электронной почте, также будут прилож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ы, имеющие отношение к проектной концеп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04920" y="4572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водный отчет  по проектной концепции, составляемый О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04920" y="90504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й сводный отчет ОКЦ может быть составлен по таким параметрам, как название агенства ГЭФ и статус 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1760" y="1905120"/>
            <a:ext cx="901224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8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одзаголовок 2"/>
          <p:cNvSpPr/>
          <p:nvPr/>
        </p:nvSpPr>
        <p:spPr>
          <a:xfrm>
            <a:off x="514440" y="636120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97080" y="76320"/>
            <a:ext cx="53388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228600" y="811080"/>
          <a:ext cx="8305920" cy="4926240"/>
        </p:xfrm>
        <a:graphic>
          <a:graphicData uri="http://schemas.openxmlformats.org/drawingml/2006/table">
            <a:tbl>
              <a:tblPr/>
              <a:tblGrid>
                <a:gridCol w="1447920"/>
                <a:gridCol w="880920"/>
                <a:gridCol w="1397160"/>
                <a:gridCol w="1396800"/>
                <a:gridCol w="809640"/>
                <a:gridCol w="1187640"/>
                <a:gridCol w="1185840"/>
              </a:tblGrid>
              <a:tr h="2389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635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01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92" name="TextBox 8"/>
          <p:cNvSpPr/>
          <p:nvPr/>
        </p:nvSpPr>
        <p:spPr>
          <a:xfrm>
            <a:off x="1752480" y="1828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Straight Arrow Connector 10"/>
          <p:cNvCxnSpPr/>
          <p:nvPr/>
        </p:nvCxnSpPr>
        <p:spPr>
          <a:xfrm>
            <a:off x="1294920" y="20574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4" name="TextBox 12"/>
          <p:cNvSpPr/>
          <p:nvPr/>
        </p:nvSpPr>
        <p:spPr>
          <a:xfrm>
            <a:off x="3505320" y="17524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едактирование концеп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21"/>
          <p:cNvCxnSpPr/>
          <p:nvPr/>
        </p:nvCxnSpPr>
        <p:spPr>
          <a:xfrm>
            <a:off x="297180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6" name="TextBox 22"/>
          <p:cNvSpPr/>
          <p:nvPr/>
        </p:nvSpPr>
        <p:spPr>
          <a:xfrm>
            <a:off x="5562720" y="1449360"/>
            <a:ext cx="23619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ставление концепции агеснтва ГЭ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едомление по электронной поч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3"/>
          <p:cNvCxnSpPr/>
          <p:nvPr/>
        </p:nvCxnSpPr>
        <p:spPr>
          <a:xfrm>
            <a:off x="51055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8" name="TextBox 13"/>
          <p:cNvSpPr/>
          <p:nvPr/>
        </p:nvSpPr>
        <p:spPr>
          <a:xfrm>
            <a:off x="5289480" y="3978360"/>
            <a:ext cx="2863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текущих дел агенства ГЭ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14"/>
          <p:cNvCxnSpPr/>
          <p:nvPr/>
        </p:nvCxnSpPr>
        <p:spPr>
          <a:xfrm flipH="1">
            <a:off x="6399000" y="28951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0" name="Straight Arrow Connector 18"/>
          <p:cNvCxnSpPr/>
          <p:nvPr/>
        </p:nvCxnSpPr>
        <p:spPr>
          <a:xfrm flipH="1">
            <a:off x="6400440" y="3505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" name="Straight Arrow Connector 19"/>
          <p:cNvCxnSpPr/>
          <p:nvPr/>
        </p:nvCxnSpPr>
        <p:spPr>
          <a:xfrm flipH="1">
            <a:off x="6399000" y="495252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20"/>
          <p:cNvSpPr/>
          <p:nvPr/>
        </p:nvSpPr>
        <p:spPr>
          <a:xfrm>
            <a:off x="5181480" y="53341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пирование/уведом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дзаголовок 2"/>
          <p:cNvSpPr/>
          <p:nvPr/>
        </p:nvSpPr>
        <p:spPr>
          <a:xfrm>
            <a:off x="50472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80880" y="5335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ран списка проектных концепций у организации ГЭ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04920" y="905040"/>
            <a:ext cx="7924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агенство ГЭФ, первой появляется экранная страница "Концепции". Находясь на этой странице, вы можете распечатывать, просматривать, утверждать или отклонять  полученные проектные концепции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581280" y="-190440"/>
            <a:ext cx="5410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224560" cy="3581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1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286480" cy="38098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80880" y="38088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622440" y="99072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ел "Проектные концепции" содержит основную  информацию, 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19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09760" y="6367320"/>
            <a:ext cx="59364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равоч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струмент для контроля за деятельностью, предшествующей подготовке формы для определения проектов  (ФОП),  был разработан в ответ на замечания Совета и с учетом обеспокоенности, высказываемой многими странами в связи с отсутствием информации о статусе ряда концепций, которые они обсуждали с агенствами ГЭФ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целях облегчения отслеживания этого показателя прогресса Секретариат разработал веб-страницу, позволяющую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еративным координационным центрам (ОКЦ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ксировать проектные концепции с тем, чтобы  можно было отслеживать их состояние в системе ИСУП 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491760"/>
            <a:ext cx="7315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228600" y="1600200"/>
          <a:ext cx="8686800" cy="4265640"/>
        </p:xfrm>
        <a:graphic>
          <a:graphicData uri="http://schemas.openxmlformats.org/drawingml/2006/table">
            <a:tbl>
              <a:tblPr/>
              <a:tblGrid>
                <a:gridCol w="1371600"/>
                <a:gridCol w="838080"/>
                <a:gridCol w="1295640"/>
                <a:gridCol w="1371600"/>
                <a:gridCol w="2057400"/>
                <a:gridCol w="914400"/>
                <a:gridCol w="83808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8"/>
          <p:cNvSpPr/>
          <p:nvPr/>
        </p:nvSpPr>
        <p:spPr>
          <a:xfrm>
            <a:off x="1523880" y="2008080"/>
            <a:ext cx="1143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"/>
          <p:cNvCxnSpPr/>
          <p:nvPr/>
        </p:nvCxnSpPr>
        <p:spPr>
          <a:xfrm>
            <a:off x="1143000" y="2190240"/>
            <a:ext cx="381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7" name="TextBox 12"/>
          <p:cNvSpPr/>
          <p:nvPr/>
        </p:nvSpPr>
        <p:spPr>
          <a:xfrm>
            <a:off x="2590920" y="190512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Straight Arrow Connector 21"/>
          <p:cNvCxnSpPr/>
          <p:nvPr/>
        </p:nvCxnSpPr>
        <p:spPr>
          <a:xfrm>
            <a:off x="2276640" y="216216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9" name="TextBox 22"/>
          <p:cNvSpPr/>
          <p:nvPr/>
        </p:nvSpPr>
        <p:spPr>
          <a:xfrm>
            <a:off x="4268880" y="1752480"/>
            <a:ext cx="175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едставление концепции агенство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23"/>
          <p:cNvCxnSpPr/>
          <p:nvPr/>
        </p:nvCxnSpPr>
        <p:spPr>
          <a:xfrm>
            <a:off x="3790440" y="212364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1" name="TextBox 11"/>
          <p:cNvSpPr/>
          <p:nvPr/>
        </p:nvSpPr>
        <p:spPr>
          <a:xfrm>
            <a:off x="4114800" y="2878200"/>
            <a:ext cx="129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3"/>
          <p:cNvSpPr/>
          <p:nvPr/>
        </p:nvSpPr>
        <p:spPr>
          <a:xfrm>
            <a:off x="3657600" y="3505320"/>
            <a:ext cx="19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в списке  текущих  дел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4"/>
          <p:cNvCxnSpPr/>
          <p:nvPr/>
        </p:nvCxnSpPr>
        <p:spPr>
          <a:xfrm flipH="1">
            <a:off x="4722480" y="236232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Straight Arrow Connector 18"/>
          <p:cNvCxnSpPr/>
          <p:nvPr/>
        </p:nvCxnSpPr>
        <p:spPr>
          <a:xfrm flipH="1">
            <a:off x="4722480" y="32763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5" name="Straight Arrow Connector 19"/>
          <p:cNvCxnSpPr/>
          <p:nvPr/>
        </p:nvCxnSpPr>
        <p:spPr>
          <a:xfrm flipH="1">
            <a:off x="4723560" y="456372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6" name="TextBox 20"/>
          <p:cNvSpPr/>
          <p:nvPr/>
        </p:nvSpPr>
        <p:spPr>
          <a:xfrm>
            <a:off x="4119840" y="495288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6"/>
          <p:cNvSpPr/>
          <p:nvPr/>
        </p:nvSpPr>
        <p:spPr>
          <a:xfrm>
            <a:off x="5791320" y="28098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 разработкой совместно с ОК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5867280" y="3809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лоняет/удаляет концепцию (после консультаций с ОК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30"/>
          <p:cNvSpPr/>
          <p:nvPr/>
        </p:nvSpPr>
        <p:spPr>
          <a:xfrm>
            <a:off x="5445000" y="368604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36"/>
          <p:cNvCxnSpPr/>
          <p:nvPr/>
        </p:nvCxnSpPr>
        <p:spPr>
          <a:xfrm flipH="1">
            <a:off x="6551280" y="36190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Straight Arrow Connector 37"/>
          <p:cNvCxnSpPr/>
          <p:nvPr/>
        </p:nvCxnSpPr>
        <p:spPr>
          <a:xfrm flipV="1">
            <a:off x="6551640" y="339984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2" name="TextBox 40"/>
          <p:cNvSpPr/>
          <p:nvPr/>
        </p:nvSpPr>
        <p:spPr>
          <a:xfrm>
            <a:off x="5867280" y="492768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ческое напоминание  в адрес  агенства ГЭФ направляется по электронной почте (через 20 дней, затем через 30 дн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41"/>
          <p:cNvCxnSpPr/>
          <p:nvPr/>
        </p:nvCxnSpPr>
        <p:spPr>
          <a:xfrm flipH="1">
            <a:off x="6562440" y="4438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77320" cy="449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732960" y="685800"/>
            <a:ext cx="690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ечение 30 дней агенства ГЭФ должны предприня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ответствующие действия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тношении концепции – принять ее или отклон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дзаголовок 2"/>
          <p:cNvSpPr/>
          <p:nvPr/>
        </p:nvSpPr>
        <p:spPr>
          <a:xfrm>
            <a:off x="1295280" y="6019920"/>
            <a:ext cx="38498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13924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609480" y="685800"/>
            <a:ext cx="746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генства ГЭФ могут отказаться от концепции после того, как приняли 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0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878040" y="380880"/>
            <a:ext cx="6962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водный отчет по проектной концепции, составляемый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генством ГЭ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228600" y="1066680"/>
            <a:ext cx="838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й  сводный отчет агенством ГЭФ может быть составлен по таким параметр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название страны и статус концеп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534160" cy="41911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8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у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0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3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4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85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ним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0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1" name="TextBox 40"/>
          <p:cNvSpPr/>
          <p:nvPr/>
        </p:nvSpPr>
        <p:spPr>
          <a:xfrm>
            <a:off x="541008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3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95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360" y="660240"/>
            <a:ext cx="668016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228600" y="1600200"/>
          <a:ext cx="8686800" cy="4191120"/>
        </p:xfrm>
        <a:graphic>
          <a:graphicData uri="http://schemas.openxmlformats.org/drawingml/2006/table">
            <a:tbl>
              <a:tblPr/>
              <a:tblGrid>
                <a:gridCol w="1523880"/>
                <a:gridCol w="685800"/>
                <a:gridCol w="1295640"/>
                <a:gridCol w="1371600"/>
                <a:gridCol w="2057400"/>
                <a:gridCol w="990360"/>
                <a:gridCol w="762120"/>
              </a:tblGrid>
              <a:tr h="122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генство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ретариат ГЭ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302" name="TextBox 8"/>
          <p:cNvSpPr/>
          <p:nvPr/>
        </p:nvSpPr>
        <p:spPr>
          <a:xfrm>
            <a:off x="1523880" y="1905120"/>
            <a:ext cx="99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нцеп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Straight Arrow Connector 10"/>
          <p:cNvCxnSpPr/>
          <p:nvPr/>
        </p:nvCxnSpPr>
        <p:spPr>
          <a:xfrm>
            <a:off x="1219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4" name="TextBox 12"/>
          <p:cNvSpPr/>
          <p:nvPr/>
        </p:nvSpPr>
        <p:spPr>
          <a:xfrm>
            <a:off x="2666880" y="1905120"/>
            <a:ext cx="133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редактирование концепции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Straight Arrow Connector 21"/>
          <p:cNvCxnSpPr/>
          <p:nvPr/>
        </p:nvCxnSpPr>
        <p:spPr>
          <a:xfrm>
            <a:off x="2362320" y="21337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6" name="TextBox 22"/>
          <p:cNvSpPr/>
          <p:nvPr/>
        </p:nvSpPr>
        <p:spPr>
          <a:xfrm>
            <a:off x="4191120" y="1752480"/>
            <a:ext cx="1218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ение концепции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23"/>
          <p:cNvCxnSpPr/>
          <p:nvPr/>
        </p:nvCxnSpPr>
        <p:spPr>
          <a:xfrm>
            <a:off x="3809520" y="213156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8" name="TextBox 11"/>
          <p:cNvSpPr/>
          <p:nvPr/>
        </p:nvSpPr>
        <p:spPr>
          <a:xfrm>
            <a:off x="3973680" y="2886120"/>
            <a:ext cx="1143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 по электронной поч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3429000" y="3878280"/>
            <a:ext cx="2057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системе  ИСУП концепция появляется  в списке текущих дел  агенства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Straight Arrow Connector 14"/>
          <p:cNvCxnSpPr/>
          <p:nvPr/>
        </p:nvCxnSpPr>
        <p:spPr>
          <a:xfrm flipH="1">
            <a:off x="4553640" y="2561760"/>
            <a:ext cx="2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Straight Arrow Connector 18"/>
          <p:cNvCxnSpPr/>
          <p:nvPr/>
        </p:nvCxnSpPr>
        <p:spPr>
          <a:xfrm flipH="1">
            <a:off x="4487040" y="3525480"/>
            <a:ext cx="252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2" name="Straight Arrow Connector 19"/>
          <p:cNvCxnSpPr/>
          <p:nvPr/>
        </p:nvCxnSpPr>
        <p:spPr>
          <a:xfrm flipH="1">
            <a:off x="4419360" y="4800240"/>
            <a:ext cx="216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3" name="TextBox 20"/>
          <p:cNvSpPr/>
          <p:nvPr/>
        </p:nvSpPr>
        <p:spPr>
          <a:xfrm>
            <a:off x="3891240" y="5126040"/>
            <a:ext cx="1075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ведомле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6"/>
          <p:cNvSpPr/>
          <p:nvPr/>
        </p:nvSpPr>
        <p:spPr>
          <a:xfrm>
            <a:off x="5410080" y="2820960"/>
            <a:ext cx="2133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тверждает концепцию с ее последующей разработкой совместно с ОК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7"/>
          <p:cNvSpPr/>
          <p:nvPr/>
        </p:nvSpPr>
        <p:spPr>
          <a:xfrm>
            <a:off x="5486400" y="3809880"/>
            <a:ext cx="205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тклоняет/отказывается от концепции (после консультаций с ОК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30"/>
          <p:cNvSpPr/>
          <p:nvPr/>
        </p:nvSpPr>
        <p:spPr>
          <a:xfrm>
            <a:off x="5259240" y="3591000"/>
            <a:ext cx="10670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36"/>
          <p:cNvCxnSpPr/>
          <p:nvPr/>
        </p:nvCxnSpPr>
        <p:spPr>
          <a:xfrm flipH="1">
            <a:off x="6322680" y="357948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8" name="Straight Arrow Connector 37"/>
          <p:cNvCxnSpPr/>
          <p:nvPr/>
        </p:nvCxnSpPr>
        <p:spPr>
          <a:xfrm flipV="1">
            <a:off x="6323040" y="3351960"/>
            <a:ext cx="216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19" name="TextBox 40"/>
          <p:cNvSpPr/>
          <p:nvPr/>
        </p:nvSpPr>
        <p:spPr>
          <a:xfrm>
            <a:off x="5105520" y="4876920"/>
            <a:ext cx="274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втоматическое напоминание в адрес агенства ГЭФ направляется по электронной почте (через 20 дней, затем через 30 дней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41"/>
          <p:cNvCxnSpPr/>
          <p:nvPr/>
        </p:nvCxnSpPr>
        <p:spPr>
          <a:xfrm flipH="1">
            <a:off x="6322680" y="4465800"/>
            <a:ext cx="216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1" name="TextBox 24"/>
          <p:cNvSpPr/>
          <p:nvPr/>
        </p:nvSpPr>
        <p:spPr>
          <a:xfrm>
            <a:off x="7543800" y="1676520"/>
            <a:ext cx="137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зработка концепции совместно с  агенством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Straight Arrow Connector 27"/>
          <p:cNvCxnSpPr/>
          <p:nvPr/>
        </p:nvCxnSpPr>
        <p:spPr>
          <a:xfrm flipV="1">
            <a:off x="6339240" y="2152080"/>
            <a:ext cx="3960" cy="61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23" name="Straight Arrow Connector 29"/>
          <p:cNvCxnSpPr/>
          <p:nvPr/>
        </p:nvCxnSpPr>
        <p:spPr>
          <a:xfrm>
            <a:off x="5334120" y="2057400"/>
            <a:ext cx="22867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24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одзаголовок 2"/>
          <p:cNvSpPr/>
          <p:nvPr/>
        </p:nvSpPr>
        <p:spPr>
          <a:xfrm>
            <a:off x="528480" y="6367320"/>
            <a:ext cx="594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4"/>
          <p:cNvSpPr/>
          <p:nvPr/>
        </p:nvSpPr>
        <p:spPr>
          <a:xfrm>
            <a:off x="7543800" y="2895480"/>
            <a:ext cx="137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едставляет ФОП в ГЭ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7848720" y="5056200"/>
            <a:ext cx="8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лучает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ФО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Straight Arrow Connector 27"/>
          <p:cNvCxnSpPr/>
          <p:nvPr/>
        </p:nvCxnSpPr>
        <p:spPr>
          <a:xfrm>
            <a:off x="8133840" y="3346560"/>
            <a:ext cx="1080" cy="1683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сть ли вопросы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32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одзаголовок 2"/>
          <p:cNvSpPr/>
          <p:nvPr/>
        </p:nvSpPr>
        <p:spPr>
          <a:xfrm>
            <a:off x="527040" y="6372360"/>
            <a:ext cx="59364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3240" y="5962680"/>
            <a:ext cx="915660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 rot="20241600">
            <a:off x="1142640" y="2437920"/>
            <a:ext cx="6853320" cy="2803680"/>
          </a:xfrm>
          <a:custGeom>
            <a:avLst/>
            <a:gdLst>
              <a:gd name="textAreaLeft" fmla="*/ 0 w 6853320"/>
              <a:gd name="textAreaRight" fmla="*/ 6853680 w 6853320"/>
              <a:gd name="textAreaTop" fmla="*/ 0 h 2803680"/>
              <a:gd name="textAreaBottom" fmla="*/ 2804040 h 2803680"/>
            </a:gdLst>
            <a:ahLst/>
            <a:rect l="textAreaLeft" t="textAreaTop" r="textAreaRight" b="textAreaBottom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b8bff"/>
              </a:gs>
              <a:gs pos="100000">
                <a:srgbClr val="0000ff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6"/>
          <p:cNvSpPr/>
          <p:nvPr/>
        </p:nvSpPr>
        <p:spPr>
          <a:xfrm>
            <a:off x="3505320" y="1600200"/>
            <a:ext cx="1752480" cy="137160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129528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1928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Заверш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ализ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роект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его оцен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8"/>
          <p:cNvSpPr/>
          <p:nvPr/>
        </p:nvSpPr>
        <p:spPr>
          <a:xfrm>
            <a:off x="217800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451d1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495288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b359d7"/>
              </a:gs>
              <a:gs pos="100000">
                <a:srgbClr val="62317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6553080" y="1828800"/>
            <a:ext cx="1413000" cy="127476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c002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780360" y="182880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ГЭФ проект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концеп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400800" y="2209680"/>
            <a:ext cx="1773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дготовк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057280" y="4479840"/>
            <a:ext cx="117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Эксперти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роек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1982880" y="4789440"/>
            <a:ext cx="1703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Утверждение и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реализация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проекта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агенством ГЭ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и осуществлени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надзора з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его </a:t>
            </a:r>
            <a:br>
              <a:rPr sz="700"/>
            </a:br>
            <a:r>
              <a:rPr b="1" lang="ru-RU" sz="700" spc="-1" strike="noStrike">
                <a:solidFill>
                  <a:srgbClr val="ffffff"/>
                </a:solidFill>
                <a:latin typeface="Verdana"/>
              </a:rPr>
              <a:t>осуществлением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800600" y="685800"/>
            <a:ext cx="1398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проводит анализ в целях утверждения ФОП для </a:t>
            </a:r>
            <a:r>
              <a:rPr b="0" i="1" lang="en-US" sz="1000" spc="-1" strike="noStrike">
                <a:solidFill>
                  <a:srgbClr val="c0504d"/>
                </a:solidFill>
                <a:latin typeface="Calibri"/>
              </a:rPr>
              <a:t>W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>
            <a:off x="5011560" y="2819520"/>
            <a:ext cx="2264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ри получен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запроса Секретариат проводи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анализ для утверждения предоставления гранта дл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дготовки проек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7315200" y="609480"/>
            <a:ext cx="118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утверждение рабочей программы Совето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313880" y="5486400"/>
            <a:ext cx="127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Этап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Calibri"/>
              </a:rPr>
              <a:t>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екретари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роводи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анализ д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утверждения проек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971800" y="3606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номасштаб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2057400" y="1752480"/>
            <a:ext cx="12733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тде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оценки ГЭ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и оце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завершенных проек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228600" y="4952880"/>
            <a:ext cx="1220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екретариа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водит анали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оектов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находящих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в стад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ал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6180840" y="990720"/>
            <a:ext cx="1361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Рекоменд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ТАП в отношен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утвержд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5943600" y="2971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 flipH="1" flipV="1">
            <a:off x="5638680" y="2209320"/>
            <a:ext cx="76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2666880" y="24382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 flipV="1">
            <a:off x="914400" y="51051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 flipH="1" flipV="1">
            <a:off x="4495320" y="51055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3353040" y="4343400"/>
            <a:ext cx="1410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Анализ и замечани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овета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>
            <a:off x="5562720" y="144792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5943240" y="13716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>
            <a:off x="6400800" y="14479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4"/>
          <p:cNvSpPr/>
          <p:nvPr/>
        </p:nvSpPr>
        <p:spPr>
          <a:xfrm>
            <a:off x="87840" y="30492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оектный цикл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34"/>
          <p:cNvCxnSpPr>
            <a:stCxn id="77" idx="2"/>
          </p:cNvCxnSpPr>
          <p:nvPr/>
        </p:nvCxnSpPr>
        <p:spPr>
          <a:xfrm>
            <a:off x="4059360" y="4739760"/>
            <a:ext cx="2160" cy="591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xt Box 29"/>
          <p:cNvSpPr/>
          <p:nvPr/>
        </p:nvSpPr>
        <p:spPr>
          <a:xfrm>
            <a:off x="5562720" y="5638680"/>
            <a:ext cx="3429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 Толькло при поступлении запроса от Совета при утверждении рабочего п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62320" y="380880"/>
            <a:ext cx="205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Необязательный этап</a:t>
            </a:r>
            <a:r>
              <a:rPr b="1" i="1" lang="en-US" sz="1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КЦ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ставляют проектную концепцию агенством ГЭФ через ИСУ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0"/>
          <p:cNvSpPr/>
          <p:nvPr/>
        </p:nvSpPr>
        <p:spPr>
          <a:xfrm>
            <a:off x="3429000" y="12952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65400" y="6397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333440" y="6191280"/>
            <a:ext cx="259884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504720" y="644832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952200"/>
            <a:ext cx="800100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 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2600" y="59436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04920" y="1752480"/>
          <a:ext cx="8458200" cy="3886200"/>
        </p:xfrm>
        <a:graphic>
          <a:graphicData uri="http://schemas.openxmlformats.org/drawingml/2006/table">
            <a:tbl>
              <a:tblPr/>
              <a:tblGrid>
                <a:gridCol w="1644480"/>
                <a:gridCol w="1565280"/>
                <a:gridCol w="784440"/>
                <a:gridCol w="793440"/>
                <a:gridCol w="1198800"/>
                <a:gridCol w="1197000"/>
                <a:gridCol w="127476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92" name="TextBox 8"/>
          <p:cNvSpPr/>
          <p:nvPr/>
        </p:nvSpPr>
        <p:spPr>
          <a:xfrm>
            <a:off x="1752480" y="2133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0"/>
          <p:cNvCxnSpPr/>
          <p:nvPr/>
        </p:nvCxnSpPr>
        <p:spPr>
          <a:xfrm>
            <a:off x="1295280" y="2437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4" name="Подзаголовок 2"/>
          <p:cNvSpPr/>
          <p:nvPr/>
        </p:nvSpPr>
        <p:spPr>
          <a:xfrm>
            <a:off x="1265400" y="64548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1352520" y="618984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809880" y="0"/>
            <a:ext cx="3962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fbfbf"/>
                </a:solidFill>
                <a:latin typeface="Calibri"/>
              </a:rPr>
              <a:t>Интерфейсы ИСУ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0600" y="43812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кран, отражающий список проектных концепций, у ОК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87280" y="762120"/>
            <a:ext cx="9009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входа в систему ИСУП перед пользователем, представляющим оперативный  координационный  центр, первой на экране появится страница "Концепции". Находясь на этой странице, ОКЦ могут  вводить, изменять или распечатывать проектные концепции и осуществлять мониторинг концепций, представленных ими агенством ГЭ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4228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дзаголовок 2"/>
          <p:cNvSpPr/>
          <p:nvPr/>
        </p:nvSpPr>
        <p:spPr>
          <a:xfrm>
            <a:off x="533520" y="635148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431200" cy="4267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403560" y="380880"/>
            <a:ext cx="70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РАН ВВОДА ИНФОРМАЦИИ О ПРОЕКТНОЙ КОНЦЕПЦИИ В СИСТЕМЕ ИС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50880" y="685800"/>
            <a:ext cx="67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 "Проектные концепции" содержит основную информац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денную ОКЦ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9880" y="0"/>
            <a:ext cx="5334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3" name="Подзаголовок 2"/>
          <p:cNvSpPr/>
          <p:nvPr/>
        </p:nvSpPr>
        <p:spPr>
          <a:xfrm>
            <a:off x="126540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дзаголовок 2"/>
          <p:cNvSpPr/>
          <p:nvPr/>
        </p:nvSpPr>
        <p:spPr>
          <a:xfrm>
            <a:off x="51444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670960" cy="4419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КЦ  может добавить дополнительное контактное лицо, например, референта или члена технической группы, в адрес которых могут направляться копии сообщений электронной почты, рассылаемых через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119" name="Подзаголовок 2"/>
          <p:cNvSpPr/>
          <p:nvPr/>
        </p:nvSpPr>
        <p:spPr>
          <a:xfrm>
            <a:off x="1255680" y="62816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дзаголовок 2"/>
          <p:cNvSpPr/>
          <p:nvPr/>
        </p:nvSpPr>
        <p:spPr>
          <a:xfrm>
            <a:off x="504720" y="6370560"/>
            <a:ext cx="642960" cy="1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96720" y="646200"/>
            <a:ext cx="603252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Схема обработки проектных концепций</a:t>
            </a:r>
            <a:br>
              <a:rPr sz="2000"/>
            </a:br>
            <a:r>
              <a:rPr b="1" lang="ru-RU" sz="2000" spc="-1" strike="noStrike">
                <a:solidFill>
                  <a:srgbClr val="bfbfbf"/>
                </a:solidFill>
                <a:latin typeface="Arial"/>
              </a:rPr>
              <a:t>в системе ИСУ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-12600" y="581040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380880" y="1600200"/>
          <a:ext cx="8153640" cy="3886200"/>
        </p:xfrm>
        <a:graphic>
          <a:graphicData uri="http://schemas.openxmlformats.org/drawingml/2006/table">
            <a:tbl>
              <a:tblPr/>
              <a:tblGrid>
                <a:gridCol w="1827360"/>
                <a:gridCol w="1294920"/>
                <a:gridCol w="2207880"/>
                <a:gridCol w="281160"/>
                <a:gridCol w="216000"/>
                <a:gridCol w="1162800"/>
                <a:gridCol w="1163520"/>
              </a:tblGrid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генство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кретариат ГЭ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8"/>
          <p:cNvSpPr/>
          <p:nvPr/>
        </p:nvSpPr>
        <p:spPr>
          <a:xfrm>
            <a:off x="1905120" y="19810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в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цеп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>
            <a:off x="1294920" y="220932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TextBox 12"/>
          <p:cNvSpPr/>
          <p:nvPr/>
        </p:nvSpPr>
        <p:spPr>
          <a:xfrm>
            <a:off x="3505320" y="19810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хране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дактирование концеп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1"/>
          <p:cNvCxnSpPr/>
          <p:nvPr/>
        </p:nvCxnSpPr>
        <p:spPr>
          <a:xfrm>
            <a:off x="3123720" y="2286000"/>
            <a:ext cx="3819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10"/>
          <p:cNvCxnSpPr/>
          <p:nvPr/>
        </p:nvCxnSpPr>
        <p:spPr>
          <a:xfrm>
            <a:off x="1447920" y="2362320"/>
            <a:ext cx="3816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Подзаголовок 2"/>
          <p:cNvSpPr/>
          <p:nvPr/>
        </p:nvSpPr>
        <p:spPr>
          <a:xfrm>
            <a:off x="1246320" y="628164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дзаголовок 2"/>
          <p:cNvSpPr/>
          <p:nvPr/>
        </p:nvSpPr>
        <p:spPr>
          <a:xfrm>
            <a:off x="1324080" y="6046920"/>
            <a:ext cx="38494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одзаголовок 2"/>
          <p:cNvSpPr/>
          <p:nvPr/>
        </p:nvSpPr>
        <p:spPr>
          <a:xfrm>
            <a:off x="514440" y="6380280"/>
            <a:ext cx="642960" cy="12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55:32Z</dcterms:created>
  <dc:creator>wb350798</dc:creator>
  <dc:description/>
  <dc:language>en-US</dc:language>
  <cp:lastModifiedBy>wb350798</cp:lastModifiedBy>
  <cp:lastPrinted>2011-09-27T09:18:22Z</cp:lastPrinted>
  <dcterms:modified xsi:type="dcterms:W3CDTF">2011-11-01T21:02:27Z</dcterms:modified>
  <cp:revision>200</cp:revision>
  <dc:subject/>
  <dc:title>Slide 1</dc:title>
</cp:coreProperties>
</file>