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3DDF4E-8FC5-4268-ACA0-4B8AE7253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419FC7F-211D-4DD9-B273-71CD03E3CC6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2BB13CB-9A0F-4476-9A3B-0EB7AFC3A2B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DB9511A-2F2F-4B8A-91D8-B112B2F52E5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8E456CC-5B93-4909-8AD4-85D0640BFE74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42A89E9-5862-47F1-A867-F51AB873308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CDDD-B26E-450D-A7C0-C50DEF24514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428F2D-F495-43FC-8EBC-7BC71977DF21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803B-C536-40FD-9DCD-5B79D68C7DD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1E7552-4222-4B91-A5B6-6A07A9F5B2C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D950-B358-43C5-8648-63314D3EC8D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3C2F1E-ECE4-40C0-9E0A-79F12EB5DC1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C56-9C5A-444A-B89C-D1D9C44F3FE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EF1AEA4-FCD6-45FC-BCD3-3DB0EB18495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6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20D-5764-4E3A-8DD3-B34D1143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BBD-6B82-4034-9800-6DD53C4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72B-86E2-444F-B4C2-7582847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1A3-474B-441D-9BA3-04E7DF2B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E46-47FD-4AC4-B845-79C9608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8E9C-61B7-42DB-93E5-36831547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6E4F-19FB-4A82-967C-724F179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C8FA-F867-4BCF-8FBF-E878012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A43-5011-46AC-8260-17838C53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25F-ABFB-4E70-8EE9-657832D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5DB-51E6-4184-9884-D9EE8E70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45A4-3C36-49DD-B620-EA38DF1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9EF-61CA-4E9B-A4BD-841EE4C0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2F9-5D8D-4629-B47E-F8EE80A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DB0D-EE2A-4D6C-93BB-F41F32F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3819-E608-4E62-AA0F-AAAE74A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CB6C-D263-462E-8709-47A5F612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3735-98D8-463F-8157-E643D45C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699F-BAF3-4014-A3D2-BA61AF42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39D1-79BB-4D56-ADC6-8F03BDCE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0110-1704-486B-89C7-AB02992A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710-CB82-43C6-90C8-5A73B52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CE8B-ABB1-4146-A1D4-F74F4FC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BA6F-06D0-4F53-A851-1144793B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A4896-80ED-4EBB-AC60-BD445C7A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64B8-A93D-4885-B363-EFDC308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1DF2-3241-4972-BF3E-639E657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4A0D-8E16-4C45-A981-7E6F001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A1C6-C83F-4BCA-A660-7282FC3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EF0C-FE13-4532-B6A4-6EF033A6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7C9C-C416-4F19-AB40-286C49B8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2C1-2999-412C-B6BE-85397894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A23-AC36-423D-B7B4-3BB6921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B315-AF14-4F92-A18E-2B09161B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DC43-9C47-4723-A4B7-C51178D6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A223-331B-47A1-96BD-CD7FF05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ADFC9-ADA7-4347-A6BF-690D166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89750-184B-4C62-9745-D8F39E8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66EE-E603-4A40-8C2F-562F229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BD9D-DDA4-4B91-8B21-2148228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31DE-A55F-4F98-8050-A9E5B62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EC01-D0D0-4A9E-9ADF-9AEFEFD1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9E0-76E0-42BE-8A13-208C2CE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53E3-D3D5-4C35-B73E-CD9A80F4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3F8E-8DED-4B7E-950D-04455666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C539-8DFB-467E-81DF-0C3B789E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193-3704-4DF6-9169-55BA47A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387-A8C9-4C27-93A9-75AFBAA7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8E2-3937-4E72-9F6E-BE5DE0DD5BC7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CF46-FC65-493E-B3AA-C3BC88E90A0A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7CC1-15A9-4F85-B8BF-4F95FD08427F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09ED-757F-4D60-820E-5CB8FC058755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20:46:07Z</dcterms:modified>
  <cp:revision>489</cp:revision>
  <dc:subject/>
  <dc:title>PowerPoint Presentation</dc:title>
</cp:coreProperties>
</file>