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9348002-5036-44EA-B668-5D49BCB69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43EC3AF-E545-4C41-BBEB-52217ABFB69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5AF969B-FE92-47CC-AC09-2EF44D784BE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2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86508B3-B803-435C-9C4C-2E536B5D1A0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2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B18BEE1-0B6D-45BE-A198-7523D6601BD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C37CC01-E5B6-4EFD-BDAD-B60F3C8DF4B6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329-6BF0-4EE9-A960-3DF15103BB10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0FA8F7-FB46-4C9B-B7E3-97E38693EE1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B2BB-BD17-410B-BDB3-87671BFB9FA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FEBA5AF-8515-489A-A794-C6E7D47AC18B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26EB-47D8-43BB-81EB-7545E64971CD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3D4C4F-5371-4996-B0EA-A5DAF73EEEAF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5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8BFE-AD72-4B41-A52D-A705F020052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4E95E38-6EED-4E02-AAF2-FDC9FFA6EF1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60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3407-2A49-4945-BF9E-8EB8E7B0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877C-36C5-4541-B1E3-BB631D1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F32-E3A1-4437-9A7C-F9CD5162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C00-98D5-45FE-8D9B-4A72E278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A77-8E38-476A-828C-A8A11F8E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EBC3-55E1-4625-B6C1-85A73F1F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7B52-6125-45BE-BB6B-C4466B5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636-3E60-414F-8FE7-7F6902FB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986E-E64B-43E0-983E-694D078D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84F7-AEE3-41B2-9297-54E7B4C3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BFBD-A41E-490E-9FD4-88D0D029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5D1F-74EB-42B0-BAAC-017D9B7E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F948-1689-4EDC-B35E-2DABF02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708C-377D-4DE7-BD3D-E9BE3CD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B58-548B-435D-8DDA-A7CF2954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7D56-08A1-41E1-97EC-AAA6AEA3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F0F0-8C3B-4F1E-A867-9FA76B93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256-0F2F-4A48-BAED-E92F6DB5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0182-4FFD-4412-84E9-E5D8EAC8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9481A-B425-4D79-9790-2F73B9D3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53AA8-EC24-46D5-BFDC-0633C9A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B76-68A0-4EE4-82E6-5575C539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216A9-5181-49EC-8542-D472E3B5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AA49-F72D-4716-901B-32378FD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AC57-DD7F-428C-BC8E-68321CC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D0ABD-DC70-4386-9D4A-80E5498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C4E0-F5B8-4913-9732-86C583DE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493F-67F9-4A7C-AA89-24DDDBC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6F192-4AB1-4F61-B672-D866A3C2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0E049-96BA-4D3A-8019-E7ED8DB7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4D9C-D377-4A6A-829B-3291C99A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D59-7F97-4A4F-8FFF-5C75200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217-936C-4965-8A2E-9043E0E7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435B-CBED-4DBD-94FE-D30E862B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D85E-4C79-4133-95D8-D237D1AD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9491F-696C-4A8D-BC59-712DA25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12471-D47E-4131-89C8-08C4E9E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637D4-BEED-4A08-82B3-5D50EAA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7912-6441-4A5B-AAC6-E36F2A5E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60E6-E405-40FC-99D9-A6DCDE45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F746-F750-436D-8A54-6182A8C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A12BD-CAE5-4116-B8D8-47FAC92F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DDD-6DD8-44BD-804F-CBB7F9A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3A3B1-73E7-4CF8-A851-A483546B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01A61-2C06-4B77-8735-8355728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D385-DF27-45F8-A853-72FD0BBB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EE5-9D86-464C-93F1-EBC5C0DE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340C-2BE6-4CDA-8D9D-E005EB9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87E6-EE24-4678-8186-F4036ECC1D53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303-4C38-4475-93BF-887026CAC593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A236-50CF-4BBB-8E7D-FDF41E8D5125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4472-8C29-46C0-ADC7-4D4F5008CFD0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20:46:07Z</dcterms:modified>
  <cp:revision>489</cp:revision>
  <dc:subject/>
  <dc:title>PowerPoint Presentation</dc:title>
</cp:coreProperties>
</file>