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9A048BB-CA83-48CC-BE2F-F787622BE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DCA0582-977B-4D86-A268-DDB3E5BC4A0F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8878E07-4C0C-4D87-98C0-B8011405221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E9D5D0E-004A-4270-900B-A52059FB4783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42232EE-0D91-4CF7-9562-A827F56072A9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6730149-319B-4258-B33D-0C8417840B74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F2C1-21F9-4167-8557-CDF33544C768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48E4D50-EE7C-4043-9FEB-AB1629CD92D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F0A2-23E5-4E7D-B63F-956CF0883681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446B587-4D6C-4D91-AD52-1CFA6CC192B0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C9C7-1548-4279-B669-E090B8FFE95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A9BCC77-941C-4199-B27A-4FBEDD04F528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C1EF-970C-447B-A7A9-D08AB8A1CC8C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3513955-D7BA-4391-A4AA-DC02D9944E15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6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4BD-E170-4595-A0C6-02A3FABE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1DA-DB5F-46AE-8FE7-FC9280D7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D69-2695-4D69-BB9A-6BAFB8D3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ACC-613D-4CF5-B4C1-47A2990B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94A-C991-4064-937E-85DE6CA8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30C1-3F33-45A3-83A5-224E560C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FD09-0424-4223-A948-C02852C9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D0A4-21C0-4CF9-87E7-A39201E4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C289-C356-4A6B-93B4-5A432391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8024-9283-4615-B93F-9DA35DB9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20D-1B05-4953-919E-5BC551A8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AFD-1D43-4566-A094-5669B87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A37B-CB82-4A8E-8369-5AF9DE5A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A378-DB67-4E28-88D7-2C29C0F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26A1-0D3F-42CA-8850-BD0A5325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A6D6-5894-45B7-AA82-AA33A76E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B118-D505-4F26-B5DE-49A33FDF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4370-20C1-44EC-BC38-E6CA0E8E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921F-B74A-45CD-B5AF-ECE239BD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F498-6DC2-4778-9C97-53336DF5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3948-CB2B-491B-A135-549B1A8F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494-BB01-4F33-AF75-06FEA864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695B-4DD8-4C86-A8C3-71350D7D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FCA4-72FD-4F39-8574-8DBCB6E9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2B853-20DB-4CCC-9779-A5F4CCE1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47DA-4693-4387-AA9F-754B112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94FA-FA57-40B8-BB6D-47FFD58F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92D8-6568-4A2E-A7EB-8A4249A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132A-F1CD-43D0-828D-0FEA4BB2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F90C-4257-464A-9EEE-F1612D13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ABB0-B0AE-4ECD-99D5-622B0D3B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F4E-9C24-4769-BCFC-6CA56F7D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FBF-1C40-45EE-9477-94570612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0190-BB01-411F-9EC8-88501351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DFC6-B2B4-49BE-A939-A2369952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E0613-9532-4970-BE65-67A0B120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F3CBF-E3DF-4077-81DA-2BD6E083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671A-6FA3-462F-B30C-628D946C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413E-18FC-483B-8453-EFF291EE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4412-6345-4A01-9D70-0761B349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12DC-E88C-4119-982D-12D5622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A10D-FACA-4006-835A-07D6528F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46A-4E87-4968-9345-135DCFA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7595-D7AE-4630-8FAB-B9796F7A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8673-DEBB-41C2-B461-72557E1A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8CA74-24AA-4003-8C1E-3C98EF72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1B5-6525-49C7-AC52-DFE07DC1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A6E-476F-4DD8-AB60-FD5E49E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3142-B21B-4E9B-AEF5-E01A8507A2D0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6282-1C4B-48F1-8762-DCABE7AEED3A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11E0-00BE-424D-A819-CFAEE18894AE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2021-9AC6-4D0E-B180-415081CF7090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11-01T20:46:07Z</dcterms:modified>
  <cp:revision>489</cp:revision>
  <dc:subject/>
  <dc:title>PowerPoint Presentation</dc:title>
</cp:coreProperties>
</file>