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2B2410-E35E-41F6-8452-F2230E723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BCEAD37-1B62-4052-BC60-5EE1DB580FF6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5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6B031EF-0988-4166-855C-46A88D6C5F54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834CECF-9B7C-4D4E-9C29-9B871656FC6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6C9618D-0058-456F-8C80-699613218AE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9D84C6E-6401-4D02-AAB7-75775AA01C7A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3EE7-CE4B-4A70-93CF-02C89765C75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6DBF6FA-1589-4FA1-B58A-874635CC317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8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55CA-71CB-42D4-83D5-20333D049450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4ED1FC8-A9A4-4783-A9BF-15DF3399469D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3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859-6AB6-42A5-9AD4-4C19B23BCA4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91909BE-BF24-4E51-981C-CD5E769CAA62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8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1476-C9B8-4E8D-BEB8-8643E8FB5B80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6CB33D9-5E80-4F46-8832-E2BE3E7344EA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3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A75-8309-4562-98E0-172A15E4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85A-E41D-4FD9-A009-6221A3DE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DF8-D17E-4DD2-9CEF-BFC78372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837-DD11-4CBE-AE36-01526CC5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6A91-BF39-46F9-9BE1-82A3710F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E27F-F8FD-4014-BE92-29DA0C9C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D71F-7836-4578-B211-814EEAFD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3621-55BF-42E2-BB50-F65A8A2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423-6EE1-45A6-81E6-7282C5A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2D68-9289-4A78-A09A-2F8CAB3E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6F7F-B1C0-4310-92A1-A2A760B4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F12-2717-4893-96CC-046DAB4C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29BA-AEA3-41F8-A283-98DF0A5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E781-4E0D-4F22-8385-6E198082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0DBF-0F0E-4FCB-9B1F-B4AB5F40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FB11-9C2E-47D1-A0A2-4E14D371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F75A-BE3A-44E5-8ECC-62699452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0BD4-5A21-4AD5-9F97-0F219C68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E124-A872-4F46-8CD4-2718C77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CEE5-E5CF-447B-BBCE-43484439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1B8C-6917-4233-8FC5-BB821ABB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3F52-7788-4DAB-A154-460B0912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69A-02AF-473D-83F8-D8582F90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ED5C-8914-4CD5-AAE8-C14C89F6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7B78-C400-4F7F-A193-DFCC309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512A-F634-4201-A869-87595D7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1294-903A-4759-A080-6F78E03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A9D5-1E29-4FE0-9341-3FFFE4FF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13D6-DC79-4630-9D01-B827C5C1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64A6-A0A0-42C9-B777-7565EBBC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15E0-B0F7-4B2D-80FB-4AEE0005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E33F-9715-4DC7-B71B-CB7C9CEB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58FB-B9EF-47D1-9DD5-ACD89FC0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40B-C074-484B-B5BD-A58BA6C3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3D48-F43E-4619-974D-21E2687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A74F-2514-4A3C-A4D7-A76641F2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85D7-DFB9-4323-A675-4B436FAE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F910-2C4F-453D-BB8C-ADD9F2C7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DB07-50CD-4648-B996-7481DD4A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8E45-6A4C-43E0-A378-DCFF387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24982-F785-4E4B-A525-33ED6EB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DBBE-86FA-4877-B1D4-3C7EEC83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DDA1-35E0-4128-8386-852927F3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1553-616C-490C-9070-B0B155B8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D64-F6A7-4942-95D1-1EE488AE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649DE-9FF3-49C8-A01B-B026CD15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26C1-4CAE-4B50-803F-C8A426A6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26D2-63A9-40B4-A856-237F37F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E77B-EB49-4C0E-B461-14A3FD35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D599B-C9AC-4CE8-8F42-5D9AB3B5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5727A-6141-45D6-A35E-3085F53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626A5-0811-4B21-8378-21EC8ABE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B238-3D01-4B17-9EA9-31529BC1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DAB6-409F-4586-BE4C-07BFF386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BB196-3980-4BF9-A6C0-AAD8F1E5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4B8-8F83-4074-B717-0F02C58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EA33-7F09-4BD0-869A-8E98E746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8A0-8711-4C6B-A68A-0413344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377-3581-40F9-9E05-0C504CF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A89-5BD9-4399-B8DA-C8D7DA7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5d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2E9B-73C1-437A-A2C2-C4C99C1B72D4}" type="slidenum">
              <a:rPr b="0" lang="en-US" sz="1200" spc="-1" strike="noStrike">
                <a:solidFill>
                  <a:srgbClr val="ebe5d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60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EF-RU-LOGO.gif"/>
          <p:cNvPicPr/>
          <p:nvPr/>
        </p:nvPicPr>
        <p:blipFill>
          <a:blip r:embed="rId3"/>
          <a:stretch/>
        </p:blipFill>
        <p:spPr>
          <a:xfrm>
            <a:off x="609480" y="22860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D184-8204-4D11-AB33-49F396BA551B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5d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F323-69D9-46AD-BBEE-2D3324839A2B}" type="slidenum">
              <a:rPr b="0" lang="en-US" sz="1200" spc="-1" strike="noStrike">
                <a:solidFill>
                  <a:srgbClr val="ebe5d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6CB1-BE20-4EE2-9226-07BA9AA47E2C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7854-D1A8-4954-9077-4F5700091B19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4dcc4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Программа поддержки стран</a:t>
            </a:r>
            <a:r>
              <a:rPr b="1" lang="en-US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(</a:t>
            </a:r>
            <a:r>
              <a:rPr b="1" lang="ru-RU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ППС</a:t>
            </a:r>
            <a:r>
              <a:rPr b="1" lang="en-US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)</a:t>
            </a:r>
            <a:br>
              <a:rPr sz="1900"/>
            </a:br>
            <a:endParaRPr b="0" lang="en-US" sz="37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24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116000" y="38275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Семинар для членов ГЭФ в расширенном составе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года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Узбекистан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ounded Rectangle 4"/>
          <p:cNvSpPr/>
          <p:nvPr/>
        </p:nvSpPr>
        <p:spPr>
          <a:xfrm>
            <a:off x="179280" y="2060640"/>
            <a:ext cx="882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Для получения дополнительной информации 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следует обращаться в ГЭФ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1840" y="1197000"/>
            <a:ext cx="882180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ПС оказывает гибкую поддержку странам (в частности, координационным центрам), с тем чтобы они могли укрепить свой потенциал для сотрудничества с ГЭФ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уется под управлением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екретариата ГЭФ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ПС состоит из следующих компонентов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Формирование национальных портфелей проектов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NPFE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иалог с участием широкого круга заинтересованных сторон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еминары для членов в расширенном составе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(ECW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овещания стран-членов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поддержке членов Совет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ямая поддержка оперативных координаторов 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правление знаниями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знакомительные семинары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42d"/>
                </a:solidFill>
                <a:latin typeface="Calibri"/>
              </a:rPr>
              <a:t>Программа поддержки стран (ППС)</a:t>
            </a:r>
            <a:br>
              <a:rPr sz="3400"/>
            </a:br>
            <a:r>
              <a:rPr b="1" lang="ru-RU" sz="3400" spc="-1" strike="noStrike">
                <a:solidFill>
                  <a:srgbClr val="00642d"/>
                </a:solidFill>
                <a:latin typeface="Calibri"/>
              </a:rPr>
              <a:t>Общие вопросы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603360" y="1268280"/>
            <a:ext cx="8145360" cy="86544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протяжении всей истории ГЭФ агентства ГЭФ традиционно содействуют разработке программ в странах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871560" y="2171880"/>
            <a:ext cx="7993080" cy="1201680"/>
          </a:xfrm>
          <a:prstGeom prst="roundRect">
            <a:avLst>
              <a:gd name="adj" fmla="val 25759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дальнейшей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активизации участия ГЭФ в реализации стратегий на уровне стр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ая страна сейчас может сформировать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национальный портфель проектов при финансовой поддержке со стороны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1" name="Rounded Rectangle 9"/>
          <p:cNvSpPr/>
          <p:nvPr/>
        </p:nvSpPr>
        <p:spPr>
          <a:xfrm>
            <a:off x="900000" y="501156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национального портфеля проектов не является обязательным условием финансирования со стороны ГЭФ.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900000" y="3429000"/>
            <a:ext cx="8064720" cy="151272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тот процесс охватывает вс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тветствующие тематические области с описанием методов задействования выделяемых ГЭФ средств в проекта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х, отражающих национальные и региональные приоритеты, в целях решения глобальных задач в области охраны окружающей среды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8074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4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национальных портфелей проектов должно осуществляться в процессе консультаций и с участием широкого круга заинтересованных сторон и координироваться оперативными координаторами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5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роведения этой работы стране необходимо выбрать национальную организацию, которая имеет соответствующий опыт и квалификаци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ам, принявшим решение о формировании портфеля проектов, будет предоставлено 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30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000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долл. США из бюджета программ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4356000" y="4221000"/>
            <a:ext cx="4680000" cy="17431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ончательные вариан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ументов предоставляются участникам соответствующих конвенций дл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ознакомления с ними широкой общественности и размещаются на веб-сайте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ется с использованием механизма прямого доступа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500"/>
            </a:b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–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2300" spc="-1" strike="noStrike">
                <a:solidFill>
                  <a:srgbClr val="00642d"/>
                </a:solidFill>
                <a:latin typeface="Calibri"/>
              </a:rPr>
              <a:t>процесс реализации 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(3)</a:t>
            </a:r>
            <a:endParaRPr b="1" lang="en-US" sz="23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407960"/>
            <a:ext cx="9144000" cy="41817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рамках диалога с Секретариатом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а готовит предложение (включающее смету расход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Назначенное национальное</a:t>
            </a:r>
            <a:r>
              <a:rPr b="0" lang="en-US" sz="17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учреждение должно подготовить Отчет о результатах оценки системы управления финансовой деятельностью, составляемый по упрощенной форме</a:t>
            </a:r>
            <a:r>
              <a:rPr b="0" lang="en-US" sz="1700" spc="-1" strike="noStrike">
                <a:solidFill>
                  <a:srgbClr val="c00000"/>
                </a:solidFill>
                <a:latin typeface="Calibri"/>
                <a:ea typeface="Arial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екретариат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ссматривает предложение, и Исполнительный директор утверждает его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Юридические документы подписываются страной и Исполнительным директором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а осуществляет формирование национального портфеля проект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сле завершения процесса подготовки национального портфеля проектов окончательный доклад о планируемом проекте представляется Секретариату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Включая перечень требований о расходовании финансовых средств и отчет аудиторов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-22320" y="5805360"/>
            <a:ext cx="9156960" cy="792360"/>
          </a:xfrm>
          <a:prstGeom prst="rect">
            <a:avLst/>
          </a:prstGeom>
          <a:ln w="0">
            <a:noFill/>
          </a:ln>
        </p:spPr>
      </p:pic>
      <p:sp>
        <p:nvSpPr>
          <p:cNvPr id="242" name="Подзаголовок 2"/>
          <p:cNvSpPr/>
          <p:nvPr/>
        </p:nvSpPr>
        <p:spPr>
          <a:xfrm>
            <a:off x="506520" y="6227640"/>
            <a:ext cx="583920" cy="123840"/>
          </a:xfrm>
          <a:prstGeom prst="rect">
            <a:avLst/>
          </a:prstGeom>
          <a:solidFill>
            <a:srgbClr val="f3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6a062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1339920" y="5859360"/>
            <a:ext cx="2900160" cy="162000"/>
          </a:xfrm>
          <a:prstGeom prst="rect">
            <a:avLst/>
          </a:prstGeom>
          <a:solidFill>
            <a:srgbClr val="f3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b6a062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4" name="Подзаголовок 2"/>
          <p:cNvSpPr/>
          <p:nvPr/>
        </p:nvSpPr>
        <p:spPr>
          <a:xfrm>
            <a:off x="1252440" y="6040440"/>
            <a:ext cx="4276800" cy="431640"/>
          </a:xfrm>
          <a:prstGeom prst="rect">
            <a:avLst/>
          </a:prstGeom>
          <a:solidFill>
            <a:srgbClr val="c0c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739116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500"/>
            </a:b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Диалог между многочисленными заинтересованными сторонами  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диалог осуществляется в соответствии с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руководящими принципами Национального диалога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 заключается в оказании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гибкой поддержки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щаний, проводимых в стране в целях обмена опытом и информацией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жду различными сторонами,  принимающими участие в деятельности по обеспечению усточивого развит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и совещания призваны способствовать усилению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координации донорской помощ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ткому формулированию политики и процеду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ятся по запросу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перативного координатора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ы для членов ГЭФ в расширенном составе 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ECW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9280" y="1557360"/>
            <a:ext cx="8856720" cy="381960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W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ятс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дин раз в г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целью распространения информации о стратегиях, политике и процедура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овышения уровня координации и сотрудниче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имо национальных координаторов ГЭФ к участию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иглашаются координаторы действующие в рамках конвенций, и организации гражданского обществ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6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участников от каждой страны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Эти семинары организуются Секретариатом ГЭФ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ка дня составляется с учетом потребностей участ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это  позволяет число стран/участников, одновременно могут проводиться совеща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более одной группы стран-участниц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овещания стран-участниц и прямая поддержка оперативных координатор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699920"/>
            <a:ext cx="8553240" cy="3363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ует провед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дного совещания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группы стран-участниц в год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ое созывается по инициативе члена Со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лен Совета получает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3000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лл. США на цели организации совещания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дачу совещания входит обсуждение документов к заседанию Совета и согласование совместной позиции по конкретным вопрос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ъем прямой поддержки оперативного координатра составляет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9000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ходя из годового плана работы.Цель заключается в проведении мероприятий, способствующих выполнению оперативным координатором свои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нк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правление знаниями и ознакомительные семинары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560" y="1643040"/>
            <a:ext cx="8481960" cy="4177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6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6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знаниям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компонент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тражает изменяющиеся потребности оперативных координаторов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также потребности других соответствующих групп заинтересованных сторон, в частности, координационных центров, действующих в рамках конвенц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24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компонент такж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ет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включать информацию о фондах по адаптаци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яемы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нд для наименее развитых стран и Специальный фонд адаптации к изменению клима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знакомительные семинары проводятся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раз в год в Вашингтоне, округ Колумбия, в целях ознакомления персонала целого ряда (новых) национальных координаторов и организаций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 стратегиями, политикой и процедурами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cp:lastPrinted>2011-09-20T12:46:03Z</cp:lastPrinted>
  <dcterms:modified xsi:type="dcterms:W3CDTF">2011-11-01T21:03:00Z</dcterms:modified>
  <cp:revision>547</cp:revision>
  <dc:subject/>
  <dc:title>PowerPoint Presentation</dc:title>
</cp:coreProperties>
</file>