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6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dcc4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4dcc4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7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8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67D2AD1-8439-490B-B0B3-02A539B8C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426AC70-7783-4EB4-8678-F0FDD9DCC4A7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57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DD11E80-14CD-4C5E-9EE9-6264C9023A4E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1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2E0C3B1-F875-40AF-8609-E9097E74BF1B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5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F1A5CE8-9D4C-446C-B5D9-1C0D1B37796D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9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2B55ECE-BD46-46ED-9832-E3DA3E90FFB9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3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7613-10BA-410A-B722-D3DC6A8CEB6D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DB2C459-CD7F-490F-B007-8B0C2727477E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8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1609-58B7-45D4-9CBE-1C53A60ABD29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9EDCDD8-A4FF-4A23-B3E5-F02ABCF7E99B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83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AAE1-679B-4519-8984-EB5EC17FED52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967F8D8-BBF7-4D77-A294-9F58FA400CB3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88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CF9E-55AC-4F39-BCDC-CCCC7D4B98AB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E0DE907-86FD-4C88-BD42-4ABF01441225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3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8A5B-A13C-422A-9CAA-04626BB6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0D0-7C64-4240-A8FA-7BA94AB2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4987-1234-481E-9389-51438410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4CE-C393-44CE-A165-8B83364A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AF81-0384-4C3C-A7C7-37816C61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FB6F-A586-46C7-B7F4-857FE897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10F7-989B-414B-9AA8-D6445DEE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A983-C9EC-4F86-95EF-B2BD5EF2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9948-734F-449A-ACAD-4B2080BC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5D8F-4CA9-479C-AC61-CF2DAAD5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505F-5334-45E3-9E77-42DC822C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A6D-B416-4C83-928A-5D2BBD2D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C204-8AC7-4D51-ABB4-80704A0B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4837-729E-4D13-AF05-7BD71916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E351-2245-4AAA-8C64-6FD8ED05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B278-F329-4052-9966-8CE65C63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7C5E-4CA6-47D5-A24D-6314FDF8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4DFC6-7DF8-4C8A-9A4A-EDB03497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EAE74-C526-45FF-89E4-776508CB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4E794-8E3E-4769-975A-03BB2D79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366ED-1B81-4271-AC95-15960C5B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566EF-97E8-4C08-8763-7DE1BF8B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B367-13AE-4143-BEF3-3FA74CAC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2A8FB-0F8A-4886-AF34-E3A591F2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A9A0B-8D84-4DBC-A16B-884D3FD7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71A40-EE12-4C94-B999-DEE9805B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7E25F-E91A-4D41-AE03-EB7F5DB3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0D431-A8F7-4274-BA90-B19DDB14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60508-4AE3-4F12-BEA3-99081CB7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28E80-5AB9-4683-8C55-023679DC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F7C8F-9CD5-45EA-AE6F-36EE88F5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48F7C-8258-47D3-A619-B7658781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28EFE-B67F-44BD-9BCB-A76451F2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250-C180-45FF-B4FA-6A5948A1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5DA6D-A20B-4C2F-BDE6-DC35F421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A2FA4-5C6D-466D-922A-7A7DD285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95E5C-A235-47DD-86DD-6D1E764D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BE8A6-22E8-4395-9DE7-4D0CAC5A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33641-444F-4581-9965-F1EE51DD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66217-305E-429F-93EC-821F6D26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25394-3508-43CB-9F13-06BFA3EA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0F6EA-1A37-41DA-AAB8-4322D0C0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07621-BC7C-488F-A4EA-AA1530D2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1DDDF-22BB-4440-ABED-F2CF8E91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ED2E-2791-459F-B126-D8A85289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246BF-8352-45BF-9EB9-A32BE4F6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473C0-E760-4A3A-A7C7-1FDADF06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18FC9-4B43-42F8-BE49-FF0B63C8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36CEE-F9AD-4E44-AD0C-FA6D91B9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DC20B-55A5-4282-B15A-C136C88D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5E7A1-81FE-47E3-8A01-76A49532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922C7-E408-4BDA-B5AD-8496C387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845AB-49B9-4461-BF95-96946E0B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9EEBC-B154-46AB-B14C-724E433E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67163-8C10-44A2-BB4D-9297F31A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0C90-E247-4DD1-B4F0-9A80C4A9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887E6-8BEE-4CF3-85A9-59A76291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DE32-03AD-4B6A-A838-FAB0C36A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0E0-2E3F-4CB2-96C2-A8FFF103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815-6C1B-4E78-856C-34159F69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dcc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4dcc4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dc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e4dc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e4dc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e4dc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e5d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5d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e5d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BB68-2D05-450B-9A53-14486D3F5FBD}" type="slidenum">
              <a:rPr b="0" lang="en-US" sz="1200" spc="-1" strike="noStrike">
                <a:solidFill>
                  <a:srgbClr val="ebe5d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GEF-20-PPT-BG-blank.png"/>
          <p:cNvPicPr/>
          <p:nvPr/>
        </p:nvPicPr>
        <p:blipFill>
          <a:blip r:embed="rId2"/>
          <a:stretch/>
        </p:blipFill>
        <p:spPr>
          <a:xfrm>
            <a:off x="-19080" y="-6480"/>
            <a:ext cx="9182160" cy="2560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GEF-RU-LOGO.gif"/>
          <p:cNvPicPr/>
          <p:nvPr/>
        </p:nvPicPr>
        <p:blipFill>
          <a:blip r:embed="rId3"/>
          <a:stretch/>
        </p:blipFill>
        <p:spPr>
          <a:xfrm>
            <a:off x="609480" y="228600"/>
            <a:ext cx="40975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rcRect l="0" t="0" r="0" b="9529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8542-885A-45C4-A719-1F24F8665BCF}" type="slidenum">
              <a:rPr b="0" lang="en-US" sz="900" spc="-1" strike="noStrike">
                <a:solidFill>
                  <a:srgbClr val="3598d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icture 10"/>
          <p:cNvSpPr/>
          <p:nvPr/>
        </p:nvSpPr>
        <p:spPr>
          <a:xfrm>
            <a:off x="6018120" y="131760"/>
            <a:ext cx="2895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1360440"/>
            <a:ext cx="9144000" cy="0"/>
          </a:xfrm>
          <a:prstGeom prst="line">
            <a:avLst/>
          </a:prstGeom>
          <a:ln w="25560">
            <a:solidFill>
              <a:srgbClr val="7f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3"/>
          <a:stretch/>
        </p:blipFill>
        <p:spPr>
          <a:xfrm>
            <a:off x="6019920" y="152280"/>
            <a:ext cx="289548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dcc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4dcc4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dc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e4dc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e4dc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e4dc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e5d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5d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e5d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1952-A678-472C-BB90-670816E4F2CD}" type="slidenum">
              <a:rPr b="0" lang="en-US" sz="1200" spc="-1" strike="noStrike">
                <a:solidFill>
                  <a:srgbClr val="ebe5d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DB45-EC99-4872-A2A2-E18E875AB129}" type="slidenum">
              <a:rPr b="0" lang="en-US" sz="900" spc="-1" strike="noStrike">
                <a:solidFill>
                  <a:srgbClr val="3598d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95D6-B3F4-4B07-8711-E1E04D0EBEE7}" type="slidenum">
              <a:rPr b="0" lang="en-US" sz="900" spc="-1" strike="noStrike">
                <a:solidFill>
                  <a:srgbClr val="3598d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971280" y="1988640"/>
            <a:ext cx="749916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4dcc4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Программа поддержки стран</a:t>
            </a:r>
            <a:r>
              <a:rPr b="1" lang="en-US" sz="37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 (</a:t>
            </a:r>
            <a:r>
              <a:rPr b="1" lang="ru-RU" sz="37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ППС</a:t>
            </a:r>
            <a:r>
              <a:rPr b="1" lang="en-US" sz="37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)</a:t>
            </a:r>
            <a:br>
              <a:rPr sz="1900"/>
            </a:br>
            <a:endParaRPr b="0" lang="en-US" sz="3700" spc="-1" strike="noStrike">
              <a:solidFill>
                <a:srgbClr val="e4dcc4"/>
              </a:solidFill>
              <a:latin typeface="Calibri"/>
            </a:endParaRPr>
          </a:p>
        </p:txBody>
      </p:sp>
      <p:sp>
        <p:nvSpPr>
          <p:cNvPr id="224" name="Subtitle 4"/>
          <p:cNvSpPr/>
          <p:nvPr/>
        </p:nvSpPr>
        <p:spPr>
          <a:xfrm>
            <a:off x="900000" y="3809880"/>
            <a:ext cx="7056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116000" y="38275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Семинар для членов ГЭФ в расширенном составе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11–13</a:t>
            </a:r>
            <a:r>
              <a:rPr b="1" lang="ru-RU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 октября</a:t>
            </a: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 2011</a:t>
            </a:r>
            <a:r>
              <a:rPr b="1" lang="ru-RU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 года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Ташкент</a:t>
            </a: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, </a:t>
            </a:r>
            <a:r>
              <a:rPr b="1" lang="ru-RU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Узбекистан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64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64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ounded Rectangle 4"/>
          <p:cNvSpPr/>
          <p:nvPr/>
        </p:nvSpPr>
        <p:spPr>
          <a:xfrm>
            <a:off x="179280" y="2060640"/>
            <a:ext cx="882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e4dc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42d"/>
                </a:solidFill>
                <a:latin typeface="Calibri"/>
              </a:rPr>
              <a:t>Для получения дополнительной информации 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42d"/>
                </a:solidFill>
                <a:latin typeface="Calibri"/>
              </a:rPr>
              <a:t>следует обращаться в ГЭФ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21840" y="1197000"/>
            <a:ext cx="882180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ПС оказывает гибкую поддержку странам (в частности, координационным центрам), с тем чтобы они могли укрепить свой потенциал для сотрудничества с ГЭФ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уется под управлением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Секретариата ГЭФ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ПС состоит из следующих компонентов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Формирование национальных портфелей проектов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(NPFE)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иалог с участием широкого круга заинтересованных сторон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еминары для членов в расширенном составе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(ECW)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овещания стран-членов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и поддержке членов Совета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ямая поддержка оперативных координаторов 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Управление знаниями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знакомительные семинары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92468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42d"/>
                </a:solidFill>
                <a:latin typeface="Calibri"/>
              </a:rPr>
              <a:t>Программа поддержки стран (ППС)</a:t>
            </a:r>
            <a:br>
              <a:rPr sz="3400"/>
            </a:br>
            <a:r>
              <a:rPr b="1" lang="ru-RU" sz="3400" spc="-1" strike="noStrike">
                <a:solidFill>
                  <a:srgbClr val="00642d"/>
                </a:solidFill>
                <a:latin typeface="Calibri"/>
              </a:rPr>
              <a:t>Общие вопросы</a:t>
            </a:r>
            <a:endParaRPr b="1" lang="en-US" sz="3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189000"/>
            <a:ext cx="876312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Программа поддержки стран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/</a:t>
            </a:r>
            <a:br>
              <a:rPr sz="2800"/>
            </a:b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Формирование национальных портфелей проектов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(1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29" name="Rounded Rectangle 4"/>
          <p:cNvSpPr/>
          <p:nvPr/>
        </p:nvSpPr>
        <p:spPr>
          <a:xfrm>
            <a:off x="603360" y="1268280"/>
            <a:ext cx="8145360" cy="86544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 протяжении всей истории ГЭФ агентства ГЭФ традиционно содействуют разработке программ в странах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0" name="Rounded Rectangle 5"/>
          <p:cNvSpPr/>
          <p:nvPr/>
        </p:nvSpPr>
        <p:spPr>
          <a:xfrm>
            <a:off x="871560" y="2171880"/>
            <a:ext cx="7993080" cy="1201680"/>
          </a:xfrm>
          <a:prstGeom prst="roundRect">
            <a:avLst>
              <a:gd name="adj" fmla="val 25759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целях дальнейшей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активизации участия ГЭФ в реализации стратегий на уровне стра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ая страна сейчас может сформировать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национальный портфель проектов при финансовой поддержке со стороны ГЭФ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1" name="Rounded Rectangle 9"/>
          <p:cNvSpPr/>
          <p:nvPr/>
        </p:nvSpPr>
        <p:spPr>
          <a:xfrm>
            <a:off x="900000" y="5011560"/>
            <a:ext cx="8064720" cy="86544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национального портфеля проектов не является обязательным условием финансирования со стороны ГЭФ.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2" name="Rounded Rectangle 7"/>
          <p:cNvSpPr/>
          <p:nvPr/>
        </p:nvSpPr>
        <p:spPr>
          <a:xfrm>
            <a:off x="900000" y="3429000"/>
            <a:ext cx="8064720" cy="151272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Этот процесс охватывает вс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тветствующие тематические области с описанием методов задействования выделяемых ГЭФ средств в проекта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граммах, отражающих национальные и региональные приоритеты, в целях решения глобальных задач в области охраны окружающей среды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260280"/>
            <a:ext cx="880740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Программа поддержки стран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/</a:t>
            </a:r>
            <a:br>
              <a:rPr sz="2800"/>
            </a:b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Формирование национальных портфелей проектов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(2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4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национальных портфелей проектов должно осуществляться в процессе консультаций и с участием широкого круга заинтересованных сторон и координироваться оперативными координаторами ГЭФ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5" name="Rounded Rectangle 5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проведения этой работы стране необходимо выбрать национальную организацию, которая имеет соответствующий опыт и квалификаци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6" name="Rounded Rectangle 6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нам, принявшим решение о формировании портфеля проектов, будет предоставлено д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30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000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долл. США из бюджета программ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7" name="Rounded Rectangle 7"/>
          <p:cNvSpPr/>
          <p:nvPr/>
        </p:nvSpPr>
        <p:spPr>
          <a:xfrm>
            <a:off x="4356000" y="4221000"/>
            <a:ext cx="4680000" cy="17431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кончательные вариант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кументов предоставляются участникам соответствующих конвенций для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ознакомления с ними широкой общественности и размещаются на веб-сайте ГЭФ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8" name="Rounded Rectangle 8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ализуется с использованием механизма прямого доступа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56944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42d"/>
                </a:solidFill>
                <a:latin typeface="Calibri"/>
              </a:rPr>
              <a:t>Программа поддержки стран</a:t>
            </a: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/</a:t>
            </a:r>
            <a:br>
              <a:rPr sz="2500"/>
            </a:br>
            <a:r>
              <a:rPr b="1" lang="ru-RU" sz="2500" spc="-1" strike="noStrike">
                <a:solidFill>
                  <a:srgbClr val="00642d"/>
                </a:solidFill>
                <a:latin typeface="Calibri"/>
              </a:rPr>
              <a:t>Формирование национальных портфелей проектов</a:t>
            </a:r>
            <a:r>
              <a:rPr b="1" lang="en-US" sz="23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–</a:t>
            </a:r>
            <a:r>
              <a:rPr b="1" lang="en-US" sz="23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ru-RU" sz="2300" spc="-1" strike="noStrike">
                <a:solidFill>
                  <a:srgbClr val="00642d"/>
                </a:solidFill>
                <a:latin typeface="Calibri"/>
              </a:rPr>
              <a:t>процесс реализации </a:t>
            </a:r>
            <a:r>
              <a:rPr b="1" lang="en-US" sz="2300" spc="-1" strike="noStrike">
                <a:solidFill>
                  <a:srgbClr val="00642d"/>
                </a:solidFill>
                <a:latin typeface="Calibri"/>
              </a:rPr>
              <a:t>(3)</a:t>
            </a:r>
            <a:endParaRPr b="1" lang="en-US" sz="23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407960"/>
            <a:ext cx="9144000" cy="418176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рамках диалога с Секретариатом ГЭФ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трана готовит предложение (включающее смету расходо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00000"/>
                </a:solidFill>
                <a:latin typeface="Calibri"/>
                <a:ea typeface="Arial"/>
              </a:rPr>
              <a:t>Назначенное национальное</a:t>
            </a:r>
            <a:r>
              <a:rPr b="0" lang="en-US" sz="17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ru-RU" sz="1700" spc="-1" strike="noStrike">
                <a:solidFill>
                  <a:srgbClr val="c00000"/>
                </a:solidFill>
                <a:latin typeface="Calibri"/>
                <a:ea typeface="Arial"/>
              </a:rPr>
              <a:t>учреждение должно подготовить Отчет о результатах оценки системы управления финансовой деятельностью, составляемый по упрощенной форме</a:t>
            </a:r>
            <a:r>
              <a:rPr b="0" lang="en-US" sz="1700" spc="-1" strike="noStrike">
                <a:solidFill>
                  <a:srgbClr val="c00000"/>
                </a:solidFill>
                <a:latin typeface="Calibri"/>
                <a:ea typeface="Arial"/>
              </a:rPr>
              <a:t>.</a:t>
            </a: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екретариат ГЭФ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ассматривает предложение, и Исполнительный директор утверждает его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Юридические документы подписываются страной и Исполнительным директором ГЭФ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трана осуществляет формирование национального портфеля проекто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осле завершения процесса подготовки национального портфеля проектов окончательный доклад о планируемом проекте представляется Секретариату</a:t>
            </a: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00000"/>
                </a:solidFill>
                <a:latin typeface="Calibri"/>
                <a:ea typeface="Arial"/>
              </a:rPr>
              <a:t>Включая перечень требований о расходовании финансовых средств и отчет аудиторов</a:t>
            </a: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-22320" y="5805360"/>
            <a:ext cx="9156960" cy="792360"/>
          </a:xfrm>
          <a:prstGeom prst="rect">
            <a:avLst/>
          </a:prstGeom>
          <a:ln w="0">
            <a:noFill/>
          </a:ln>
        </p:spPr>
      </p:pic>
      <p:sp>
        <p:nvSpPr>
          <p:cNvPr id="242" name="Подзаголовок 2"/>
          <p:cNvSpPr/>
          <p:nvPr/>
        </p:nvSpPr>
        <p:spPr>
          <a:xfrm>
            <a:off x="506520" y="6227640"/>
            <a:ext cx="583920" cy="123840"/>
          </a:xfrm>
          <a:prstGeom prst="rect">
            <a:avLst/>
          </a:prstGeom>
          <a:solidFill>
            <a:srgbClr val="f3f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b6a062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3" name="Подзаголовок 2"/>
          <p:cNvSpPr/>
          <p:nvPr/>
        </p:nvSpPr>
        <p:spPr>
          <a:xfrm>
            <a:off x="1339920" y="5859360"/>
            <a:ext cx="2900160" cy="162000"/>
          </a:xfrm>
          <a:prstGeom prst="rect">
            <a:avLst/>
          </a:prstGeom>
          <a:solidFill>
            <a:srgbClr val="f3f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b6a062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4" name="Подзаголовок 2"/>
          <p:cNvSpPr/>
          <p:nvPr/>
        </p:nvSpPr>
        <p:spPr>
          <a:xfrm>
            <a:off x="1252440" y="6040440"/>
            <a:ext cx="4276800" cy="431640"/>
          </a:xfrm>
          <a:prstGeom prst="rect">
            <a:avLst/>
          </a:prstGeom>
          <a:solidFill>
            <a:srgbClr val="c0c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739116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42d"/>
                </a:solidFill>
                <a:latin typeface="Calibri"/>
              </a:rPr>
              <a:t>Программа поддержки стран</a:t>
            </a: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/</a:t>
            </a:r>
            <a:br>
              <a:rPr sz="2500"/>
            </a:br>
            <a:r>
              <a:rPr b="1" lang="ru-RU" sz="2500" spc="-1" strike="noStrike">
                <a:solidFill>
                  <a:srgbClr val="00642d"/>
                </a:solidFill>
                <a:latin typeface="Calibri"/>
              </a:rPr>
              <a:t>Диалог между многочисленными заинтересованными сторонами  </a:t>
            </a:r>
            <a:endParaRPr b="1" lang="en-US" sz="25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78920" y="1557360"/>
            <a:ext cx="8425080" cy="4146480"/>
          </a:xfrm>
          <a:prstGeom prst="rect">
            <a:avLst/>
          </a:prstGeom>
          <a:solidFill>
            <a:srgbClr val="c3b17b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т диалог осуществляется в соответствии с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руководящими принципами Национального диалога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Цель заключается в оказании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гибкой поддержки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ещаний, проводимых в стране в целях обмена опытом и информацией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жду различными сторонами,  принимающими участие в деятельности по обеспечению усточивого развити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и совещания призваны способствовать усилению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координации донорской помощ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ткому формулированию политики и процеду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одятся по запросу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оперативного координатора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792144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42d"/>
                </a:solidFill>
                <a:latin typeface="Calibri"/>
              </a:rPr>
              <a:t>Программа поддержки стран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/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Семинары для членов ГЭФ в расширенном составе 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(ECW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79280" y="1557360"/>
            <a:ext cx="8856720" cy="3819600"/>
          </a:xfrm>
          <a:prstGeom prst="rect">
            <a:avLst/>
          </a:prstGeom>
          <a:solidFill>
            <a:srgbClr val="ccd5cc"/>
          </a:solidFill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W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одятся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один раз в го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 целью распространения информации о стратегиях, политике и процедурах деятельности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повышения уровня координации и сотрудничест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имо национальных координаторов ГЭФ к участию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W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иглашаются координаторы действующие в рамках конвенций, и организации гражданского общества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6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участников от каждой страны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Эти семинары организуются Секретариатом ГЭФ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естка дня составляется с учетом потребностей участник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это  позволяет число стран/участников, одновременно могут проводиться совещан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более одной группы стран-участниц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4250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42d"/>
                </a:solidFill>
                <a:latin typeface="Calibri"/>
              </a:rPr>
              <a:t>Программа поддержки стран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(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Совещания стран-участниц и прямая поддержка оперативных координаторов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50560" y="1699920"/>
            <a:ext cx="8553240" cy="33634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кретариа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ует проведени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одного совещания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группы стран-участниц в год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торое созывается по инициативе члена Сове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лен Совета получает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3000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долл. США на цели организации совещания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задачу совещания входит обсуждение документов к заседанию Совета и согласование совместной позиции по конкретным вопроса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ъем прямой поддержки оперативного координатра составляет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9000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долл. СШ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г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сходя из годового плана работы.Цель заключается в проведении мероприятий, способствующих выполнению оперативным координатором своих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ункци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3915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Программа поддержки стран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(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Управление знаниями и ознакомительные семинары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560" y="1643040"/>
            <a:ext cx="8481960" cy="41778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6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6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авление знаниям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т компонент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отражает изменяющиеся потребности оперативных координаторов 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 также потребности других соответствующих групп заинтересованных сторон, в частности, координационных центров, действующих в рамках конвенций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524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т компонент такж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удет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включать информацию о фондах по адаптации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авляемых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нд для наименее развитых стран и Специальный фонд адаптации к изменению климат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знакомительные семинары проводятся 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ин раз в год в Вашингтоне, округ Колумбия, в целях ознакомления персонала целого ряда (новых) национальных координаторов и организаций 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 стратегиями, политикой и процедурами 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wb350798</cp:lastModifiedBy>
  <cp:lastPrinted>2011-09-20T12:46:03Z</cp:lastPrinted>
  <dcterms:modified xsi:type="dcterms:W3CDTF">2011-11-01T21:03:00Z</dcterms:modified>
  <cp:revision>547</cp:revision>
  <dc:subject/>
  <dc:title>PowerPoint Presentation</dc:title>
</cp:coreProperties>
</file>