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ГЭФ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dt" idx="16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dcc4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e4dcc4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ftr" idx="17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 type="sldNum" idx="18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53D8FAFB-1B69-4969-9625-FFF37BC5A7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4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B7967EDE-74D7-4D74-9FF3-E9E441D322B3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57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e4dcc4"/>
                </a:solidFill>
                <a:latin typeface="Arial"/>
              </a:rPr>
              <a:t>ГЭФ</a:t>
            </a:r>
            <a:r>
              <a:rPr b="0" lang="en-US" sz="1300" spc="-1" strike="noStrike">
                <a:solidFill>
                  <a:srgbClr val="e4dcc4"/>
                </a:solidFill>
                <a:latin typeface="Arial"/>
              </a:rPr>
              <a:t> Expanded Constituency Workshop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97D26AC8-74B7-4027-9E57-C4C5668C99E8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61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e4dcc4"/>
                </a:solidFill>
                <a:latin typeface="Arial"/>
              </a:rPr>
              <a:t>ГЭФ</a:t>
            </a:r>
            <a:r>
              <a:rPr b="0" lang="en-US" sz="1300" spc="-1" strike="noStrike">
                <a:solidFill>
                  <a:srgbClr val="e4dcc4"/>
                </a:solidFill>
                <a:latin typeface="Arial"/>
              </a:rPr>
              <a:t> Expanded Constituency Workshop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4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31C3EEDB-36FD-44C2-8114-2DFC98BF153A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65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e4dcc4"/>
                </a:solidFill>
                <a:latin typeface="Arial"/>
              </a:rPr>
              <a:t>ГЭФ</a:t>
            </a:r>
            <a:r>
              <a:rPr b="0" lang="en-US" sz="1300" spc="-1" strike="noStrike">
                <a:solidFill>
                  <a:srgbClr val="e4dcc4"/>
                </a:solidFill>
                <a:latin typeface="Arial"/>
              </a:rPr>
              <a:t> Expanded Constituency Workshop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7B029D1A-A3F8-4676-9446-8158026A74B2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69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e4dcc4"/>
                </a:solidFill>
                <a:latin typeface="Arial"/>
              </a:rPr>
              <a:t>ГЭФ</a:t>
            </a:r>
            <a:r>
              <a:rPr b="0" lang="en-US" sz="1300" spc="-1" strike="noStrike">
                <a:solidFill>
                  <a:srgbClr val="e4dcc4"/>
                </a:solidFill>
                <a:latin typeface="Arial"/>
              </a:rPr>
              <a:t> Expanded Constituency Workshop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4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8D97172F-5C20-4CA7-A7B9-9FAB2ADDF145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73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e4dcc4"/>
                </a:solidFill>
                <a:latin typeface="Arial"/>
              </a:rPr>
              <a:t>ГЭФ</a:t>
            </a:r>
            <a:r>
              <a:rPr b="0" lang="en-US" sz="1300" spc="-1" strike="noStrike">
                <a:solidFill>
                  <a:srgbClr val="e4dcc4"/>
                </a:solidFill>
                <a:latin typeface="Arial"/>
              </a:rPr>
              <a:t> Expanded Constituency Workshop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B4340-195A-4B7B-BF33-B460DB0C332C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77" name="Slide Number Placeholder 5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7F1E5EE6-DA15-4678-AC4A-0477886D64DE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78" name="Header Placeholder 7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e4dcc4"/>
                </a:solidFill>
                <a:latin typeface="Arial"/>
              </a:rPr>
              <a:t>ГЭФ</a:t>
            </a:r>
            <a:r>
              <a:rPr b="0" lang="en-US" sz="1300" spc="-1" strike="noStrike">
                <a:solidFill>
                  <a:srgbClr val="e4dcc4"/>
                </a:solidFill>
                <a:latin typeface="Arial"/>
              </a:rPr>
              <a:t> Expanded Constituency Workshop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B1A14-F339-4C3E-8EB4-BF79889270B7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82" name="Slide Number Placeholder 5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14AD9D14-7130-4598-A024-330287E80DC1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83" name="Header Placeholder 7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e4dcc4"/>
                </a:solidFill>
                <a:latin typeface="Arial"/>
              </a:rPr>
              <a:t>ГЭФ</a:t>
            </a:r>
            <a:r>
              <a:rPr b="0" lang="en-US" sz="1300" spc="-1" strike="noStrike">
                <a:solidFill>
                  <a:srgbClr val="e4dcc4"/>
                </a:solidFill>
                <a:latin typeface="Arial"/>
              </a:rPr>
              <a:t> Expanded Constituency Workshop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14BF0-785E-4235-8037-55B5F132F7AC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87" name="Slide Number Placeholder 5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23D1DAD7-2883-47B3-9EE1-39B551F84C47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88" name="Header Placeholder 7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e4dcc4"/>
                </a:solidFill>
                <a:latin typeface="Arial"/>
              </a:rPr>
              <a:t>ГЭФ</a:t>
            </a:r>
            <a:r>
              <a:rPr b="0" lang="en-US" sz="1300" spc="-1" strike="noStrike">
                <a:solidFill>
                  <a:srgbClr val="e4dcc4"/>
                </a:solidFill>
                <a:latin typeface="Arial"/>
              </a:rPr>
              <a:t> Expanded Constituency Workshop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8052B-BD50-4D60-A5DA-947CEFD99C58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92" name="Slide Number Placeholder 5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89CF7D7A-93D7-4E96-B47C-314E75F48E69}" type="slidenum">
              <a:rPr b="0" lang="en-US" sz="13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93" name="Header Placeholder 7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e4dcc4"/>
                </a:solidFill>
                <a:latin typeface="Arial"/>
              </a:rPr>
              <a:t>ГЭФ</a:t>
            </a:r>
            <a:r>
              <a:rPr b="0" lang="en-US" sz="1300" spc="-1" strike="noStrike">
                <a:solidFill>
                  <a:srgbClr val="e4dcc4"/>
                </a:solidFill>
                <a:latin typeface="Arial"/>
              </a:rPr>
              <a:t> Expanded Constituency Workshop</a:t>
            </a:r>
            <a:endParaRPr b="0" lang="en-US" sz="13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7053-B212-4480-B390-4610A6424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4D5C-0D29-49F1-A654-CC6DA9C9F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40FD-0235-45D2-B294-2B2DE3B2C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7585-809A-4861-B5EA-982E862D6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8A5F2-7196-4B8B-B758-E2CA36D17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4A62A-E016-4493-A07D-1E87EA1EA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AA5EB-74F3-4FF7-A835-86D4EF25A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2A8F9-472B-47E2-8F61-6D43B1040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BAE87-5F4C-4283-BD3A-6BE50D086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44492-956A-4ED5-B6FE-8E794F5A7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81A9F-43A3-42B0-A6F0-232919C5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E325-C204-4D7C-B743-EAD61AC4D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F9694-7867-416B-9BC5-E9542404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13EB2-2928-4CFE-858C-B6BA9204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C923E-C0AA-4085-8B25-852A0E926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ABDB1-7B23-434B-AC07-98CDE2B17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F90B9-FE66-49A4-9CD0-13DDC7E82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A3D9A-7067-42C9-A224-4179E30E2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A247F-25CF-4D74-BBA0-D2E020AE4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B9F55-2E55-453E-818E-5002E47DC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77466-B40B-4411-9C3E-E124BB25D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C3A4A-D564-40F0-9DE6-789BCCB6C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2978-DB20-490B-9291-99471ABE6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BFF17-B448-409C-A883-128FAB48E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3D964-B002-41D4-B732-3B452768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530D8-EC3B-445F-A45A-65AB6BE4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57AA6-F655-4E42-A520-3881025C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0F2E5-C5BD-43C5-A2B1-847FFA680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5A434-0578-4020-BD14-74A9CEFD5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DEC31-965F-4535-BFFF-D68AB2CD2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A443B-20F7-4CBC-95FC-48854D331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97114-5081-4D7E-AF03-A36C4F513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91EA9-AD70-415B-A13A-D3B3877D1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1E2A-FFCB-4237-B81C-553790DDA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021DE-AE3F-4F7F-A1C1-4ABFA1ACE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09D71-984D-41EF-A2E5-9D25F0CEF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98C74-2A4C-442D-86C6-561D2F9BF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8B403-D488-4562-AC17-6CC26A24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5EEC9-8B48-459F-94CD-E0D2B551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1D872-702C-4E98-9BF6-BF934082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F842E-4A60-4DA2-897F-627752FF8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B9A67-467C-4D63-A6D2-DBFD23E90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A244A-DFA0-4C6B-AF17-89D1AE912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338FF-AEC3-4E80-9EAA-C7285723B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43D8-320D-45C7-BCD6-D9AA86EE9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2772D-2E36-438E-A109-B75347E4E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F5E35-A98D-452A-B1AA-462301039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BB576-754D-4857-8B43-F1323D508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32FEF-DF70-4306-9E37-7E3E17F95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3FFCC-6E66-4A63-8DB8-B01DDA21E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C88D3-1851-4B27-A4A7-784C9A9E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36712-A79B-4318-B0C4-B60FE77E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6C3BA-293D-43F8-84B5-91ADAAF2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48A4D-FA47-4BA3-8347-D095D4B21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3B5A9-0747-4E2C-AEF1-A568481FC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DD1C-A49E-4751-A3B1-468AFECBA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63287-8C8E-4115-B944-FF83668D4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B144-B678-4051-9F11-11414B9C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1C7F-02E3-4812-9EBE-D602EC4C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382D-2C56-4D7E-8073-EA5D692A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dcc4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4dcc4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dc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dcc4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e4dcc4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e4dcc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dcc4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e4dcc4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e4dc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dcc4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e4dcc4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e4dcc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dcc4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e4dcc4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dcc4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e4dcc4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dcc4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e4dcc4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dcc4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e4dcc4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be5d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5d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be5d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E8B86-2666-4461-B41C-D30F0E7BBE69}" type="slidenum">
              <a:rPr b="0" lang="en-US" sz="1200" spc="-1" strike="noStrike">
                <a:solidFill>
                  <a:srgbClr val="ebe5d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6" descr="GEF-20-PPT-BG-blank.png"/>
          <p:cNvPicPr/>
          <p:nvPr/>
        </p:nvPicPr>
        <p:blipFill>
          <a:blip r:embed="rId2"/>
          <a:stretch/>
        </p:blipFill>
        <p:spPr>
          <a:xfrm>
            <a:off x="-19080" y="-6480"/>
            <a:ext cx="9182160" cy="25606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GEF-RU-LOGO.gif"/>
          <p:cNvPicPr/>
          <p:nvPr/>
        </p:nvPicPr>
        <p:blipFill>
          <a:blip r:embed="rId3"/>
          <a:stretch/>
        </p:blipFill>
        <p:spPr>
          <a:xfrm>
            <a:off x="609480" y="228600"/>
            <a:ext cx="409752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2"/>
          <a:srcRect l="0" t="0" r="0" b="9529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dc8e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446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446a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44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4243320" y="31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4243320" y="31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3362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200040" y="647712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85764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3598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A9ACD-1C26-489A-A73B-DA894710FE56}" type="slidenum">
              <a:rPr b="0" lang="en-US" sz="900" spc="-1" strike="noStrike">
                <a:solidFill>
                  <a:srgbClr val="3598d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icture 10"/>
          <p:cNvSpPr/>
          <p:nvPr/>
        </p:nvSpPr>
        <p:spPr>
          <a:xfrm>
            <a:off x="6018120" y="131760"/>
            <a:ext cx="28958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1360440"/>
            <a:ext cx="9144000" cy="0"/>
          </a:xfrm>
          <a:prstGeom prst="line">
            <a:avLst/>
          </a:prstGeom>
          <a:ln w="25560">
            <a:solidFill>
              <a:srgbClr val="7f95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53" name="Rectangle 13"/>
          <p:cNvSpPr/>
          <p:nvPr/>
        </p:nvSpPr>
        <p:spPr>
          <a:xfrm>
            <a:off x="404352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404352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pic>
        <p:nvPicPr>
          <p:cNvPr id="55" name="Picture 10" descr=""/>
          <p:cNvPicPr/>
          <p:nvPr/>
        </p:nvPicPr>
        <p:blipFill>
          <a:blip r:embed="rId3"/>
          <a:stretch/>
        </p:blipFill>
        <p:spPr>
          <a:xfrm>
            <a:off x="6019920" y="152280"/>
            <a:ext cx="2895480" cy="371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dcc4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4dcc4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dc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dcc4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e4dcc4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e4dcc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dcc4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e4dcc4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e4dc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dcc4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e4dcc4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e4dcc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dcc4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e4dcc4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dcc4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e4dcc4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dcc4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e4dcc4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dcc4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e4dcc4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be5d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5d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be5d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48EF8-D2B0-4A28-BDFC-5B218D0CBA8F}" type="slidenum">
              <a:rPr b="0" lang="en-US" sz="1200" spc="-1" strike="noStrike">
                <a:solidFill>
                  <a:srgbClr val="ebe5d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GEF_20Years_Wave_ru2.png"/>
          <p:cNvPicPr/>
          <p:nvPr/>
        </p:nvPicPr>
        <p:blipFill>
          <a:blip r:embed="rId2"/>
          <a:stretch/>
        </p:blipFill>
        <p:spPr>
          <a:xfrm>
            <a:off x="0" y="5273640"/>
            <a:ext cx="9144000" cy="158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dc8e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446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446a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44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3362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200040" y="647712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685764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3598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66C16-82E6-4875-BFE2-CE50C3F491AB}" type="slidenum">
              <a:rPr b="0" lang="en-US" sz="900" spc="-1" strike="noStrike">
                <a:solidFill>
                  <a:srgbClr val="3598d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dc8e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446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446a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44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>
            <a:off x="3362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3200040" y="647712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685764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3598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682F8-0A19-49D5-98A8-2742588F6E8C}" type="slidenum">
              <a:rPr b="0" lang="en-US" sz="900" spc="-1" strike="noStrike">
                <a:solidFill>
                  <a:srgbClr val="3598d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971280" y="1988640"/>
            <a:ext cx="7499160" cy="137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e4dcc4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642d"/>
                </a:solidFill>
                <a:latin typeface="Calibri"/>
                <a:ea typeface="ＭＳ Ｐゴシック"/>
              </a:rPr>
              <a:t>Программа поддержки стран</a:t>
            </a:r>
            <a:r>
              <a:rPr b="1" lang="en-US" sz="3700" spc="-1" strike="noStrike">
                <a:solidFill>
                  <a:srgbClr val="00642d"/>
                </a:solidFill>
                <a:latin typeface="Calibri"/>
                <a:ea typeface="ＭＳ Ｐゴシック"/>
              </a:rPr>
              <a:t> (</a:t>
            </a:r>
            <a:r>
              <a:rPr b="1" lang="ru-RU" sz="3700" spc="-1" strike="noStrike">
                <a:solidFill>
                  <a:srgbClr val="00642d"/>
                </a:solidFill>
                <a:latin typeface="Calibri"/>
                <a:ea typeface="ＭＳ Ｐゴシック"/>
              </a:rPr>
              <a:t>ППС</a:t>
            </a:r>
            <a:r>
              <a:rPr b="1" lang="en-US" sz="3700" spc="-1" strike="noStrike">
                <a:solidFill>
                  <a:srgbClr val="00642d"/>
                </a:solidFill>
                <a:latin typeface="Calibri"/>
                <a:ea typeface="ＭＳ Ｐゴシック"/>
              </a:rPr>
              <a:t>)</a:t>
            </a:r>
            <a:br>
              <a:rPr sz="1900"/>
            </a:br>
            <a:endParaRPr b="0" lang="en-US" sz="3700" spc="-1" strike="noStrike">
              <a:solidFill>
                <a:srgbClr val="e4dcc4"/>
              </a:solidFill>
              <a:latin typeface="Calibri"/>
            </a:endParaRPr>
          </a:p>
        </p:txBody>
      </p:sp>
      <p:sp>
        <p:nvSpPr>
          <p:cNvPr id="224" name="Subtitle 4"/>
          <p:cNvSpPr/>
          <p:nvPr/>
        </p:nvSpPr>
        <p:spPr>
          <a:xfrm>
            <a:off x="900000" y="3809880"/>
            <a:ext cx="705672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25" name="Subtitle 4"/>
          <p:cNvSpPr/>
          <p:nvPr/>
        </p:nvSpPr>
        <p:spPr>
          <a:xfrm>
            <a:off x="1116000" y="3827520"/>
            <a:ext cx="76201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42d"/>
                </a:solidFill>
                <a:latin typeface="Calibri"/>
                <a:ea typeface="ＭＳ Ｐゴシック"/>
              </a:rPr>
              <a:t>Семинар для членов ГЭФ в расширенном составе</a:t>
            </a:r>
            <a:endParaRPr b="0" lang="en-US" sz="2400" spc="-1" strike="noStrike">
              <a:solidFill>
                <a:srgbClr val="e4dcc4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42d"/>
                </a:solidFill>
                <a:latin typeface="Calibri"/>
                <a:ea typeface="ＭＳ Ｐゴシック"/>
              </a:rPr>
              <a:t>11–13</a:t>
            </a:r>
            <a:r>
              <a:rPr b="1" lang="ru-RU" sz="2400" spc="-1" strike="noStrike">
                <a:solidFill>
                  <a:srgbClr val="00642d"/>
                </a:solidFill>
                <a:latin typeface="Calibri"/>
                <a:ea typeface="ＭＳ Ｐゴシック"/>
              </a:rPr>
              <a:t> октября</a:t>
            </a:r>
            <a:r>
              <a:rPr b="1" lang="en-US" sz="2400" spc="-1" strike="noStrike">
                <a:solidFill>
                  <a:srgbClr val="00642d"/>
                </a:solidFill>
                <a:latin typeface="Calibri"/>
                <a:ea typeface="ＭＳ Ｐゴシック"/>
              </a:rPr>
              <a:t> 2011</a:t>
            </a:r>
            <a:r>
              <a:rPr b="1" lang="ru-RU" sz="2400" spc="-1" strike="noStrike">
                <a:solidFill>
                  <a:srgbClr val="00642d"/>
                </a:solidFill>
                <a:latin typeface="Calibri"/>
                <a:ea typeface="ＭＳ Ｐゴシック"/>
              </a:rPr>
              <a:t> года</a:t>
            </a:r>
            <a:endParaRPr b="0" lang="en-US" sz="2400" spc="-1" strike="noStrike">
              <a:solidFill>
                <a:srgbClr val="e4dcc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dcc4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42d"/>
                </a:solidFill>
                <a:latin typeface="Calibri"/>
                <a:ea typeface="ＭＳ Ｐゴシック"/>
              </a:rPr>
              <a:t>Ташкент</a:t>
            </a:r>
            <a:r>
              <a:rPr b="1" lang="en-US" sz="2400" spc="-1" strike="noStrike">
                <a:solidFill>
                  <a:srgbClr val="00642d"/>
                </a:solidFill>
                <a:latin typeface="Calibri"/>
                <a:ea typeface="ＭＳ Ｐゴシック"/>
              </a:rPr>
              <a:t>, </a:t>
            </a:r>
            <a:r>
              <a:rPr b="1" lang="ru-RU" sz="2400" spc="-1" strike="noStrike">
                <a:solidFill>
                  <a:srgbClr val="00642d"/>
                </a:solidFill>
                <a:latin typeface="Calibri"/>
                <a:ea typeface="ＭＳ Ｐゴシック"/>
              </a:rPr>
              <a:t>Узбекистан</a:t>
            </a:r>
            <a:endParaRPr b="0" lang="en-US" sz="2400" spc="-1" strike="noStrike">
              <a:solidFill>
                <a:srgbClr val="e4dcc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64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dcc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64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ounded Rectangle 4"/>
          <p:cNvSpPr/>
          <p:nvPr/>
        </p:nvSpPr>
        <p:spPr>
          <a:xfrm>
            <a:off x="179280" y="2060640"/>
            <a:ext cx="8820360" cy="2016000"/>
          </a:xfrm>
          <a:prstGeom prst="roundRect">
            <a:avLst>
              <a:gd name="adj" fmla="val 16667"/>
            </a:avLst>
          </a:prstGeom>
          <a:solidFill>
            <a:srgbClr val="ffc000">
              <a:alpha val="50000"/>
            </a:srgbClr>
          </a:solidFill>
          <a:ln w="9360">
            <a:solidFill>
              <a:srgbClr val="e4dc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42d"/>
                </a:solidFill>
                <a:latin typeface="Calibri"/>
              </a:rPr>
              <a:t>Для получения дополнительной информации </a:t>
            </a:r>
            <a:endParaRPr b="0" lang="en-US" sz="3200" spc="-1" strike="noStrike">
              <a:solidFill>
                <a:srgbClr val="e4dcc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42d"/>
                </a:solidFill>
                <a:latin typeface="Calibri"/>
              </a:rPr>
              <a:t>следует обращаться в ГЭФ</a:t>
            </a:r>
            <a:endParaRPr b="0" lang="en-US" sz="32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3" dur="2000" fill="hold"/>
                                        <p:tgtEl>
                                          <p:spTgt spid="2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321840" y="1197000"/>
            <a:ext cx="882180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ПС оказывает гибкую поддержку странам (в частности, координационным центрам), с тем чтобы они могли укрепить свой потенциал для сотрудничества с ГЭФ 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ализуется под управлением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Секретариата ГЭФ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75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ПС состоит из следующих компонентов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3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>
              <a:lnSpc>
                <a:spcPct val="70000"/>
              </a:lnSpc>
              <a:spcBef>
                <a:spcPts val="575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Формирование национальных портфелей проектов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(NPFE)</a:t>
            </a:r>
            <a:endParaRPr b="0" lang="en-US" sz="23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>
              <a:lnSpc>
                <a:spcPct val="70000"/>
              </a:lnSpc>
              <a:spcBef>
                <a:spcPts val="575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Диалог с участием широкого круга заинтересованных сторон</a:t>
            </a:r>
            <a:endParaRPr b="0" lang="en-US" sz="23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>
              <a:lnSpc>
                <a:spcPct val="70000"/>
              </a:lnSpc>
              <a:spcBef>
                <a:spcPts val="575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Семинары для членов в расширенном составе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(ECW)</a:t>
            </a:r>
            <a:endParaRPr b="0" lang="en-US" sz="23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>
              <a:lnSpc>
                <a:spcPct val="70000"/>
              </a:lnSpc>
              <a:spcBef>
                <a:spcPts val="575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Совещания стран-членов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при поддержке членов Совета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3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>
              <a:lnSpc>
                <a:spcPct val="70000"/>
              </a:lnSpc>
              <a:spcBef>
                <a:spcPts val="575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Прямая поддержка оперативных координаторов </a:t>
            </a:r>
            <a:endParaRPr b="0" lang="en-US" sz="23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>
              <a:lnSpc>
                <a:spcPct val="70000"/>
              </a:lnSpc>
              <a:spcBef>
                <a:spcPts val="575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Управление знаниями</a:t>
            </a:r>
            <a:endParaRPr b="0" lang="en-US" sz="23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>
              <a:lnSpc>
                <a:spcPct val="70000"/>
              </a:lnSpc>
              <a:spcBef>
                <a:spcPts val="575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Ознакомительные семинары</a:t>
            </a:r>
            <a:endParaRPr b="0" lang="en-US" sz="23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92468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42d"/>
                </a:solidFill>
                <a:latin typeface="Calibri"/>
              </a:rPr>
              <a:t>Программа поддержки стран (ППС)</a:t>
            </a:r>
            <a:br>
              <a:rPr sz="3400"/>
            </a:br>
            <a:r>
              <a:rPr b="1" lang="ru-RU" sz="3400" spc="-1" strike="noStrike">
                <a:solidFill>
                  <a:srgbClr val="00642d"/>
                </a:solidFill>
                <a:latin typeface="Calibri"/>
              </a:rPr>
              <a:t>Общие вопросы</a:t>
            </a:r>
            <a:endParaRPr b="1" lang="en-US" sz="3400" spc="-1" strike="noStrike">
              <a:solidFill>
                <a:srgbClr val="eadc8e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8600" y="189000"/>
            <a:ext cx="876312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42d"/>
                </a:solidFill>
                <a:latin typeface="Calibri"/>
              </a:rPr>
              <a:t>Программа поддержки стран</a:t>
            </a: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/</a:t>
            </a:r>
            <a:br>
              <a:rPr sz="2800"/>
            </a:br>
            <a:r>
              <a:rPr b="1" lang="ru-RU" sz="2800" spc="-1" strike="noStrike">
                <a:solidFill>
                  <a:srgbClr val="00642d"/>
                </a:solidFill>
                <a:latin typeface="Calibri"/>
              </a:rPr>
              <a:t>Формирование национальных портфелей проектов</a:t>
            </a: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 (1)</a:t>
            </a:r>
            <a:endParaRPr b="1" lang="en-US" sz="28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29" name="Rounded Rectangle 4"/>
          <p:cNvSpPr/>
          <p:nvPr/>
        </p:nvSpPr>
        <p:spPr>
          <a:xfrm>
            <a:off x="603360" y="1268280"/>
            <a:ext cx="8145360" cy="865440"/>
          </a:xfrm>
          <a:prstGeom prst="roundRect">
            <a:avLst>
              <a:gd name="adj" fmla="val 16667"/>
            </a:avLst>
          </a:prstGeom>
          <a:solidFill>
            <a:srgbClr val="72bfc5">
              <a:alpha val="50000"/>
            </a:srgbClr>
          </a:solidFill>
          <a:ln w="93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а протяжении всей истории ГЭФ агентства ГЭФ традиционно содействуют разработке программ в странах</a:t>
            </a: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30" name="Rounded Rectangle 5"/>
          <p:cNvSpPr/>
          <p:nvPr/>
        </p:nvSpPr>
        <p:spPr>
          <a:xfrm>
            <a:off x="871560" y="2171880"/>
            <a:ext cx="7993080" cy="1201680"/>
          </a:xfrm>
          <a:prstGeom prst="roundRect">
            <a:avLst>
              <a:gd name="adj" fmla="val 25759"/>
            </a:avLst>
          </a:prstGeom>
          <a:solidFill>
            <a:srgbClr val="9c9cdf">
              <a:alpha val="50000"/>
            </a:srgbClr>
          </a:solidFill>
          <a:ln w="93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целях дальнейшей 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активизации участия ГЭФ в реализации стратегий на уровне стран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ждая страна сейчас может сформировать 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национальный портфель проектов при финансовой поддержке со стороны ГЭФ</a:t>
            </a: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31" name="Rounded Rectangle 9"/>
          <p:cNvSpPr/>
          <p:nvPr/>
        </p:nvSpPr>
        <p:spPr>
          <a:xfrm>
            <a:off x="900000" y="5011560"/>
            <a:ext cx="8064720" cy="865440"/>
          </a:xfrm>
          <a:prstGeom prst="roundRect">
            <a:avLst>
              <a:gd name="adj" fmla="val 16667"/>
            </a:avLst>
          </a:prstGeom>
          <a:solidFill>
            <a:srgbClr val="9c9cdf">
              <a:alpha val="50000"/>
            </a:srgbClr>
          </a:solidFill>
          <a:ln w="93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рмирование национального портфеля проектов не является обязательным условием финансирования со стороны ГЭФ.</a:t>
            </a: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32" name="Rounded Rectangle 7"/>
          <p:cNvSpPr/>
          <p:nvPr/>
        </p:nvSpPr>
        <p:spPr>
          <a:xfrm>
            <a:off x="900000" y="3429000"/>
            <a:ext cx="8064720" cy="1512720"/>
          </a:xfrm>
          <a:prstGeom prst="roundRect">
            <a:avLst>
              <a:gd name="adj" fmla="val 16667"/>
            </a:avLst>
          </a:prstGeom>
          <a:solidFill>
            <a:srgbClr val="9c9cdf">
              <a:alpha val="50000"/>
            </a:srgbClr>
          </a:solidFill>
          <a:ln w="93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Этот процесс охватывает все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ответствующие тематические области с описанием методов задействования выделяемых ГЭФ средств в проектах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граммах, отражающих национальные и региональные приоритеты, в целях решения глобальных задач в области охраны окружающей среды</a:t>
            </a: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240" y="260280"/>
            <a:ext cx="8807400" cy="9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42d"/>
                </a:solidFill>
                <a:latin typeface="Calibri"/>
              </a:rPr>
              <a:t>Программа поддержки стран</a:t>
            </a: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/</a:t>
            </a:r>
            <a:br>
              <a:rPr sz="2800"/>
            </a:br>
            <a:r>
              <a:rPr b="1" lang="ru-RU" sz="2800" spc="-1" strike="noStrike">
                <a:solidFill>
                  <a:srgbClr val="00642d"/>
                </a:solidFill>
                <a:latin typeface="Calibri"/>
              </a:rPr>
              <a:t>Формирование национальных портфелей проектов</a:t>
            </a: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 (2)</a:t>
            </a:r>
            <a:endParaRPr b="1" lang="en-US" sz="28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34" name="Rounded Rectangle 4"/>
          <p:cNvSpPr/>
          <p:nvPr/>
        </p:nvSpPr>
        <p:spPr>
          <a:xfrm>
            <a:off x="1476360" y="1268280"/>
            <a:ext cx="6335640" cy="1368720"/>
          </a:xfrm>
          <a:prstGeom prst="roundRect">
            <a:avLst>
              <a:gd name="adj" fmla="val 16667"/>
            </a:avLst>
          </a:prstGeom>
          <a:solidFill>
            <a:srgbClr val="72bfc5">
              <a:alpha val="50000"/>
            </a:srgbClr>
          </a:solidFill>
          <a:ln w="93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рмирование национальных портфелей проектов должно осуществляться в процессе консультаций и с участием широкого круга заинтересованных сторон и координироваться оперативными координаторами ГЭФ</a:t>
            </a: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35" name="Rounded Rectangle 5"/>
          <p:cNvSpPr/>
          <p:nvPr/>
        </p:nvSpPr>
        <p:spPr>
          <a:xfrm>
            <a:off x="179280" y="2708280"/>
            <a:ext cx="4033800" cy="1440000"/>
          </a:xfrm>
          <a:prstGeom prst="roundRect">
            <a:avLst>
              <a:gd name="adj" fmla="val 16667"/>
            </a:avLst>
          </a:prstGeom>
          <a:solidFill>
            <a:srgbClr val="9c9cdf">
              <a:alpha val="50000"/>
            </a:srgbClr>
          </a:solidFill>
          <a:ln w="93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проведения этой работы стране необходимо выбрать национальную организацию, которая имеет соответствующий опыт и квалификацию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36" name="Rounded Rectangle 6"/>
          <p:cNvSpPr/>
          <p:nvPr/>
        </p:nvSpPr>
        <p:spPr>
          <a:xfrm>
            <a:off x="4427640" y="2708280"/>
            <a:ext cx="4535280" cy="1440000"/>
          </a:xfrm>
          <a:prstGeom prst="roundRect">
            <a:avLst>
              <a:gd name="adj" fmla="val 16667"/>
            </a:avLst>
          </a:prstGeom>
          <a:solidFill>
            <a:srgbClr val="9c9cdf">
              <a:alpha val="50000"/>
            </a:srgbClr>
          </a:solidFill>
          <a:ln w="93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ранам, принявшим решение о формировании портфеля проектов, будет предоставлено д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30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000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долл. США из бюджета программ</a:t>
            </a: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37" name="Rounded Rectangle 7"/>
          <p:cNvSpPr/>
          <p:nvPr/>
        </p:nvSpPr>
        <p:spPr>
          <a:xfrm>
            <a:off x="4356000" y="4221000"/>
            <a:ext cx="4680000" cy="1743120"/>
          </a:xfrm>
          <a:prstGeom prst="roundRect">
            <a:avLst>
              <a:gd name="adj" fmla="val 16667"/>
            </a:avLst>
          </a:prstGeom>
          <a:solidFill>
            <a:srgbClr val="72bfc5">
              <a:alpha val="50000"/>
            </a:srgbClr>
          </a:solidFill>
          <a:ln w="93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кончательные варианты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кументов предоставляются участникам соответствующих конвенций для 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ознакомления с ними широкой общественности и размещаются на веб-сайте ГЭФ</a:t>
            </a: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38" name="Rounded Rectangle 8"/>
          <p:cNvSpPr/>
          <p:nvPr/>
        </p:nvSpPr>
        <p:spPr>
          <a:xfrm>
            <a:off x="250920" y="4292640"/>
            <a:ext cx="3816360" cy="1297080"/>
          </a:xfrm>
          <a:prstGeom prst="roundRect">
            <a:avLst>
              <a:gd name="adj" fmla="val 16667"/>
            </a:avLst>
          </a:prstGeom>
          <a:solidFill>
            <a:srgbClr val="72bfc5">
              <a:alpha val="50000"/>
            </a:srgbClr>
          </a:solidFill>
          <a:ln w="93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ализуется с использованием механизма прямого доступа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56944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642d"/>
                </a:solidFill>
                <a:latin typeface="Calibri"/>
              </a:rPr>
              <a:t>Программа поддержки стран</a:t>
            </a:r>
            <a:r>
              <a:rPr b="1" lang="en-US" sz="2500" spc="-1" strike="noStrike">
                <a:solidFill>
                  <a:srgbClr val="00642d"/>
                </a:solidFill>
                <a:latin typeface="Calibri"/>
              </a:rPr>
              <a:t>/</a:t>
            </a:r>
            <a:br>
              <a:rPr sz="2500"/>
            </a:br>
            <a:r>
              <a:rPr b="1" lang="ru-RU" sz="2500" spc="-1" strike="noStrike">
                <a:solidFill>
                  <a:srgbClr val="00642d"/>
                </a:solidFill>
                <a:latin typeface="Calibri"/>
              </a:rPr>
              <a:t>Формирование национальных портфелей проектов</a:t>
            </a:r>
            <a:r>
              <a:rPr b="1" lang="en-US" sz="2300" spc="-1" strike="noStrike">
                <a:solidFill>
                  <a:srgbClr val="00642d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00642d"/>
                </a:solidFill>
                <a:latin typeface="Calibri"/>
              </a:rPr>
              <a:t>–</a:t>
            </a:r>
            <a:r>
              <a:rPr b="1" lang="en-US" sz="2300" spc="-1" strike="noStrike">
                <a:solidFill>
                  <a:srgbClr val="00642d"/>
                </a:solidFill>
                <a:latin typeface="Calibri"/>
              </a:rPr>
              <a:t> </a:t>
            </a:r>
            <a:r>
              <a:rPr b="1" lang="ru-RU" sz="2300" spc="-1" strike="noStrike">
                <a:solidFill>
                  <a:srgbClr val="00642d"/>
                </a:solidFill>
                <a:latin typeface="Calibri"/>
              </a:rPr>
              <a:t>процесс реализации </a:t>
            </a:r>
            <a:r>
              <a:rPr b="1" lang="en-US" sz="2300" spc="-1" strike="noStrike">
                <a:solidFill>
                  <a:srgbClr val="00642d"/>
                </a:solidFill>
                <a:latin typeface="Calibri"/>
              </a:rPr>
              <a:t>(3)</a:t>
            </a:r>
            <a:endParaRPr b="1" lang="en-US" sz="23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407960"/>
            <a:ext cx="9144000" cy="418176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-514440">
              <a:lnSpc>
                <a:spcPct val="7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70000"/>
              </a:lnSpc>
              <a:spcBef>
                <a:spcPts val="425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В рамках диалога с Секретариатом ГЭФ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страна готовит предложение (включающее смету расходов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17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c00000"/>
                </a:solidFill>
                <a:latin typeface="Calibri"/>
                <a:ea typeface="Arial"/>
              </a:rPr>
              <a:t>Назначенное национальное</a:t>
            </a:r>
            <a:r>
              <a:rPr b="0" lang="en-US" sz="1700" spc="-1" strike="noStrike">
                <a:solidFill>
                  <a:srgbClr val="c00000"/>
                </a:solidFill>
                <a:latin typeface="Calibri"/>
                <a:ea typeface="Arial"/>
              </a:rPr>
              <a:t> </a:t>
            </a:r>
            <a:r>
              <a:rPr b="0" lang="ru-RU" sz="1700" spc="-1" strike="noStrike">
                <a:solidFill>
                  <a:srgbClr val="c00000"/>
                </a:solidFill>
                <a:latin typeface="Calibri"/>
                <a:ea typeface="Arial"/>
              </a:rPr>
              <a:t>учреждение должно подготовить Отчет о результатах оценки системы управления финансовой деятельностью, составляемый по упрощенной форме</a:t>
            </a:r>
            <a:r>
              <a:rPr b="0" lang="en-US" sz="1700" spc="-1" strike="noStrike">
                <a:solidFill>
                  <a:srgbClr val="c00000"/>
                </a:solidFill>
                <a:latin typeface="Calibri"/>
                <a:ea typeface="Arial"/>
              </a:rPr>
              <a:t>.</a:t>
            </a:r>
            <a:endParaRPr b="0" lang="en-US" sz="17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70000"/>
              </a:lnSpc>
              <a:spcBef>
                <a:spcPts val="425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Секретариат ГЭФ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рассматривает предложение, и Исполнительный директор утверждает его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7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70000"/>
              </a:lnSpc>
              <a:spcBef>
                <a:spcPts val="425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70000"/>
              </a:lnSpc>
              <a:spcBef>
                <a:spcPts val="425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Юридические документы подписываются страной и Исполнительным директором ГЭФ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17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70000"/>
              </a:lnSpc>
              <a:spcBef>
                <a:spcPts val="425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70000"/>
              </a:lnSpc>
              <a:spcBef>
                <a:spcPts val="425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Страна осуществляет формирование национального портфеля проектов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7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70000"/>
              </a:lnSpc>
              <a:spcBef>
                <a:spcPts val="425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70000"/>
              </a:lnSpc>
              <a:spcBef>
                <a:spcPts val="425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После завершения процесса подготовки национального портфеля проектов окончательный доклад о планируемом проекте представляется Секретариату</a:t>
            </a:r>
            <a:endParaRPr b="0" lang="en-US" sz="17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c00000"/>
                </a:solidFill>
                <a:latin typeface="Calibri"/>
                <a:ea typeface="Arial"/>
              </a:rPr>
              <a:t>Включая перечень требований о расходовании финансовых средств и отчет аудиторов</a:t>
            </a:r>
            <a:endParaRPr b="0" lang="en-US" sz="1700" spc="-1" strike="noStrike">
              <a:solidFill>
                <a:srgbClr val="00446a"/>
              </a:solidFill>
              <a:latin typeface="Arial"/>
            </a:endParaRPr>
          </a:p>
        </p:txBody>
      </p:sp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-22320" y="5805360"/>
            <a:ext cx="9156960" cy="792360"/>
          </a:xfrm>
          <a:prstGeom prst="rect">
            <a:avLst/>
          </a:prstGeom>
          <a:ln w="0">
            <a:noFill/>
          </a:ln>
        </p:spPr>
      </p:pic>
      <p:sp>
        <p:nvSpPr>
          <p:cNvPr id="242" name="Подзаголовок 2"/>
          <p:cNvSpPr/>
          <p:nvPr/>
        </p:nvSpPr>
        <p:spPr>
          <a:xfrm>
            <a:off x="506520" y="6227640"/>
            <a:ext cx="583920" cy="123840"/>
          </a:xfrm>
          <a:prstGeom prst="rect">
            <a:avLst/>
          </a:prstGeom>
          <a:solidFill>
            <a:srgbClr val="f3f2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b6a062"/>
                </a:solidFill>
                <a:latin typeface="Arial"/>
              </a:rPr>
              <a:t>Л Е Т</a:t>
            </a:r>
            <a:endParaRPr b="0" lang="en-US" sz="9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43" name="Подзаголовок 2"/>
          <p:cNvSpPr/>
          <p:nvPr/>
        </p:nvSpPr>
        <p:spPr>
          <a:xfrm>
            <a:off x="1339920" y="5859360"/>
            <a:ext cx="2900160" cy="162000"/>
          </a:xfrm>
          <a:prstGeom prst="rect">
            <a:avLst/>
          </a:prstGeom>
          <a:solidFill>
            <a:srgbClr val="f3f2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b6a062"/>
                </a:solidFill>
                <a:latin typeface="Arial"/>
              </a:rPr>
              <a:t>ДВАДЦАТЬ ЛЕТ ДЕЯТЕЛЬНОСТИ</a:t>
            </a:r>
            <a:endParaRPr b="0" lang="en-US" sz="10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44" name="Подзаголовок 2"/>
          <p:cNvSpPr/>
          <p:nvPr/>
        </p:nvSpPr>
        <p:spPr>
          <a:xfrm>
            <a:off x="1252440" y="6040440"/>
            <a:ext cx="4276800" cy="431640"/>
          </a:xfrm>
          <a:prstGeom prst="rect">
            <a:avLst/>
          </a:prstGeom>
          <a:solidFill>
            <a:srgbClr val="c0c8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Arial"/>
              </a:rPr>
              <a:t>ГЛОБАЛЬНЫЙ ЭКОЛОГИЧЕСКИЙ ФОНД</a:t>
            </a:r>
            <a:endParaRPr b="0" lang="en-US" sz="1500" spc="-1" strike="noStrike">
              <a:solidFill>
                <a:srgbClr val="e4dcc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Arial"/>
              </a:rPr>
              <a:t>ИНВЕСТИЦИИ В НАШУ ПЛАНЕТУ</a:t>
            </a:r>
            <a:endParaRPr b="0" lang="en-US" sz="11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23640" y="115920"/>
            <a:ext cx="7391160" cy="12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642d"/>
                </a:solidFill>
                <a:latin typeface="Calibri"/>
              </a:rPr>
              <a:t>Программа поддержки стран</a:t>
            </a:r>
            <a:r>
              <a:rPr b="1" lang="en-US" sz="2500" spc="-1" strike="noStrike">
                <a:solidFill>
                  <a:srgbClr val="00642d"/>
                </a:solidFill>
                <a:latin typeface="Calibri"/>
              </a:rPr>
              <a:t>/</a:t>
            </a:r>
            <a:br>
              <a:rPr sz="2500"/>
            </a:br>
            <a:r>
              <a:rPr b="1" lang="ru-RU" sz="2500" spc="-1" strike="noStrike">
                <a:solidFill>
                  <a:srgbClr val="00642d"/>
                </a:solidFill>
                <a:latin typeface="Calibri"/>
              </a:rPr>
              <a:t>Диалог между многочисленными заинтересованными сторонами  </a:t>
            </a:r>
            <a:endParaRPr b="1" lang="en-US" sz="25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78920" y="1557360"/>
            <a:ext cx="8425080" cy="4146480"/>
          </a:xfrm>
          <a:prstGeom prst="rect">
            <a:avLst/>
          </a:prstGeom>
          <a:solidFill>
            <a:srgbClr val="c3b17b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Этот диалог осуществляется в соответствии с </a:t>
            </a: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руководящими принципами Национального диалога</a:t>
            </a: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Цель заключается в оказании </a:t>
            </a: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гибкой поддержки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вещаний, проводимых в стране в целях обмена опытом и информацией</a:t>
            </a: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ежду различными сторонами,  принимающими участие в деятельности по обеспечению усточивого развития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Эти совещания призваны способствовать усилению </a:t>
            </a: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координации донорской помощи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еткому формулированию политики и процедур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водятся по запросу </a:t>
            </a: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оперативного координатора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7921440" cy="12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642d"/>
                </a:solidFill>
                <a:latin typeface="Calibri"/>
              </a:rPr>
              <a:t>Программа поддержки стран</a:t>
            </a: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/</a:t>
            </a:r>
            <a:r>
              <a:rPr b="1" lang="ru-RU" sz="2800" spc="-1" strike="noStrike">
                <a:solidFill>
                  <a:srgbClr val="00642d"/>
                </a:solidFill>
                <a:latin typeface="Calibri"/>
              </a:rPr>
              <a:t>Семинары для членов ГЭФ в расширенном составе </a:t>
            </a: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(ECW)</a:t>
            </a:r>
            <a:endParaRPr b="1" lang="en-US" sz="28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79280" y="1557360"/>
            <a:ext cx="8856720" cy="3819600"/>
          </a:xfrm>
          <a:prstGeom prst="rect">
            <a:avLst/>
          </a:prstGeom>
          <a:solidFill>
            <a:srgbClr val="ccd5cc"/>
          </a:solidFill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4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CWs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водятся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один раз в год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с целью распространения информации о стратегиях, политике и процедурах деятельности ГЭ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повышения уровня координации и сотрудничеств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446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46a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4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мимо национальных координаторов ГЭФ к участию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CW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риглашаются координаторы действующие в рамках конвенций, и организации гражданского общества 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до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 6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 участников от каждой страны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446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46a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4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Эти семинары организуются Секретариатом ГЭФ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вестка дня составляется с учетом потребностей участников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446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46a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гда это  позволяет число стран/участников, одновременно могут проводиться совещания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более одной группы стран-участниц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842508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642d"/>
                </a:solidFill>
                <a:latin typeface="Calibri"/>
              </a:rPr>
              <a:t>Программа поддержки стран</a:t>
            </a: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 (</a:t>
            </a:r>
            <a:r>
              <a:rPr b="1" lang="ru-RU" sz="2800" spc="-1" strike="noStrike">
                <a:solidFill>
                  <a:srgbClr val="00642d"/>
                </a:solidFill>
                <a:latin typeface="Calibri"/>
              </a:rPr>
              <a:t>Совещания стран-участниц и прямая поддержка оперативных координаторов</a:t>
            </a: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250560" y="1699920"/>
            <a:ext cx="8553240" cy="33634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екретариа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инансирует проведени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одного совещания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группы стран-участниц в год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торое созывается по инициативе члена Совет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лен Совета получает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3000 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долл. США на цели организации совещания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задачу совещания входит обсуждение документов к заседанию Совета и согласование совместной позиции по конкретным вопроса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20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ъем прямой поддержки оперативного координатра составляет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9000 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долл. СШ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год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исходя из годового плана работы.Цель заключается в проведении мероприятий, способствующих выполнению оперативным координатором своих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ункций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7391520" cy="13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42d"/>
                </a:solidFill>
                <a:latin typeface="Calibri"/>
              </a:rPr>
              <a:t>Программа поддержки стран</a:t>
            </a: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 (</a:t>
            </a:r>
            <a:r>
              <a:rPr b="1" lang="ru-RU" sz="2800" spc="-1" strike="noStrike">
                <a:solidFill>
                  <a:srgbClr val="00642d"/>
                </a:solidFill>
                <a:latin typeface="Calibri"/>
              </a:rPr>
              <a:t>Управление знаниями и ознакомительные семинары</a:t>
            </a: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560" y="1643040"/>
            <a:ext cx="8481960" cy="41778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lvl="1" marL="343080" indent="-343080">
              <a:lnSpc>
                <a:spcPct val="6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6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правление знаниями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этот компонент </a:t>
            </a: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отражает изменяющиеся потребности оперативных координаторов ГЭФ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а также потребности других соответствующих групп заинтересованных сторон, в частности, координационных центров, действующих в рамках конвенций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524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Этот компонент также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удет </a:t>
            </a:r>
            <a:r>
              <a:rPr b="0" lang="ru-RU" sz="2200" spc="-1" strike="noStrike">
                <a:solidFill>
                  <a:srgbClr val="c00000"/>
                </a:solidFill>
                <a:latin typeface="Calibri"/>
              </a:rPr>
              <a:t>включать информацию о фондах по адаптации,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правляемых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ЭФ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онд для наименее развитых стран и Специальный фонд адаптации к изменению климат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знакомительные семинары проводятся ГЭФ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дин раз в год в Вашингтоне, округ Колумбия, в целях ознакомления персонала целого ряда (новых) национальных координаторов и организаций ГЭФ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 стратегиями, политикой и процедурами ГЭФ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5T11:56:14Z</dcterms:created>
  <dc:creator>Seemin Qayum</dc:creator>
  <dc:description/>
  <dc:language>en-US</dc:language>
  <cp:lastModifiedBy>wb350798</cp:lastModifiedBy>
  <cp:lastPrinted>2011-09-20T12:46:03Z</cp:lastPrinted>
  <dcterms:modified xsi:type="dcterms:W3CDTF">2011-11-01T21:03:00Z</dcterms:modified>
  <cp:revision>547</cp:revision>
  <dc:subject/>
  <dc:title>PowerPoint Presentation</dc:title>
</cp:coreProperties>
</file>